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5E086-41EE-4D8D-99FC-874F3F583F66}"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D74864-AD3D-4FB8-87DC-F03A9BD659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werPoint (ou outro tipo de apresent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conteúdo dos slides nesta secção é apenas um exemplo do que pode ser descrito em cada uma das formações loc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dealmente, a sessão sobre direito nacional substantivo deve mencionar os instrumentos jurídicos internacionais assinados ou ratificados e o resultado da sua transposição para a lei nacion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isso, uma descrição dos tipos de crimes de acordo com a lei nacional e, no final, se aplicável, uma descrição de quaisquer especificidades da lei substantiva nacional deve ser fornecida.</a:t>
            </a:r>
            <a:endParaRPr b="0" lang="en-US" sz="1200" spc="-1" strike="noStrike">
              <a:solidFill>
                <a:srgbClr val="000000"/>
              </a:solidFill>
              <a:latin typeface="Calibri"/>
            </a:endParaRPr>
          </a:p>
        </p:txBody>
      </p:sp>
      <p:sp>
        <p:nvSpPr>
          <p:cNvPr id="4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6F779-AF0C-4C0D-A8D8-281DE76E60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2.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e explica o assunto da representação conforme o Artigo 9.º. Representações de abuso sexual de crianças reais; imagens que descrevem uma pessoa que parece ser menor (seja ou não menor de idade) que se envolve em conduta sexualmente explícita; e imagens que, embora realistas, não envolvem de facto uma criança real envolvida em conduta sexualmente explícita. </a:t>
            </a: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6AA44-99A7-45DA-86DF-AE4410E11A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define o termo “Menor” conforme utilizado no Artigo 9.º.  O escopo desta definição é limitado à representação de crianças reais/fictícias como objetos sexuais; e não se relaciona de forma alguma com a determinação da idade de consentimento para relações sexuais. </a:t>
            </a: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9B67A5-C495-4263-AA38-35D4D50990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frações relacionadas com a violação de direitos de autor e direitos associados protegem contra as violações de direitos de autor e direitos associados em linha ou cometidas por meio de um sistema informático.</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nvenção de Budapeste não inclui nenhuma disposição com delito específico em matéria de direitos de a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entanto, o artigo 10.º da Convenção refere-se a ela, mesmo que não crie, conceitualmente, novos regulamentos sobre o assunto. Pelo contrário, a Convenção apenas enfatiza que as regras anteriores sobre direitos de autor no mundo real devem se aplicar ao ambiente online: o que é proibido na vida real também deve ser proibido online. As infrações aos direitos de autor online ou cometidas por meio de um sistema informático, devem ser punidas como se tivessem sido cometidas no mundo real. Por esta razão, a Convenção refere-se a tratados e acordos internacionais já existentes sobre este assunto (Acordo de Paris de 24 de julho de 1971, Convenção de Berna e tratados da OMPI).</a:t>
            </a:r>
            <a:endParaRPr b="0" lang="en-US" sz="1200" spc="-1" strike="noStrike">
              <a:solidFill>
                <a:srgbClr val="000000"/>
              </a:solidFill>
              <a:latin typeface="Calibri"/>
            </a:endParaRPr>
          </a:p>
        </p:txBody>
      </p:sp>
      <p:sp>
        <p:nvSpPr>
          <p:cNvPr id="7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EEEB2-7620-4016-AC46-4A009A4047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10.º.</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10.º.</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10.º.</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10.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elemento fundamental e a conduta requerida no Artigo 2.º é o termo "acesso". O termo refere-se ao ato de entrar no todo ou em qualquer parte de um sistema informático.  O Artigo 2.º é tecnologicamente neutro e não especifica os meios pelos quais o acesso deve ser realizado.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9.º estende-se à violação de direitos de autor (e direitos associados); mas não direitos morais.</a:t>
            </a: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765EF-5C9C-4391-B71D-C39DA50613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10.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9.º estende-se a violações de direitos de autor numa venda comercial. </a:t>
            </a: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484992-CA37-4082-89E0-F2D005A55B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m ser consideradas duas questões finais, referentes ao direito penal substancial neste ponto: a punição de auxílio e cumplicidade, de um lado, e a responsabilidade criminal de entidades jurídica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11.º da Convenção de Budapeste descreve atos de auxílio e cumplicidade que todas as Partes da Convenção devem considerar na sua lei nacional. No entanto, reconhece que o crime na Internet é muitas vezes uma atividade “multipartidária”, com níveis de contribuição muitas vezes pouco claros por parte de diferentes partes, tornando o processo potencialmente difíci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mente, o artigo 12.º da Convenção exige de todas as Partes a criminalização de atos de entidades jurídicas. Esta é uma questão importante. De facto, na União Europeia, a criminalização de atos de entidades jurídicas é um tema importante e muito controverso, e está, portanto, no âmbito do Conselho Europeu. </a:t>
            </a:r>
            <a:endParaRPr b="0" lang="en-US" sz="1200" spc="-1" strike="noStrike">
              <a:solidFill>
                <a:srgbClr val="000000"/>
              </a:solidFill>
              <a:latin typeface="Calibri"/>
            </a:endParaRPr>
          </a:p>
        </p:txBody>
      </p:sp>
      <p:sp>
        <p:nvSpPr>
          <p:cNvPr id="7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7FE1D-5003-4FC4-A051-E06AE092EC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bas as perspetivas da União Europeia e do Conselho Europeu incluem, pelo menos, qualquer tipo (criminal ou não) de responsabilidade de empresas e outras entidades jurídicas por atos criminosos dos seus representantes, agindo em sua representação e interesse. Além disso, a Convenção estabelece que a responsabilidade das entidades jurídicas ocorre também em caso de falta de supervisão ou controlo de um representante legal da empresa ou outra entidade jurídica sobre alguém sob sua supervis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guns países da Europa preferem medidas civis e não soluções criminais, para regular a responsabilidade de uma entidade jurídica. </a:t>
            </a:r>
            <a:endParaRPr b="0" lang="en-US" sz="1200" spc="-1" strike="noStrike">
              <a:solidFill>
                <a:srgbClr val="000000"/>
              </a:solidFill>
              <a:latin typeface="Calibri"/>
            </a:endParaRPr>
          </a:p>
        </p:txBody>
      </p:sp>
      <p:sp>
        <p:nvSpPr>
          <p:cNvPr id="7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2AE3F-F2BF-4686-9EFC-09382CA507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Parte Um da aula.</a:t>
            </a: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572A3B-0699-4ED1-9034-626CFC341B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25 estudos de casos seguintes não podem ser apresentados dentro do tempo alocado. O formador deve selecionar alguns deles e passar pelos casos selecionados, elaborando, quando necessário, aspetos específicos que foram considerados enfatizados durante as duas primeiras partes do curso. O formador deve explicar como os materiais serão entregues e que haverá tempo para interação e perguntas.  O formador deve enfatizar que esta formação foi concebida para ser interativa e que os participantes deverão participar em todo o programa.  </a:t>
            </a:r>
            <a:endParaRPr b="0" lang="en-US" sz="1200" spc="-1" strike="noStrike">
              <a:solidFill>
                <a:srgbClr val="000000"/>
              </a:solidFill>
              <a:latin typeface="Calibri"/>
            </a:endParaRPr>
          </a:p>
        </p:txBody>
      </p:sp>
      <p:sp>
        <p:nvSpPr>
          <p:cNvPr id="7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0213F-C81A-404E-8874-09B1932E9B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mille é estudante de uma Faculdade Europeia de Engenharia Elétrica e Ciência da Computação que decidiu escrever um artigo sobre o tema da segurança de sistemas e redes informáticos. Ela invadiu os sistemas informáticos de vários governos na África. Sempre que ela encontrou um buraco no sistema de TI, ela deixou uma mensagem ao administrador: Eu sou Camille, estudante na faculdade yy e estou a escrever uma tese sobre a segurança dos sistemas informáticos e redes e para os fins deste artigo eu revelo as fraquezas dos sistemas informáticos e redes, aqui tem uma falha de segurança, saudações. O mais recente sistema de TI que ela invadiu foi o sistema de informações do Ministério da Administração Interna do seu paí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Lembrete para o formado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rtigo 2 - ACESSO ILEG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da Parte adotará as medidas legislativas e outras que sejam necessárias para estabelecer como infrações penais, nos termos de sua legislação nacional, quando cometidas intencionalmente, o acesso ao todo ou a qualquer parte de um sistema de computador sem direito.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Questõe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i="1" lang="en-US" sz="500" spc="-1" strike="noStrike">
                <a:solidFill>
                  <a:srgbClr val="000000"/>
                </a:solidFill>
                <a:latin typeface="Calibri"/>
              </a:rPr>
              <a:t>Isto é uma ofensa criminosa no seu país e se sim – qual; quais são os elementos constitutivos dessa ofensa?</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Pontos para discussão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O acesso ilegal abrange a ofensa básica de ameaças e ataques perigosos contra a segurança (ou seja, a confidencialidade, integridade e disponibilidade) de sistemas e dados de computador. Tais intrusões podem dar acesso a dados confidenciais (incluindo palavras-passe, informações sobre o sistema alvo) e segredos, à utilização do sistema sem pagamento ou mesmo incentivar os hackers a cometer mais formas perigosas de infrações informáticas, como fraude ou falsificação por computado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O ECHR, no caso Copland vs. UK, 62617/00 decidiu que o Direito a respeitar a vida privada e familiar aplica-se igualmente aos dados eletrónico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este caso, o agressor foi condenado, porque todos os elementos da ofensa penal de acesso ilegal foram cometidos de acordo com a lei nacional, nomeadamente (Croácia - Tribunal Municipal em Litígio Dividido):</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cesso não autorizado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cesso intencion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 motivação do agressor não constitui um elemento da ofensa criminal (mesmo a simples curiosidade será puníve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Quanto aos factos deste caso - em alguns Estados-membros, não iremos abordar sobre o acesso ilegal.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s partes dos Estados da Convenção de Budapeste podem anexar qualquer ou todos os elementos qualificados  enumerados na segunda declaração na disposição do Artigo 2: infringir medidas de segurança, intenção especial de obter dados de computador, outra intenção desonesta que justifique a culpabilidade criminal ou a exigência de que a ofensa é cometida em relação a um sistema de computador ligado remotamente a outro sistema informátic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Uma vez que no sistema legal croata a intenção não é levada em conta (além da intenção de aceder a um sistema ilegalmente), o agressor foi condenado apesar da falta de “intenção desonesta” (todos os sistemas de TI atacados foram objeto de um teste de penetração gratuito). Em alguns Estados membros, a falta de intenção desonesta teria impedido a responsabilidade pen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F6F08-94EC-487B-BE4D-566DECFDF6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ma pessoa utilizou o nome de utilizador e a palavra-passe de outra pessoa (sem autorização - portanto, sem direito) para aceder ao sistema informático da empresa e fez uma cópia dos mapas digitais num disco removível e, em seguida, eliminou os mapas digitais no disco rígid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Lembrete para o formador:</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igo 4 – INTERFERÊNCIA DE DADO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ada Parte adotará as medidas legislativas e outras que sejam necessárias para estabelecer como infrações penais, nos termos de sua legislação nacional, quando cometidas intencionalmente, os danos, eliminação, deterioração, alteração ou supressão de dados de computador sem direit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2 Uma Parte poderá reservar o direito de considerar que a conduta descrita no parágrafo 1 resulta em danos grave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nSpc>
                <a:spcPct val="7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ais ofensas devem ser consideradas?</a:t>
            </a:r>
            <a:endParaRPr b="0" lang="en-US" sz="700" spc="-1" strike="noStrike">
              <a:solidFill>
                <a:srgbClr val="000000"/>
              </a:solidFill>
              <a:latin typeface="Calibri"/>
            </a:endParaRPr>
          </a:p>
          <a:p>
            <a:pPr indent="0">
              <a:lnSpc>
                <a:spcPct val="7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m primeiro lugar, existe roubo de identidade. Num "mundo real", corresponderia à utilização do agressor, sem direito, do cartão de passe de outra pessoa para entrar num espaço de trabalho. Alguns Estados Membros criminalizaram o roubo de identidade, mas, se não o fizeram, o acesso é geralmente considerado ilegal em si.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facto, em segundo lugar, existe um acesso ilegal. Alguns países incluem os elementos constitutivos desta infração nos elementos constitutivos da infração de interferência de dados (como na Croácia), mas em alguns países, a infração é distinta (como em França, onde existe a infração de acesso ilegal, a ofensa de permanência ilegal no sistema de computador e a ofensa de interferência. Uma pessoa foi condenada, por exemplo, por roubo de dados e permanência ilegal no sistema informático, apesar do acesso ao sistema não ter sido considerado ilegal - Cour d’appel de Paris Pôle 4, chambre 10 Arrêt du 5 février 2014, O.L. c. Ministère public, https://www.legalis.net/jurisprudences/cour-dappel-de-paris-pole-4-chambre-10-arret-du-5-fevrier-2014/).</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m terceiro lugar, há uma interferência de dados devido à eliminação de dados do computador sem direit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delegados devem ser convidados a responder à questão à luz da sua própria legislação nacional.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A5A99-82DA-4595-AF1A-E1B3A8256A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diretor de um call center, que não está satisfeito com o não pagamento dos salários, introduziu a palavra-passe de BIOS num programa de computador do sistema e alterou o código de acesso no sistema operativo, palavras-passe que permaneceram conhecidas apenas para ele e, dessa forma, desativou a utilização do sistema informátic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Lembrete para o formado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igo 5 – INTERFERÊNCIA DO SIS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ada Parte adotará as medidas legislativas e outras que sejam necessárias para estabelecer como infrações penais, nos termos de sua legislação nacional, quando cometidas intencionalmente, o impedimento grave sem direito do funcionamento de um sistema informático através da introdução, transmissão, danos, eliminação, deterioração, alteração ou supressão de dados de computado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r>
              <a:rPr b="0" i="1" lang="en-US" sz="700" spc="-1" strike="noStrike">
                <a:solidFill>
                  <a:srgbClr val="000000"/>
                </a:solidFill>
                <a:latin typeface="Calibri"/>
              </a:rPr>
              <a:t>Que ofensa criminal é este caso no seu paí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O autor tem ou não tem o direito de alterar uma palavra-passe - e este é o facto que é o mais importante para definir a ofensa de acordo com a legislação nacional?</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Que ofensas são considerávei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este caso, o autor do crime foi autorizado ou tinha o direito de alterar as palavras-passe. Portanto, não podemos falar sobre interferência de dados ou acesso ileg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Mas esta autorização não inclui o direito de não revelar o código de acesso à empresa, o que é um grave obstáculo sem o direito de funcionamento de um sistema informátic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sta forma, o  autor cometeu a ofensa criminal de interferência do sistema. (Croácia - Tribunal Judicial Municipal de Zagreb Ko-74/15, 27 de janeiro de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acordo com a legislação nacional, os delegados devem responder à seguinte questão: seria a acusação por 2 ofensas ou apenas por 1 infração - Interferência do sistema (consumo) se o agressor não tivesse o direito de alterar uma palavra-pass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se a resposta for 2 ofensas - qual delas: interferência de dados ou acesso ileg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ormalmente, corresponde a uma ofensa com um ou mais elementos de qualificação, mas há motivo para duas ofensas: Interferência de dados e interferência do sistema. (A Croácia não tem uma prática não adaptad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5C086E-18A2-428B-A36D-6A58CF7DB8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2.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Lembrete para o formado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go 8 – FRAUDE INFORMÁTIC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ada Parte adotará as medidas legislativas e outras que sejam necessárias para estabelecer como infrações penais, nos termos de sua legislação nacional, quando cometida intencionalmente e sem direito, a causa de uma perda de propriedade para outra pessoa po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qualquer inserção, alteração, eliminação ou supressão de dados informáticos;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 qualquer interferência com o funcionamento de um computador ou sistem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om intenção fraudulenta ou desonesta de obter, sem direito, um benefício económico para si ou para outra pesso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go 11 – TENTATIVA E AUXÍLIO OU CUMPLICIDADE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 Cada Parte adotará as medidas legislativas e outras que sejam necessárias para estabelecer como infrações penais, nos termos de sua legislação nacional, quando cometido intencionalmente, auxiliando ou sendo cúmplice de qualquer uma das ofensas estabelecidas de acordo com os Artigos 2 até 10 da presente Convenção com o objetivo que tal ofensa seja cometid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2 Cada Parte adotará as medidas legislativas e outras que sejam necessárias para estabelecer como infrações penais, nos termos de sua legislação nacional, quando cometido intencionalmente, uma tentativa de cometer qualquer uma das ofensas estabelecidas de acordo com os Artigos 3 até 5, 7, 8 e 9.1., a. e c. desta Convençã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3 Cada Parte pode reservar-se o direito de não aplicar, no todo ou em parte, o parágrafo 2 deste artig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Questõ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i="1" lang="en-US" sz="800" spc="-1" strike="noStrike">
                <a:solidFill>
                  <a:srgbClr val="000000"/>
                </a:solidFill>
                <a:latin typeface="Calibri"/>
              </a:rPr>
              <a:t>Num papel de promotor público, acusaria X e Y pela mesma ofensa ou não?</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 Que ofensas são considerávei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r>
              <a:rPr b="1" lang="en-US" sz="800" spc="-1" strike="noStrike">
                <a:solidFill>
                  <a:srgbClr val="000000"/>
                </a:solidFill>
                <a:latin typeface="Calibri"/>
              </a:rPr>
              <a:t>Pontos para discussã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te é um dos exemplos mais comuns de falsificação informática. Cada elemento desta ofensa foi cometido por X. Ele utilizou a conta bancária de Z apenas para fins de obter dinheiro sem abrir a sua própria conta bancária.</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 também cometeu uma ofensa - auxiliou ou foi cúmplice da fraude informática. Punida pela mesma frase. (Croácia – Tribunal Municipal em Velika Gorica K-545/15 od 18 de dezembro de 2015).</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800" spc="-1" strike="noStrike">
              <a:solidFill>
                <a:srgbClr val="000000"/>
              </a:solidFill>
              <a:latin typeface="Calibri"/>
            </a:endParaRPr>
          </a:p>
        </p:txBody>
      </p:sp>
      <p:sp>
        <p:nvSpPr>
          <p:cNvPr id="7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57918-A53F-48C2-9835-D942797533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 autor visitou repetidamente sites pornográficos, incluindo pornografia infantil. Nunca transferiu materiais. Mas o computador estava a armazenar automaticamente estes materiais numa pasta em C:/…, (entre imagens que continham pornografia infantil), sem qualquer conhecimento ou ação do auto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Lembrete para o formado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rtigo 9 – INFRAÇÕES RELACIONADAS COM PORNOGRAFIA INFANTIL</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1 Cada Parte adotará as medidas legislativas e outras que sejam necessárias para estabelecer como infrações penais, nos termos de sua legislação nacional, quando cometida intencionalmente e sem direito a seguinte condut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produzir pornografia infantil para fins de distribuição através de um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oferecer ou disponibilizar pornografia infantil através de um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distribuir ou transmitir pornografia infantil através de um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 adquirir pornografia infantil através de um sistema informático para si ou para outra pesso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 possuir um pornografia infantil num sistema informático ou num meio de armazenamento de dados informático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2 Para os fins do parágrafo I acima, o termo "pornografia infantil" incluirá material pornográfico que represente visualment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um menor envolvido em conduta sexualmente explícit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uma pessoa que parece ser menor envolvida em conduta sexualmente explícit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imagens realistas a representar um menor envolvido em conduta sexualmente explícita.</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3 Para os fins do parágrafo 2 acima, o termo "menor" deverá incluir todas as pessoas menores de 18 anos de idade. Uma Parte pode, no entanto, exigir um limite de idade inferior, que não deve ser inferior a 16 an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4 Cada Parte pode reservar-se o direito de não aplicar, no todo ou em parte, os parágrafo 1, subparágrafo d. e e., e 2 subparágrafos b. e c.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Questõ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É uma ofensa de posse de pornografia infantil?</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Porquê?</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Pontos para discussã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 infrator foi libertado neste caso em frente ao Tribunal Croata porque o Tribunal concluiu que a intenção de cometer a ofensa - Posse de pornografia infantil num sistema informático - não estava presente. A intenção direta é um elemento constitutivo para este crime. (Tribunal em Osijek, Kž-339/08-4 a 23.5.2008).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este motivo, após este caso, foi criada uma nova infração na Croácia, punindo o simples "acesso" à pornografia infantil na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um caso semelhante na Alemanha (Bundesgerichtshof Beschluss vom 10. Oktober 2006 (BGH NStZ 2007 95), o tribunal decidiu que a "posse" inclui dados que são armazenados por predefinição no sistema informático, incluindo ficheiros temporários de Internet, memória cache –  que muitas pessoas utilizam como atalho para um acesso mais rápido a vários conteúdos na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6699DC-2B9D-4854-91C0-9311ED4F03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eu uma ofensa crimin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acedeu a um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Esse acesso foi sem dire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computador foi acedido por Mary não por Bobby, ela recebeu autorização para aceder aos dados no computador, ela é inocente. Foi Bobby que, agindo com apoio da agente inocente, fez com que os dados fossem acedidos. Ele mentiu à Mary (uma ilustração de engenharia social), isto equivale ao acesso à le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anto Bobby quanto Mary têm o direito de aceder ao sistema da Polícia, mas estão sujeitos a condições estritas relacionadas com a questão legítima relacionada com a atividade policial. Quando o acesso excede esta autorização, isso constitui uma ofens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se Bobby for para a estação e conseguir aceder ao dados do computador de Mary enquanto ela executa uma investigação legítima em relação à propriedade do Mercede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ação fez com que Bobby tivesse acesso aos dados informáticos. Pode haver uma dúvida quanto à sua "intenção" e, claro, ele não manipulou o sistema informático para obter acesso, mas mesmo assim obteve acesso sem direito (embora isso seja muito difícil de prova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estudo de caso foi concebido para que os delegados considerem a questão da autorização (acesso sem dire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delegados também poderiam ser solicitados a considerar a posição se Bobby tivesse ido à estação e procurasse as informações sobre a propriedade do Mercedes num sistema de indexação de cartões - as informações eram as mesmas que as mantidas no computador? O ponto aqui não são os dados em si que estão protegidos (embora possam ser protegidos sob outra legislação de proteção de dados, embora a conduta imprópria de Bobby também possa constituir uma ofensa), mas o meio em que os dados são armazenados que estão a ser protegid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sistemas informáticos da polícia contêm grandes quantidades de informações pessoais relacionadas com indivíduos, juntamente com muitas informações confidenciais. O acesso a estes dados só deve ser concedido a quem tenha interesse legítimo. No Reino Unido, os policias e os operadores informáticos da policia são frequentemente apanhados a acederem ilegalmente aos sistemas para questões pessoais, por exemplo, para encontrar informações que possam interessar à imprensa ou, no caso de policiais corruptos, descobrir quais informações são mantidas sobre uma determinada pessoa ou se uma determinada pessoa ou grupo está sob investigação ativa.</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ouve uma interceção ileg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ouve uma interceçã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Essa interceção foi alcançada por meios técnic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Os dados foram transmitidos para ou de um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keylogger é um dispositivo técnico que captura dados transmitidos do terminal. Isto equivale a uma interceção e é claramente sem dire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as chamadas de Skype? Neste cenário, parece que os dados viajam na mesma linha que outros dados transmitidos a partir do computador, mas e se o utilizador tivesse um telefone Skype autónomo? Um telefone deste tipo constituiria um sistema informático? A convenção define um "sistema informático" </a:t>
            </a:r>
            <a:r>
              <a:rPr b="0" i="1" lang="en-US" sz="700" spc="-1" strike="noStrike">
                <a:solidFill>
                  <a:srgbClr val="000000"/>
                </a:solidFill>
                <a:latin typeface="Calibri"/>
              </a:rPr>
              <a:t>qualquer dispositivo ou um grupo de dispositivos interligados ou relacionados, um ou mais dos quais, de acordo com um programa, realiza o processamento automático de dados</a:t>
            </a:r>
            <a:r>
              <a:rPr b="0" lang="en-US" sz="700" spc="-1" strike="noStrike">
                <a:solidFill>
                  <a:srgbClr val="000000"/>
                </a:solidFill>
                <a:latin typeface="Calibri"/>
              </a:rPr>
              <a:t> ; e "dados de computador" </a:t>
            </a:r>
            <a:r>
              <a:rPr b="0" i="1" lang="en-US" sz="700" spc="-1" strike="noStrike">
                <a:solidFill>
                  <a:srgbClr val="000000"/>
                </a:solidFill>
                <a:latin typeface="Calibri"/>
              </a:rPr>
              <a:t>como qualquer representação de factos, informações ou conceitos numa forma adequada para processamento num sistema informático, incluindo um programa adequado para fazer com que um sistema informático execute uma função</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utilização de um bug de áudio pode ser um pouco mais difícil. É uma "interceção"? No Reino Unido, os tribunais sustentaram que, para ter ocorrido uma interceção, deveria haver algum tipo de interferência ou abstração do sinal enquanto ele estava a ser transmitido na rede, aqui a gravação ocorre independentemente da transmissão, apesar das mesmas informações serem obtidas se o dispositivo tiver sido colocado na "linh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se o key logger foi colocado no sistema pela Empresa que têm interesse em garantir que os seus funcionários não estão a utilizar a Internet para uma questão inapropriad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maioria dos sistemas de telecomunicações viaja em redes públicas e privadas. No ponto em que a comunicação deixa a sua propriedade, ela passa de um sistema privado para um sistema público. O controlador de um sistema privado tem o direito de aceder às comunicações utilizando esse sistema; assim, por exemplo, seria capaz de monitorizar as conversas na sua linha telefónica residencial, desde que o dispositivo técnico que utilizou para isto tenha sido ligado ao lado privado do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cenário foi concebido para que os delegados considerem cada um dos elementos de interceção, que existe uma interceção de dados informáticos no curso da sua transmissão através de meios técnicos sem dire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delegados devem ser esclarecidos que esta disposição foi concebida para proteger o conteúdo das comunicações, em vez de informações relacionadas com o endereçamento da mensagem ou custo do serviço.</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Questõe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A mensagem está a ser transmitida?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Pontos para discussão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 maioria dos estados exige que a polícia estabeleça um elevado limite de suspeita antes de autorizar a interceção do conteúdo de uma comunicação. A obtenção de provas sem a autoridade necessária pode resultar na interrupção do processo ou na inadmissibilidade da prova.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Os computadores e a Internet facilitam várias formas diferentes de comunicação, por exemplo, e-mail, mensagens instantâneas, twitter, etc. As mensagens serão frequentemente armazenadas antes de serem recuperadas pelo destinatário pretendido. Uma mensagem que ainda não tenha sido reinserida é considerada como estando no curso da sua transmissão? Não há como saber se o rascunho da mensagem foi lido pelo destinatário pretendido. Deverá a lei conceder a mesma proteção àqueles que deliberadamente optarem por subverter os meios normais de envio de comunicações por e-mail, como àqueles que utilizam o e-mail para o que foi concebido para ser utilizado?</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sta é uma maneira bastante comum para os criminosos comunicarem uns com os outros. A tentativa de aceder a tais mensagens numa interceção ou não irá depender da legislação nacional e da atitude dos tribunais nacionais, mas pode valer a pena delegados perceberem que, se precisarem de fazer conta com a Assistência Jurídica Mútua para obter estes dados, o estado solicitado poderá considerar intercetar ou, pelo menos, porque o acesso ao conteúdo de uma comunicação está a ser investigado terá um limite legal mais elevado do que necessita de ser estabelecido a fim de obter a autoridade judicial necessária.</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Isto é uma interceção?</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mensagem de voz ainda está no curso da sua transmissã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ouve uma interceção de dados de computador?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é que a mensagem chegue ao seu destino, provavelmente ainda está a ser transmitida, mesmo que esteja armazenada no sistema. A mensagem provavelmente está a ser armazenada digitalmente no servidor da operadora e, assim, Bobby acedeu aos dados informáticos. Um telefone é um computador?  Provavelmente sim, compromete o processamento automatizado de dados.  Policiais que realizam buscas que encontram telefones podem precisar de considerar isso para garantir que eles tenham a autoridade necessária para aceder a tais mensagens. Seria diferente se o destinatário tivesse escutado a mensagem e optado por armazená-la.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cenário levantou problemas semelhantes ao cenário anterior. Serve para ilustrar o que pode ser uma situação bastante comum que pode ser aplicada igualmente aos policiais que executam um mandado de busca para apreender um computador que contém e-mails abertos e não abertos. Também serve para ilustrar que a ofensa estabelecida no Artigo 3 aplica-se a todas as formas de transferência eletrónica de dados, seja por telefone, fax, e-mail ou transferência de ficheiros.</a:t>
            </a: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eu uma ofens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acesso não autorizado por si mesmo pode resultar numa ofensa de dados ou interferência do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É uma ofensa eliminar as provas do acesso não autorizad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êm de ser provocados danos graves ao funcionamento do computador antes de incorrer uma responsabilidade pen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objetivo destas disposições é fornecer dados de computador e programas de computador com proteção semelhante àquela de propriedade corpórea contra a imposição intencional de dan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não estava autorizado a aceder ao site da Força Aérea, estava protegido com palavra-passe. O acesso, portanto, constituiria uma ofensa de acesso ileg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eliminou os dados, os ficheiros de registo e a insígnia da Força Aérea. Embora talvez  tenha gerado os ficheiros de registo que não tenham sido seus, o sistema foi configurado para registar tal atividade. Ele não tem o direito de eliminá-los. A Força Aérea pode querer saber quem tem acesso ao seu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o alterar a imagem na primeira página, ele eliminou e adicionou dados ao sistema, o que, embora seja improvável que qualquer informação importante tenha sido perdida, seria um embaraço para a Força Aérea. No entanto, mais importante, embora Bobby possa afirmar que só acedeu ao sistema para encontrar informações e que apenas eliminou registos ou outros dados sem importância, algum administrador de sistemas poderá confiar na integridade dos dados após tal invasão ileg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uma ofensa tiver sido cometida nestas circunstâncias, será uma questão de interpretação local. Pode ser que o limiar de gravidade não tenha sido estabelecido. No entanto, o administrador de sistemas provavelmente irá sentir-se obrigado a deixar o site offline, a fim de estabelecer o efeito da invasão, particularmente se o site que foi acedido contiver dados confidenciais ou sensíveis ou for utilizado em operações que, se errar, colocaria em perigo o público, como um sistema responsável pela gestão de uma central nuclea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por uma questão de argumentação, o sistema que Bobby acedeu tiver sido utilizado para administrar uma central nuclear, as ofensas previstas nos Artigos 4 e 5 seriam adequados para refletir a gravidade de tal invasão, o que equivaleria a um ataque à Infraestrutura Crítica Nacional? </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A infração ao Artigo 4 ou 5 foi cometida por uma pessoa responsável pelo envio do spam?</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ouve algum acesso não autorizado à máquina do utilizado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dados foram alterados na máquina do utilizado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ouve algum dano na máquina do utilizado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Mesmo que nenhum dano tenha sido causado, o software provoca uma alteração dos dados no computador do utilizador. Essa alteração não foi autorizada, uma vez que o utilizador não recebeu qualquer aviso ou pediu para consentir de alguma forma a modificação do seu computador. O envio de spam é ilegal ou é apenas um incómodo? Só se torna ilegal quando tem um impacto adverso?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se o e-mail de spam contivesse um anexo e um convite para o destinatário abrir o anexo a dizer "irá gostar disto"?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de-se argumentar que o destinatário escolheu e, portanto, consentiu em transferir dados para o seu computador. A realidade, no entanto, é que qualquer consentimento que possa ter sido dado não foi um consentimento informado, embora possa ser argumentado que aqueles que optam por abrir anexos de destinatários desconhecidos o fazem por sua conta e risco.</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Faz alguma diferença que o utilizador não se importe se o seu computador se tornou parte da "bot net" ou não?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À medida que viajamos pela Internet, visitamos sites e transferimos dados sem considerar adequadamente a natureza do material que pode estar a ser encontrado no nosso computador, mas confiando nos nomes que os sites dão a si mesmos, nos nomes dos ficheiros ou nos resultados devolvidos por eles pelo nosso mecanismo de pesquisa para tomar as nossas decisões. Clicar numa imagem em miniatura de uma imagem para adquirir uma imagem em tamanho real indica uma conscientização dos dados que estamos a procurar adquirir e um consentimento totalmente informado quanto à natureza desses dados. Deveríamos clicar numa imagem em miniatura de um automóvel apenas para descobrir que a imagem em tamanho real que adquirimos é a de um avião que não podemos dizer que consentimos com a aquisição desses dado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escolha de abrir uma hiperligação para um site irá resultar na transferência de muitos dados. Se o site for legítimo, a maior parte destes dados provavelmente estarão relacionados com o conteúdo do site, embora uma proporção possa consistir em anúncios colocados por terceiros. Mais uma vez, fizemos uma escolha informada e recebemos um consentimento implícito para receber o anúncio, sabendo que essa é uma prática comum na Internet.  Uma prática comum na indústria da Internet é fazer a transferência de dados para o navegador de Internet do utilizador, "cookie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cookies executam uma variedade de funções, incluindo gravação de um histórico de navegação na Web de utilizadores. Um utilizador terá a opção de desativar a função de cookies no navegador. Esta opção é suficiente para sugerir que o utilizador deu o seu consentimento para a transferência de tais dados? </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Isto é uma ofensa de interferência do sistema?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Questõ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Enviar um e-mail envolve aceder ou procurar aceder a um sistema informático, o</a:t>
            </a:r>
            <a:r>
              <a:rPr b="0" lang="en-US" sz="900" spc="-1" strike="noStrike">
                <a:solidFill>
                  <a:srgbClr val="000000"/>
                </a:solidFill>
                <a:latin typeface="Calibri"/>
              </a:rPr>
              <a:t> servidor de e-mail .  Até que ponto o proprietário de tal servidor autoriza tal acess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Se tiver um endereço de e-mail, isso não significa que está a convidar outras pessoas para enviar-lhe mensagens de e-mail?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Pontos para discuss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 questão é uma de direito. Bobby acedeu a um sistema e causou o colapso do sistema ao introduzir dados. Ao estabelecer um endereço de e-mail acessível ao público, o dono do endereço está implicitamente a dar o seu consentimento para o recebimento de mensagens.  Bobby pode argumentar que a polícia consentiu com o recebimento de cada e-mail individual e que não é culpa dele que o seu sistema não tivesse a capacidade de lidar com tantas mensagens. Mas ocorreu realmente consentimento?  O proprietário de uma casa concede um consentimento implícito para o carteiro enviar cartas através da sua caixa de correio que são endereçadas ao proprietário. Existe também um consentimento implícito para receber correio de "lixo", como panfletos de pizza. O proprietário, no entanto, não concorda em receber tantos panfletos de pizza que se torne incapaz de abrir a porta da frent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Não se pode dizer também que alterar os detalhes do remetente do acesso ao correio eletrónico para o servidor de e-mail foi obtido através de fraude?  O consentimento não é dado ao recebimento de tais e-mails "falsificado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mbora este cenário diga respeito a e-mails, o princípio é bom para aqueles que procuram fazer com que os websites entrem em colapso através de um ataque de negação de serviços, pelo qual o site é incapaz de lidar com o volume de tráfego que lhe é direcionado. Ligar-se a um site envolve a troca de dados entre o computador do utilizador e o website. Questões semelhantes quanto ao consentimento implícito para se ligar ao site surgem conforme discutido em relação às mensagens de e-mail. </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eu uma ofensa contrária ao Artigo 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provocou uma supressão dos dados mantidos no sis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impediu o funcionamento de um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lguma supressão de dados ou impedimento para o funcionamento do sistema sem dire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resposta do administrador do sistema ao e-mail de Bobby significa que o serviço foi negado aos utilizadores do sistema. O acesso aos dados mantidos no sistema foi, portanto, suprimido, embora a restrição de acesso seja provavelmente temporária. A ofensa não requer que os dados estejam permanentemente indisponívei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iscutimos até que ponto o proprietário de um endereço de e-mail concede o consentimento para o recebimento de dados de outras pessoa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Artigo 5 diz respeito aos sistemas informáticos, ou seja, um ou mais computadores ligados entre si. Um computador solitário está ligado à parte da Internet de um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computador de trabalho da esposa de Bobby é mais provável do que não fazer parte de um sistema, ela provavelmente faz parte de uma LAN (Rede Local) ou WAN (Wide Area Network) ou Intranet. Bobby impediu o funcionamento de um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pode argumentar que não é responsável pela negação de serviços e que não tinha a intenção de provocar tal evento, na verdade, muito pelo contrário, ele queria que o sistema continuasse funcionando para que ele pudesse descobrir o que a sua esposa estava a fazer. Frequentemente, os ataques de negação de serviços são insuficientes para deixar um site fora de linha, no entanto, os prestadores de serviços tornarão o site offline, a fim de minimizar o efeito do ataque aos seus sistemas e minimizar os inconvenientes para outros client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este cenário, Bobby não parece ter a intenção necessária para uma infração ao Artigo 5, embora isso não signifique, claro, que ele escape da responsabilidade crimin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Isto é um exemplo de um vírus cavalo de Tróia, que é uma maneira comum de criminosos cibernéticos obterem acesso aos computadores de outras pessoas.</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2.º estende-se ao acesso total ou parcial de um sistema informático. Este slide explica através de exemplos o que significa o termo “parte do sistema informático”.</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É uma ofensa tornar o Supergun disponível para transferi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É uma ofensa estar na posse do Supergu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Questõ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 facto do Supergun poder ser utilizado para um propósito legítimo significa que uma acusação não pode ser feit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disponibilização do Supergun para transferência é equivalente à distribuiçã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ontos para discussã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s infrações a que este artigo se refere são; acesso não autorizado, interceção ilegal, interferência de dados e do sistem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mbora o software tenha sido originalmente de utilização dupla, que tenha uma função legítima, agora que a interface do utilizador foi modificada, isso significa que a sua posse, etc., é uma ofens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lhando para os nossos estudos de caso anteriores, o software "aceder a todas as áreas" utilizado por Bobby para obter acesso ao computador da sua esposa tem uma utilização legítima. Programas como este permitem que os utilizadores acedam aos seus próprios computadores remotament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 quanto à posse de Bobby do software de decifragem de palavras-passe; tal seria uma ofensa?  Pode ser uma questão de intenção, mas que razão legítima teria para possuir tal software? Existe alguma evidência para mostrar que ele tentou implantar este software para cometer uma ofensa?</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sa ofensa não foi concebida para ser utilizada para criminalizar prestadores e utilizadores de software legítimos. Onde, como há aqui, houver evidência de uma intenção maliciosa, o problema talvez não apareça. No entanto, os envolvidos no crime cibernético também estão frequentemente envolvidos em atividades legítimas da Internet e podem ser profissionais do setor que utilizam e desenvolvem esse software, mas que, quando a oportunidade se apresenta, está preparada para implantá-lo na promoção de atividades ilegais. E quanto aos lojistas? Como é que é suposto saberem qual a intenção de um cliente em relação a um determinado hardware ou software?  O âmbito da ofensa é muito vago? </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abrico, produção, distribuição, utilização ou posse de tal software constitui um crim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ntos para discuss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mos todos a ser constantemente encorajados a manter os nossos dados seguros. Embora tal programa seja obviamente útil para aqueles envolvidos no crime e, em particular, aqueles que temem que o conteúdo dos seus computadores possa incriminá-los, o programa não está a ser utilizado por eles para cometer uma ofensa, mas está a ser utilizado para ocultar prova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criminosos cibernéticos podem fazer utilização de outros programas ou sistemas para evitar a deteção, incluindo anonimizadores que lhes permitem navegar na Internet sem divulgar o seu verdadeiro endereço IP ou programas eliminadores de evidências que podem apagar o conteúdo de um disco rígido. </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Nick cometeu uma ofen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A empresa cometeu uma ofen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Júpiter cometeu uma ofen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 dispositivo foi concebido ou adaptado principalmente para fins de cometer ofensas criminais designada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s cibercriminosos são capazes de aceder a uma variedade de ferramentas que lhes permitem cometer ofensas ou que irão ajudá-los a fazê-lo. É possível comprar o código que lhe permitirá construir o seu próprio "bot" ou comprar um "bot net" ou comprar o acesso a uma rede de bots que permitirá ao utilizador realizar vários tipos de crimes, como "phishing".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Júpiter irá utilizar este programa para obter informações financeiras de utilizadores que podem ser explorados pelo próprio Júpiter ou por outros. A empresa supostamente pensou que Nick tinha produzido isso durante o curso do seu emprego. Nick é inocente e, inadvertidamente, ajudou Júpiter a criar uma poderosa ferramenta criminal. Nem Nick nem a Empresa têm a intenção criminosa necessária.  Seria diferente se Júpiter continuasse a comercializar o programa para outras empresas que desejassem monitorizar a atividade dos seus funcionários na Internet?  Poderia Júpiter argumentar que o software tem um propósito legítimo, apesar da sua óbvia atração por criminosos?</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Que ofensa é que Stefan cometeu?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produção de banqueiros falsificados redige uma falsificação relacionada com computador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ofensa só é concluída quando o funcionário do banco aceitar o projeto como sendo genuín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criação do extrato bancário envolve inserir dados não autênticos num computador, ou seja, que letra foi feita a favor de Stefan. No entanto, isto foi feito sem direito ou Stefan tem o direito de produzir tal documento no seu próprio computador? Stefan pode ter a intenção de utilizar a letra para fraudar o banco, mas, por qualquer razão, pode nunca conseguir imprimir a letra. Faz diferença para a responsabilidade de Stefan se o documento é produzido em papel?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infração não foi realmente criada para lidar com este tipo de cenário, embora possa servir se a lei nacional não criminalizar a produção de uma letra bancária falsificada. Estas infrações podem ser melhor consideradas em termos de responsabilidade secundária, como tentativa.</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infração é realmente destinada àqueles que utilizam um computador como o mecanismo para cometer a infração, assim, quando agindo de boa fé, o funcionário do banco insere os dados fornecidos por Stefan aceitando que os dados são autênticos.  </a:t>
            </a: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Isto é uma infração de falsificação relacionada com computador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dados que foram alterados não serão utilizados para qualquer finalidade legal.</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ntos para discuss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efan alterou os dados e inseriu dados não autênticos. É claro que esse acesso e alteração foi feito sem direito. Deixando de lado as outras infrações que Stefan pode ter cometido, é duvidoso que ele tenha cometido uma falsificação relacionada com computadores, pois esses dados não serão utilizados para fins legai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fração relacionada com a falsificação não está relacionada com ganhos financeiros ou outros; estas infrações entram no âmbito da fraude relacionada com computadores. Este artigo procura garantir a segurança e a fiabilidade dos dados eletrónicos que podem ter consequências para as relações jurídicas. O termo "para fins legais" refere-se a transações e documentos que são legalmente relevantes.</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Bobby cometeu uma ofen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mensagem de Bobbie é fal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e a mensagem não era verdadeira, outra pessoa perdeu a propriedade como resultado?</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obbie ganhou uma vantagem económic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e a mensagem publicada por Bobby for falsa, ele pode ter cometido uma infração. Ele introduziu dados falsos num computador e obteve um benefício económico para si próprio no aumento do preço das açõ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ligação causal entre a entrada dos dados e o efeito é remot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obby causou uma perda a outra pessoa?  Indiscutivelmente sim, na medida em que as ações são avaliadas incorretamente e, em algum momento, presumivelmente desceram. No entanto, é preciso reconhecer que o mercado de ações é extremamente volátil; não é o valor de uma ação o preço que alguém está disposto a pagar por ela num determinado momento? Alguém foi realmente defraudado, estes tipos de boatos e mensagens não são comuns na internet? Alguém vai realmente acreditar nesta publicação ou vê-la como uma tentativa desajeitada de manipular o preço das ações?  Isso significa que não podemos mentir na internet?</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Stefan cometeu uma infraç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áquina de estacionamento é um computado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orta que a máquina de estacionamento produza bilhetes automaticamente e nenhum ser humano tenha sido enganad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al é o estado do bilhete de estacionament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ntos para discuss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áquina de estacionamento é um computador, processa os dados calculando a quantidade de dinheiro oferecida em relação à tarifa de estacionamento e emitindo um bilhete pelo período de tempo adequado. Stefan introduziu dados não autênticos, a anilha em vez da moeda adequada. O Artigo 7.º não exige que um ser humano tenha agido com base nos dados fornecido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ulta de estacionamento é uma falsificação, os dados utilizados ​​para criá-la eram falsos e foram produzidos para que uma pessoa, o assistente do estacionamento, a considerasse genuína e não desse a Stefan uma multa de estacionamento.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A posse desses dados é uma infração crimina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al é o estado dos ficheiros de computador? Estes são "coisas" na lei, apesar do facto de que todos eles são compostos por uma sequência de código binári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ntos para discuss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Reino Unido, é uma infração criminal substancial a posse de um artigo para uso em fraude. O Artigo inclui um ficheiro de computador. É claro que é necessário provar a intenção necessária, mas é difícil argumentar uma razão legítima para ter posse de dados desse tip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de ser que isso possa ser considerado como uma infração preparatória.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Que infrações Adam cometeu?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finições de produção, aquisição e distribui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am transferiu os ficheiros de imagem da internet. O download equivale à produção de tal imagem?  Fazer o download e, particularmente, guardar uma imagem num computador não é como ver televisão. O ato de transferir cria uma coisa nova, um ficheiro de computador, assim, visualizar imagens na internet envolve a criação de novas imagens. Os procuradores podem achar este conceito úti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redes de partilha de ficheiros peer-to-peer permitem que os membros acedam aos ficheiros disponibilizados por outros membros da rede. Ao colocar as imagens na pasta partilhada, Adam disponibiliza-as para distribuição. </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O Bill pode ser processado em relação às imagen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Questõ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Jurisdição.</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colha de infração substancial, ao possuir uma imagem ou produzir a imagem.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ontos para discussã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de haver problemas jurisdicionais em relação à produção das imagens, pois elas parecem ter sido produzidas no estrangeir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posse não deve ser um problema.</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Qual seria a posição se todas as imagens fossem encontradas num espaço não alocad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posse requer conhecimento e controlo. Bill pode ou pode agora saber que as imagens que são apagadas ainda podem estar acessíveis no disco rígido, no entanto, a menos que ele tenha os meios técnicos e a experiência, ele nunca conseguirá recuperá-las. No entanto, cabe (sujeito a questões jurisdicionais) ao procurador processar por produzir a imagem ou ter posse das imagens no passad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Qual seria a posição se as imagens fossem de crianças nuas com idades entre 3 e 7 anos a brincar na praia e Bill explica que é um naturista, mas aceita que ele obtém gratificação sexual ao olhar para as imagens?</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 essas imagens são ilegais, é uma questão de interpretação local. No Reino Unido, geralmente exigimos que as imagens tenham elementos sexuais e consideramos a motivação do fotógrafo irrelevant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Quem decide que imagem é ilegal? O âmbito da infração é suficientemente claro? </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2.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o provar que John é responsável pelas imagen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 impacto nos suspeitos acusados ​​de infrações pedófilas</a:t>
            </a:r>
            <a:r>
              <a:rPr b="1" lang="en-US" sz="1100" spc="-1" strike="noStrike">
                <a:solidFill>
                  <a:srgbClr val="000000"/>
                </a:solidFill>
                <a:latin typeface="Calibri"/>
              </a:rPr>
              <a:t>.</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método de ocultar imagens não é incomum. Grupos postam links para as imagens. No entanto, pode ser perigoso confiar apenas no endereço IP para obter um mandado de busca sem compreender como é que esse endereço IP chegou a ser registado no site, eles poderiam ter sido inocentemente encaminhados por outro site e não encaminhados para aceder a qualquer imagem, assim que percebessem o que eram. É claro que eles podem ter visitado mais de uma vez ou acedido a várias imagen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Pode utilizar isto para discutir os cuidados necessários antes de acusar um indivíduo de ser um pedófilo. Há uma alta taxa de suicídio entre pessoas acusadas destas infrações. Como em todos os casos de crimes cibernéticos, deve ser capaz de colocar o suspeito no teclado no momento relevante, pode ser utilizado um endereço IP por um número de pessoas no mesmo endereço ou a rede sem fios pode ter sido invadida por outra pessoa. As acusações deste tipo podem ter um efeito devastador num indivíduo inocente.</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Oswald cometeu uma infraç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Questõ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swald cometeu uma infração substancial ou uma responsabilidade secundária?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xistem questões sobre jurisdiç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mporta que o site dos EUA tenha sido totalmente automatizad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 que dizemos sobre o uso do programa Eliminação de prova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Pontos para discuss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swald não possui nenhuma imagem e não podemos provar que ele acedeu a um site para ver essas imagens, apesar de podermos provar que ele pagou uma assinatura para fazê-lo. No entanto, Oswald pagou dinheiro para persuadir outra pessoa, o dono do site nos EUA, a distribuir ou disponibilizar imagens de abuso infantil para distribuição. Isto constitui, portanto, uma infraç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Que o site dos EUA, se totalmente automatizado, significa que nenhum ser humano está realmente envolvido no processamento dos detalhes do cartão de crédito. Mesmo assim, o processo foi criado e administrado e mantido por uma pessoa que está a lucrar financeirament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 uso de um programa de eliminação de provas não é, por si só, ilegal. A menos que Oswald pudesse ativar o programa durante o curso da investigação policial, é improvável que tenha cometido uma infração relacionada com a administração da justiça. No entanto, se Oswald for processado, o uso de tais programas pode ser considerado um agravante pelo tribunal. </a:t>
            </a: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parte Três da aula.</a:t>
            </a: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1726D-F277-4CFC-8682-11714EE572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ED931-82A6-4CE3-A4AB-DFCFB773C2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avaliar os conhecimentos sobre os seguintes po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isposições do direito penal substancial e alguns dos principais fatores utilizados para descrever os crimes, com base na Convenção de Budapest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posições relevantes do direito substancial das discussões de estudo de caso</a:t>
            </a:r>
            <a:endParaRPr b="0" lang="en-US" sz="1200" spc="-1" strike="noStrike">
              <a:solidFill>
                <a:srgbClr val="000000"/>
              </a:solidFill>
              <a:latin typeface="Calibri"/>
            </a:endParaRPr>
          </a:p>
        </p:txBody>
      </p:sp>
      <p:sp>
        <p:nvSpPr>
          <p:cNvPr id="8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B8D0E-F230-4CCD-A189-22F640173F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2DCBB4-5722-4DBE-B248-F13D46B830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A autoridade pode ser legislativa, administrativa, judicial, contratual ou consensual em qualquer caso. A conduta autorizada não é criminalizada, nem o acesso de um sistema informático que permita acesso livre e aberto ao público.</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2.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es podem limitar o escopo do Artigo 2.º, que prevê a criminalização geral do acesso ilegal, com certos elementos de qualificação. Por exemplo, as partes podem exigir que a conduta de acesso ilegal seja feita infringindo medidas de segurança (por exemplo, palavras-passe ou outros códigos de acesso) ou com intenção desonesta ou para obter dados informáticos do sistema que está a ser acedido ou qualquer outro sistema informát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todos os elementos de qualificação que as Partes desejam adotar na sua legislação nacional.</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ceção ilegal, descrita no Artigo 3.º da Convenção de Budapeste, também é uma violação intencional. É cometido por aqueles que, sem direito, intercetam, por meios técnicos, transmissões não públicas de dados</a:t>
            </a:r>
            <a:r>
              <a:rPr b="1" lang="en-US" sz="1200" spc="-1" strike="noStrike">
                <a:solidFill>
                  <a:srgbClr val="000000"/>
                </a:solidFill>
                <a:latin typeface="Calibri"/>
              </a:rPr>
              <a:t> </a:t>
            </a:r>
            <a:r>
              <a:rPr b="0" lang="en-US" sz="1200" spc="-1" strike="noStrike">
                <a:solidFill>
                  <a:srgbClr val="000000"/>
                </a:solidFill>
                <a:latin typeface="Calibri"/>
              </a:rPr>
              <a:t>informáticos, para, de ou dentro de um sistema informático, por meios técn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sposição protege a integridade de transmissões não públicas de dados informáticos, criminalizando a sua interceção não autoriz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ssões de dados para um sistema informático, ou a partir desse sistema, ou dentro do mesmo sistema, são realidades mais relevantes na vida atual das re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nicamente, pode ser muito fácil intercetar as comunicações se a rede e a comunicação não estiverem adequadamente protegidas. Uma interceção de comunicações pode revelar, por exemplo, que sites alguém visitou ou as mensagens de e-mail que enviou ou recebe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crime de interceção ilegal visa, portanto, dar conta da vulnerabilidade da tecnologia de comunicação, protegendo o sigilo das comunicações não pública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3.º</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sposição protege a integridade de transmissões não públicas de dados informáticos, criminalizando a sua interceção não autoriz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ssões de dados para um sistema informático, ou a partir desse sistema, ou dentro do mesmo sistema, são realidades mais relevantes na vida atual das re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nicamente, pode ser muito fácil intercetar as comunicações se a rede e a comunicação não estiverem adequadamente protegidas. Uma interceção de comunicações pode revelar, por exemplo, que sites alguém visitou ou as mensagens de e-mail que enviou ou recebe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crime de interceção ilegal visa, portanto, dar conta da vulnerabilidade da tecnologia de comunicação, protegendo o sigilo das comunicações não pública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tem q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incidirá sobre o Direito Penal Substancial da Convenção de Budapeste relativa ao cibercr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Direito Penal Substancial Nacional será o objeto da Parte d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incidirá sobre estudos de cas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r fim, será apresentado um resumo de todas as partes na Parte quatro.</a:t>
            </a:r>
            <a:endParaRPr b="0" lang="en-US" sz="1200" spc="-1" strike="noStrike">
              <a:solidFill>
                <a:srgbClr val="000000"/>
              </a:solidFill>
              <a:latin typeface="Calibri"/>
            </a:endParaRPr>
          </a:p>
        </p:txBody>
      </p:sp>
      <p:sp>
        <p:nvSpPr>
          <p:cNvPr id="4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48F9E-A1EB-4C3B-ABBF-4AA225E812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ceção diz respeito à escuta, monitorização ou vigilância das comunicações A interceção afeta a privacidade das comunicações de dados; e o Artigo 3.º da Convenção visa proteger contra a interceção de transmissões de dados não pública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Em caso de interceção, é possível que a conduta esteja a ser feita com autorização; possivelmente por autoridades policiais ou pessoas autorizadas a realizar atividades de teste ou proteção. Assim, a interceção legítima feita “com direito” não se enquadra no âmbito do Artigo 3.º.</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3.º não prevê a criminalização da interceção não técnica de transmissões, e aplica-se quando uma pessoa acede e utiliza um sistema informático para intercetar uma transmissão, utiliza um dispositivo eletrónico de espionagem ou escuta ou qualquer outro meio técnico. Este slide enumera alguns exemplos de formas de interceção que se enquadram no âmbito do Artigo 3.º.</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ceção de transmissões públicas não é uma ofensa ao abrigo do Artigo 3, que especifica que o âmbito do artigo se refere apenas a transmissões não públicas. É importante distinguir entre transmissões não públicas e dados não públicos, uma vez que o Artigo 3 não considera a natureza dos dados; mas sim a transmissão. Assim, a interceção de informações confidenciais comunicadas através de uma transmissão de dados acessível ao público não constituiria uma ofensa; enquanto a interceção de informações publicamente disponíveis, comunicadas através de uma transmissão de dados não pública, constituiria uma infração nos termos do Artigo 3.</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ceção de transmissões para, de ou dentro de um sistema informático é criminalizada. Este slide fornece exemplos que explicam o âmbito do Artigo 3 a esse respeito e a diferença entre esses três elemento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abrange os seguintes po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isposições do direito penal substancial e alguns dos principais fatores utilizados para descrever os crimes, com base na Convenção de Budapes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isposições do direito penal substancial e alguns dos principais fatores utilizados para descrever os crimes, com base na lei nacional exist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necessidades e as vantagens da harmonização entre a legislação nacional e os instrumentos internacionais, em particular a Convenção de Budapeste.</a:t>
            </a:r>
            <a:endParaRPr b="0" lang="en-US" sz="1200" spc="-1" strike="noStrike">
              <a:solidFill>
                <a:srgbClr val="000000"/>
              </a:solidFill>
              <a:latin typeface="Calibri"/>
            </a:endParaRPr>
          </a:p>
        </p:txBody>
      </p:sp>
      <p:sp>
        <p:nvSpPr>
          <p:cNvPr id="4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26CEF-47A8-4A54-81C1-A775A4B264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a além da interceção de dados informáticos, a Convenção de Budapeste também criminaliza a interceção de transmissões de emissões eletromagnéticas, que não se enquadram na definição de "dados informáticos" da Convenção de Budapeste, nos termos do Artigo 1. Os sistemas informáticos geralmente emitem eletromagnetismo que contém dados. A interceção de emissões eletromagnéticas foi criminalizada, já que é possível reconstruir dados informáticos a partir de emissões eletromagnéticas; e assim deixar esse elemento não criminalizado deixaria uma lacuna na lei.</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3 prevê a criminalização geral da interceção intencional sem o direito, por meios técnicos, de transmissões não públicas de dados informáticos. As Partes podem limitar o âmbito do Artigo 3, exigindo que certos elementos qualificados sejam cumpridos. Os elementos qualificados que as partes podem adotar estão enumerados neste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nduta de intencionalmente e sem direito, danos, eliminação, deterioração, alteração ou supressão de dados</a:t>
            </a:r>
            <a:r>
              <a:rPr b="1" lang="en-US" sz="1200" spc="-1" strike="noStrike">
                <a:solidFill>
                  <a:srgbClr val="000000"/>
                </a:solidFill>
                <a:latin typeface="Calibri"/>
              </a:rPr>
              <a:t> </a:t>
            </a:r>
            <a:r>
              <a:rPr b="0" lang="en-US" sz="1200" spc="-1" strike="noStrike">
                <a:solidFill>
                  <a:srgbClr val="000000"/>
                </a:solidFill>
                <a:latin typeface="Calibri"/>
              </a:rPr>
              <a:t>informáticos irá constituir a ofensa de interferência de dados prevista no Artigo 4 da Convenção de Budapeste.</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4.º</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ferência de dados protege a integridade dos dados contra interferências não autorizadas. O proprietário dos dados tem o direito de mantê-los como estão, já que o dono de um bem, na vida real, tem o direito de manter a sua propriedade a salvo da interferência de outros. Em algumas jurisdições, os danos regulares e clássicos também abrangem a interferência de dados; em outros, é necessário descrever separadamente os danos nos dados informáticos ou a interferência de dad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 acelera o grande aumento de dados relevantes (dados informáticos) para a vida moderna. Os dados informáticos são muito vulneráveis ​​e podem ser facilmente destruídos ou manipulados. Esta regra criminal protege a sua integridade e a sua disponibilid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dos casos mais frequentes de interferência de dados é o resultado da ação dos vírus – que sem direito, são instalados no computador da vítima e, por exemplo, eliminam dados.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nos e deterioração de dados informáticos sem direito referem-se à alteração negativa da integridade ou conteúdo de informações de dados e programas. Ambos os termos são atos sobreposto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eliminação refere-se à destruição de dados; e resulta em dados eliminados considerados irreconhecíveis.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isposições relevantes do direito substancial com base nas discussões relativas aos estudos de caso apresentados.</a:t>
            </a:r>
            <a:endParaRPr b="0" lang="en-US" sz="1200" spc="-1" strike="noStrike">
              <a:solidFill>
                <a:srgbClr val="000000"/>
              </a:solidFill>
              <a:latin typeface="Calibri"/>
            </a:endParaRPr>
          </a:p>
        </p:txBody>
      </p:sp>
      <p:sp>
        <p:nvSpPr>
          <p:cNvPr id="4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8A56D5-2EEB-409D-9F17-DAAF91E51A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lteração refere-se à modificação de dados existentes (mas não à eliminação dos mesmos). É possível alterar os dados de várias formas; incluindo a inserção de códigos maliciosos, como vírus e cavalos de Troia.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upressão de dados refere-se a qualquer ação que impeça ou termine a disponibilidade de dados para pessoas que tenham acesso aos dados ou ao meio de armazenamento no qual foram armazenadas. Ao contrário da eliminação de dados, a supressão de dados não envolve a destruição de dados, mas a indisponibilidade dos mesmo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Em muitos casos, é possível que uma pessoa que esteja a interferir nos dados esteja a fazê-lo "com direito". Este slide enumera alguns exemplos em que uma pessoa pode legitimamente interferir com os dados sem atrair responsabilidade criminal nos termos do Artigo 4.</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o que a ofensa de interferência de dados possui um âmbito amplo, as partes podem optar por restringir essa ofensa, exigindo que a conduta resulte em danos graves. Nenhuma definição específica de danos grave é fornecida pelo Artigo 4, e os critérios podem ser determinados pela legislação nacional.</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ferência do sistema é o</a:t>
            </a:r>
            <a:r>
              <a:rPr b="1" lang="en-US" sz="1200" spc="-1" strike="noStrike">
                <a:solidFill>
                  <a:srgbClr val="000000"/>
                </a:solidFill>
                <a:latin typeface="Calibri"/>
              </a:rPr>
              <a:t> </a:t>
            </a:r>
            <a:r>
              <a:rPr b="0" lang="en-US" sz="1200" spc="-1" strike="noStrike">
                <a:solidFill>
                  <a:srgbClr val="000000"/>
                </a:solidFill>
                <a:latin typeface="Calibri"/>
              </a:rPr>
              <a:t>impedimento do funcionamento de um sistema informático - o impedimento grave: O Artigo 5 da Convenção de Budapeste não abrange os obstáculos não graves. Este efeito pode ser o resultado da introdução, transmissão, danos, eliminação, deterioração, alteração ou supressão de dados informáticos, se tal for cometido intencionalmente e sem direit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aspeto particular exclui, em geral, por exemplo, os testes de segurança, realizados pelo administrador da rede. Esta infração abrange uma vasta gama de atos, capazes de interferir com o funcionamento normal e adequado de uma rede. De facto, a Convenção de Budapeste reconhece a importância dos sistemas de comunicação e informáticos no dia a dia - a disponibilidade desses sistemas é crucial para o funcionamento regular das atividades públicas, económicas e sociais. Mas este tipo de crime não cobre apenas interferências em grande escala, como ataques de negação de serviço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smo pequenas ações, apenas envolvendo um computador, podem causar interferência do sistema - será o caso de </a:t>
            </a:r>
            <a:r>
              <a:rPr b="0" i="1" lang="en-US" sz="1200" spc="-1" strike="noStrike">
                <a:solidFill>
                  <a:srgbClr val="000000"/>
                </a:solidFill>
                <a:latin typeface="Calibri"/>
              </a:rPr>
              <a:t>"bombas de e-mail"</a:t>
            </a:r>
            <a:r>
              <a:rPr b="0" lang="en-US" sz="1200" spc="-1" strike="noStrike">
                <a:solidFill>
                  <a:srgbClr val="000000"/>
                </a:solidFill>
                <a:latin typeface="Calibri"/>
              </a:rPr>
              <a:t> com algo a um único endereço de e-mail. Na verdade, haverá sempre um crime de interferência do sistema quando um criminoso tiver como alvo um sistema informático com mais solicitações do que aquele que o sistema consegue geri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 visa proteger o acesso a redes de comunicação, protegendo tanto os operadores do sistema como o utilizador final.</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5.º</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rimeiro tratado internacional sobre cibercrime, a Convenção de Budapeste visa facilitar e desenvolver a cooperação internacional em investigações crimin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stas duas sessões, o foco será no direito penal substancial, ou seja, as infrações que a Convenção de Budapeste exige que cada país criminalize na legislação nacional.</a:t>
            </a:r>
            <a:endParaRPr b="0" lang="en-US" sz="1200" spc="-1" strike="noStrike">
              <a:solidFill>
                <a:srgbClr val="000000"/>
              </a:solidFill>
              <a:latin typeface="Calibri"/>
            </a:endParaRPr>
          </a:p>
        </p:txBody>
      </p:sp>
      <p:sp>
        <p:nvSpPr>
          <p:cNvPr id="5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AEF006-A01A-43FC-AE26-9921EE21DD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5.º</a:t>
            </a:r>
            <a:r>
              <a:rPr b="0" lang="en-US" sz="1200" spc="-1" strike="noStrike">
                <a:solidFill>
                  <a:srgbClr val="ff0000"/>
                </a:solidFill>
                <a:latin typeface="Calibri"/>
              </a:rPr>
              <a:t>. A explicação deste elemento e o elemento exibido no slide anterior são fornecidos no slide segui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ofensa de interferência do sistema requer uma conduta que resulte no impedimento do bom funcionamento de um sistema informático. O Artigo 4 especifica que tal impedimento deve ocorrer através de (i) introdução (ii) transmissão (iii) danos (iv) alteração e (v) supressão de dados informáticos.  As explicações de cada um desses termos já foram discutidas sob o delito de interferência de dados (Artigo 4), e as mesmas explicações serão aplicadas à interferência do sistema.</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5.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5 criminaliza o </a:t>
            </a:r>
            <a:r>
              <a:rPr b="1" lang="en-US" sz="1200" spc="-1" strike="noStrike">
                <a:solidFill>
                  <a:srgbClr val="000000"/>
                </a:solidFill>
                <a:latin typeface="Calibri"/>
              </a:rPr>
              <a:t>impedimento grave</a:t>
            </a:r>
            <a:r>
              <a:rPr b="0" lang="en-US" sz="1200" spc="-1" strike="noStrike">
                <a:solidFill>
                  <a:srgbClr val="000000"/>
                </a:solidFill>
                <a:latin typeface="Calibri"/>
              </a:rPr>
              <a:t> do funcionamento de um sistema informático e não o mero impedimento do sistema informático que não é grave por natureza. Este elemento foi incluído para reduzir o âmbito da ofensa e evitar a incriminação excessiva de obstáculos que não sejam graves. A gravidade de um obstáculo deve ser determinada pela legislação interna e pode incluir o envio de dados para </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Em muitos casos, é possível que uma pessoa que esteja a interferir com um sistema informático esteja a fazê-lo "com direito". Este slide enumera alguns exemplos em que uma pessoa pode legitimamente interferir com um sistema informático sem atrair responsabilidade criminal nos termos do Artigo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Uma das infrações mais complexas descritas na Convenção de Budapeste é o crime de utIlização indevida de dispositivos – Artigo 6.</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o com outros crimes, a ação do agressor deve ser intencional e sem direito. Abrange uma vasto leque de atividades, todas relacionadas com dispositivos que podem ser utilizados indevidament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é um crime muito "novo", não incluído na Recomendação de 1989. Também é muito inovador - os factos descritos não foram reconhecidos anteriormente como crime em muitas das legislações nacionais.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sencialmente, proíbe a produção, venda, aquisição para utilização, importação, distribuição ou disponibilização de dispositivos, incluindo um programa de computador que seja concebido ou adaptado principalmente com o propósito de cometer qualquer uma das outras ofensas importantes nomeadas na Convenção.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riminaliza igualmente a venda de palavras-passe, códigos de acesso ou dados semelhantes através dos quais é possível aceder a todo ou qualquer parte de um sistema informático. Com esta disposição, a Convenção reconhece a necessidade de incriminar o florescente e crescente economicamente importante "mercado secundário" em "equipamentos para utilização criminosa": hackers que vendem as suas ferramentas online no mercado, kits de vírus "caseiros" vastamente disponíveis online e descarte por atacado de palavras-passe que foram roubadas utilizando Trojans e outros dispositivos. Isto significa que </a:t>
            </a:r>
            <a:r>
              <a:rPr b="0" i="1" lang="en-US" sz="1100" spc="-1" strike="noStrike">
                <a:solidFill>
                  <a:srgbClr val="000000"/>
                </a:solidFill>
                <a:latin typeface="Calibri"/>
              </a:rPr>
              <a:t>hacking</a:t>
            </a:r>
            <a:r>
              <a:rPr b="0" lang="en-US" sz="1100" spc="-1" strike="noStrike">
                <a:solidFill>
                  <a:srgbClr val="000000"/>
                </a:solidFill>
                <a:latin typeface="Calibri"/>
              </a:rPr>
              <a:t> num sistema informático já deixou de necessitar de programadores altamente competentes. Todos os criminosos "regulares" podem facilmente comprar as ferramentas necessárias, ou diretamente as palavras-passe roubadas - muitas vezes, o vendedor criminoso também irá oferecer um "serviço ao cliente" e ajudará o seu cliente a montar o seu computador para a prática de um crim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dos detalhes mais discutidos do Artigo 6 refere-se ao 1, b, que (ainda intencional e sem direito), incrimina a posse de </a:t>
            </a:r>
            <a:r>
              <a:rPr b="0" i="1" lang="en-US" sz="1200" spc="-1" strike="noStrike">
                <a:solidFill>
                  <a:srgbClr val="000000"/>
                </a:solidFill>
                <a:latin typeface="Calibri"/>
              </a:rPr>
              <a:t>um dispositivo</a:t>
            </a:r>
            <a:r>
              <a:rPr b="0" lang="en-US" sz="1200" spc="-1" strike="noStrike">
                <a:solidFill>
                  <a:srgbClr val="000000"/>
                </a:solidFill>
                <a:latin typeface="Calibri"/>
              </a:rPr>
              <a:t> com o objetivo que é utilizado para a finalidade de cometer qualquer uma das ofensas estabelecidas nos Artigos 2 a 5 da Convenção (acesso ilegal, interceção ilegal, interferência de dados e interferência do siste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opção é semelhante ao que algumas jurisdições denominam de "atos preparatórios" que, neste caso, já são autonomamente criminalizados.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seguinte exibem o texto completo do Artigo 6, </a:t>
            </a:r>
            <a:r>
              <a:rPr b="0" lang="en-US" sz="1200" spc="-1" strike="noStrike">
                <a:solidFill>
                  <a:srgbClr val="ff0000"/>
                </a:solidFill>
                <a:latin typeface="Calibri"/>
              </a:rPr>
              <a:t>§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objetivo primordial é harmonizar a lei substancial entre as Partes para permitir a cooperaç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nvenção de Budapeste defi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frações contra a confidencialidade, integridade e disponibilidade de sistemas e dados informáticos  Acesso ilegal, interceção ilegal, interferência de dados, interferência do sistema, utilização incorreta de dispositiv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frações relacionadas com computadores: falsificação relacionada com computadores, fraude relacionada com computado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frações relacionadas com o conteúdo: Infrações relacionadas com pornografia infantil, Infrações relacionadas com violações de direitos de autor e direitos conex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A8CCF-5940-4389-8BE6-3393FA89D3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6, </a:t>
            </a:r>
            <a:r>
              <a:rPr b="0" lang="en-US" sz="1200" spc="-1" strike="noStrike">
                <a:solidFill>
                  <a:srgbClr val="ff0000"/>
                </a:solidFill>
                <a:latin typeface="Calibri"/>
              </a:rPr>
              <a:t>§2 e §3.</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É possível que uma pessoa tenha o direito de produzir e colocar dispositivos de mercado que possam ser abrangidos pelo âmbito de aplicação do Artigo 6, incluindo quando esses dispositivos forem utilizados para testes autorizados ou para a proteção de sistemas informáticos.</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6.º considera uma infração a produção, venda, adquisição para utilização, importação, distribuição ou disponibilização de dispositivos concebidos ou adaptados principalmente com a finalidade de cometer cibercrimes. </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6.º abrange não apenas a utilização indevida de dispositivos, mas também programas informáticos. Isto significa que o artigo 6.º inclui a produção, venda, etc. de programas concebidos para alterar ou destruir dados ou interferir no funcionamento de sistemas informáticos. O que significa que os programas de vírus que não estão contidos nos dispositivos também se enquadram no âmbito do artigo 6.º.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criadores da Convenção tiveram de decidir incluir ou excluir dispositivos de dupla utilização do âmbito do artigo 6.º. A inclusão de dispositivos de dupla utilização pode ter resultado em criminalização excessiva da produção e distribuição de dispositivos, embora os mesmos tenham sido produzidos e distribuídos para fins não criminais. A exclusão de dispositivos de dupla utilização seria demasiada limitada, já que exigiria a prova de que os dispositivos seriam produzidos especificamente para cometer e quais os objetivos do cibercrime. A Convenção adotou uma abordagem equilibrada, segundo a qual os dispositivos são concebidos ou adaptados </a:t>
            </a:r>
            <a:r>
              <a:rPr b="1" lang="en-US" sz="1200" spc="-1" strike="noStrike">
                <a:solidFill>
                  <a:srgbClr val="000000"/>
                </a:solidFill>
                <a:latin typeface="Calibri"/>
              </a:rPr>
              <a:t>principalmente</a:t>
            </a:r>
            <a:r>
              <a:rPr b="0" lang="en-US" sz="1200" spc="-1" strike="noStrike">
                <a:solidFill>
                  <a:srgbClr val="000000"/>
                </a:solidFill>
                <a:latin typeface="Calibri"/>
              </a:rPr>
              <a:t>, mas não apenas, para a prática de um cibercrime são abrangidos pelo artigo 6.º.</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cção refere-se a uma das categorias mais importantes de cibercrime: infrações contra a confidencialidade, integridade e disponibilidade de dados e sistemas informáticos. Isto pode ser chamado de cibercrime no sentido estrito.</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a utilização indevida de dispositivos e programas informáticos, o artigo 6.º também criminaliza a produção, venda, etc. de códigos de acesso, palavras-passe informáticas e outros dados semelhantes que permitem o acesso à totalidade ou a qualquer parte de um sistema informático.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e produzir ou distribuir dispositivos, programas informáticos, palavras-passe, códigos de acesso, etc., o artigo 6.º também criminaliza a posse dos mesmos, se estiverem na posse com a intenção de cometer um cibercrime.</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infrações informáticas são crimes cometidos através de um sistema informático. As referidas infrações são novas modalidades de crimes tradicionais, mas só podem ser cometidas no âmbito do ambiente digital e não podem acontecer fora deste mundo virtual.</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falsificação informática, descrita no artigo 7.º da Convenção de Budapeste, é uma modalidade particular de falsificação. Na maioria dos países, a falsificação é uma violação criminal tradicional. Mas, geralmente, refere-se a objetos tangíveis e, por vezes, não pode ser utilizada para criminalizar a falsificação informática ou a falsificação de dados informáticos. Esta foi a razão da introdução do artigo 7.º na Conven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ualmente, a Convenção pretende introduzir uma infração paralela à falsificação tradicional de documentos (documentos tangíveis). Mas, neste caso, o objeto do crime são os dados informáticos. Este crime é cometido por aqueles que inserem, alteram, eliminam ou inibem dados informáticos, resultando em dados não autênticos com a intenção de que esses dados sejam considerados ou postos em prática para fins legais, como se fossem autênt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 requer, como é óbvio, uma ação intencional e sem direito.</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seguinte exibem o texto completo do Artigo 6, </a:t>
            </a:r>
            <a:r>
              <a:rPr b="0" lang="en-US" sz="1200" spc="-1" strike="noStrike">
                <a:solidFill>
                  <a:srgbClr val="ff0000"/>
                </a:solidFill>
                <a:latin typeface="Calibri"/>
              </a:rPr>
              <a:t>§1</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7.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os quatro meios pelos quais a falsificação de um documento genuíno pode ocorrer sob o Artigo 6. Estes sã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erção de dados corretos ou incorretos (no momento da criação ou inserçã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erações subsequentes (incluindo modificações, variações ou alterações parciai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iminação (remoção de dados de um mei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são (retenção ou ocultação de dados)</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7.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o requisito de que a falsificação informática seja cometida intencionalmente, o Artigo 7 também exige que uma pessoa cometa a conduta necessária com a intenção de que o documento falsificado seja considerado ou utilizado para fins legais (isto é, transações legais e documentos que sejam legalmente relevantes). Além disso, as Partes podem exigir que a conduta seja cometida com a intenção de fraudar outra pesso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crime de acesso ilegal é cometido por quem acede</a:t>
            </a:r>
            <a:r>
              <a:rPr b="1" lang="en-US" sz="1200" spc="-1" strike="noStrike">
                <a:solidFill>
                  <a:srgbClr val="000000"/>
                </a:solidFill>
                <a:latin typeface="Calibri"/>
              </a:rPr>
              <a:t> </a:t>
            </a:r>
            <a:r>
              <a:rPr b="0" lang="en-US" sz="1200" spc="-1" strike="noStrike">
                <a:solidFill>
                  <a:srgbClr val="000000"/>
                </a:solidFill>
                <a:latin typeface="Calibri"/>
              </a:rPr>
              <a:t>a todo ou qualquer parte de um sistema informático sem direito. Esta ação deve ser intencional e está descrita no Artigo 2.º da Convenção de Budapeste.</a:t>
            </a: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fraude informática, descrita no Artigo 8 da Convenção de Budapeste, é</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8.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8.º</a:t>
            </a:r>
            <a:r>
              <a:rPr b="0" lang="en-US" sz="1200" spc="-1" strike="noStrike">
                <a:solidFill>
                  <a:srgbClr val="ff0000"/>
                </a:solidFill>
                <a:latin typeface="Calibri"/>
              </a:rPr>
              <a:t>.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os quatro meios pelos quais pode ser causada a perda da propriedade de outra pessoa. Estes sã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erção de dados corretos ou incorretos (no momento da criação ou inserçã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erações subsequentes (incluindo modificações, variações ou alterações parciai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iminação (remoção de dados de um mei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são (retenção ou ocultaçã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ferência (com o funcionamento de um computador)</a:t>
            </a: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A2438-C970-4D23-880A-73A9C3DB1C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8.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relação à infração de fraude relacionada com computadores, é necessário que a conduta resulte na perda económica direta ou possessória da propriedade de outra pessoa. Isto pode incluir a perda de dinheiro, tangíveis e intangíveis com um valor económico.</a:t>
            </a: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E2A38D-867B-4EF4-8D2D-55DF35AB10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frações relacionadas com conteúdos referem-se aos crimes que se tornaram mais fáceis através do uso de computadores ou redes. Estes tipos de infrações podem ser cometidas por outros meios, mas os computadores e as redes facilitam o trabalho.</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artigo 9 da Convenção de Budapeste revela uma das grandes inovações deste tratado: criminaliza os atos de pornografia infantil cometidos por meio de um sistema informático.</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comércio com pornografia infantil aumentou enormemente com o advento da Internet. As redes de comunicação e informação oferecem um grande número de vantagens e possibilidades para quem procura este tipo de conteúdo. Além disso, na Internet, os utilizadores podem ser anónimos, enquanto obtêm acesso a material de abuso infantil online.</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m relação às ofensas de pornografia infantil, um aspeto é particularmente contencioso: a criminalização de "pseudo-imagens". Os artigos da Convenção abrangem não só situações de fotos em que uma criança real é fotografada durante a atividade sexual, mas também falsas representações de crianças - por exemplo, fotos de crianças completamente criadas por computadores (transformando-se, por exemplo, na cabeça de uma criança no corpo do adulto que comete o ato sexual) ou imagens de adultos (de forma convincente) fingindo (agir ou se vestir como) ser crianças.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m segundo aspeto importante deve ser discutido, porque é amplamente considerado no texto da Convenção: a punição da mera posse de materiais de pornografia infantil. O Artigo 9.º, 1 define como infração a mera posse deste tipo de material, dentro de um sistema informático e também a aquisição de tais imagens para uso puramente pessoal. Essa abordagem é comummente adotada por outros </a:t>
            </a:r>
            <a:r>
              <a:rPr b="0" i="1" lang="en-US" sz="700" spc="-1" strike="noStrike">
                <a:solidFill>
                  <a:srgbClr val="000000"/>
                </a:solidFill>
                <a:latin typeface="Calibri"/>
              </a:rPr>
              <a:t>fóruns</a:t>
            </a:r>
            <a:r>
              <a:rPr b="0" lang="en-US" sz="700" spc="-1" strike="noStrike">
                <a:solidFill>
                  <a:srgbClr val="000000"/>
                </a:solidFill>
                <a:latin typeface="Calibri"/>
              </a:rPr>
              <a:t> internacionais que estudaram o 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riminalizar a mera posse de material de pornografia infantil está a tornar muito mais fácil conduzir uma investigação criminal sobre este tópico, já que nos termos da presente disposição qualquer um que tenha em sua posse este tipo de material pode ser processado, e a intenção específica de utilizar as imagens de um certa forma (por exemplo vendê-las) ou participar na sua produção não precisa de ser comprovada. Isto também significa que pedófilos suspeitos podem ser punidos sem qualquer prova de que agiram pelos seus impulsos em relação a uma criança. E, claro, a polícia e os tribunais podem investigar e condenar desta forma fornecedores de pornografia infantil suspeitos (mesmo que por mera posse), com ou sem provas de que o comércio real ocorreu.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este respeito, é importante considerar também a opção legal da União Europeia. Por muitos anos, a União Europeia decidiu criminalizar a mera posse de material de pornografia infantil - desde a Decisão do Conselho de 29 de maio de 2000. Mais recentemente, a Diretiva 2011/92/UE do Parlamento Europeu e do Conselho, de 13 de dezembro de 2011, relativa à luta contra o abuso sexual e a exploração sexual de crianças e a pornografia infantil, e substituindo a Decisão Estrutural 2004/68/JAI do Conselho, Estados da União Europeia devem criminalizar, entre outros comportamentos ilegais, a aquisição ou posse de pornografia infantil (Artigo 5.º, número 2). No entanto, o mesmo documento permite que cada um dos Estados-Membros decida se esta incriminação se aplica aos casos em que este material pornográfico é de propriedade exclusiva do produtor (na medida em que não tenha sido utilizado material pornográfico para o efeito da sua produção e desde que o ato não envolva riscos de disseminação do materi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opção da União Europeia está absolutamente de acordo com o Artigo 9.º da Convenção de Budapeste que incrimina a produção, oferta ou disponibilização, distribuição ou transmissão, aquisição ou meramente posse de pornografia infantil num sistema informático ou num meio de armazenamento de dados de computador. No entanto, a inclusão de “obtenção” ou “posse” permite a reserva das Partes da Convençã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opção foi reforçada pela Convenção sobre a Proteção das Crianças (CETS 201), emitida pelo Conselho Europeu e aberta para assinatura em 2007. O objetivo deste tratado é harmonizar as disposições do direito penal, dentro das Partes, com o objetivo de proteger as crianças da exploração sexual. De acordo com o Artigo 20.º, entre outros, "</a:t>
            </a:r>
            <a:r>
              <a:rPr b="0" i="1" lang="en-US" sz="700" spc="-1" strike="noStrike">
                <a:solidFill>
                  <a:srgbClr val="000000"/>
                </a:solidFill>
                <a:latin typeface="Calibri"/>
              </a:rPr>
              <a:t>procurar pornografia infantil para si ou para outra pessoa</a:t>
            </a:r>
            <a:r>
              <a:rPr b="0" lang="en-US" sz="700" spc="-1" strike="noStrike">
                <a:solidFill>
                  <a:srgbClr val="000000"/>
                </a:solidFill>
                <a:latin typeface="Calibri"/>
              </a:rPr>
              <a:t>" e "</a:t>
            </a:r>
            <a:r>
              <a:rPr b="0" i="1" lang="en-US" sz="700" spc="-1" strike="noStrike">
                <a:solidFill>
                  <a:srgbClr val="000000"/>
                </a:solidFill>
                <a:latin typeface="Calibri"/>
              </a:rPr>
              <a:t>possuir pornografia infantil</a:t>
            </a:r>
            <a:r>
              <a:rPr b="0" lang="en-US" sz="700" spc="-1" strike="noStrike">
                <a:solidFill>
                  <a:srgbClr val="000000"/>
                </a:solidFill>
                <a:latin typeface="Calibri"/>
              </a:rPr>
              <a:t>" deve ser criminalizado.</a:t>
            </a:r>
            <a:endParaRPr b="0" lang="en-US" sz="700" spc="-1" strike="noStrike">
              <a:solidFill>
                <a:srgbClr val="000000"/>
              </a:solidFill>
              <a:latin typeface="Calibri"/>
            </a:endParaRPr>
          </a:p>
        </p:txBody>
      </p:sp>
      <p:sp>
        <p:nvSpPr>
          <p:cNvPr id="6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88CA6-2ADD-41E6-9449-655D697458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seguinte exibem o texto completo do Artigo 9.º.</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2.º</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muitas vezes referido como </a:t>
            </a:r>
            <a:r>
              <a:rPr b="0" i="1" lang="en-US" sz="1200" spc="-1" strike="noStrike">
                <a:solidFill>
                  <a:srgbClr val="000000"/>
                </a:solidFill>
                <a:latin typeface="Calibri"/>
              </a:rPr>
              <a:t>hacking</a:t>
            </a:r>
            <a:r>
              <a:rPr b="0" lang="en-US" sz="1200" spc="-1" strike="noStrike">
                <a:solidFill>
                  <a:srgbClr val="000000"/>
                </a:solidFill>
                <a:latin typeface="Calibri"/>
              </a:rPr>
              <a:t> de sistemas informáticos e é um dos crimes informáticos mais comuns. No entanto, existem outros fenómenos, além do </a:t>
            </a:r>
            <a:r>
              <a:rPr b="0" i="1" lang="en-US" sz="1200" spc="-1" strike="noStrike">
                <a:solidFill>
                  <a:srgbClr val="000000"/>
                </a:solidFill>
                <a:latin typeface="Calibri"/>
              </a:rPr>
              <a:t>hacking</a:t>
            </a:r>
            <a:r>
              <a:rPr b="0" lang="en-US" sz="1200" spc="-1" strike="noStrike">
                <a:solidFill>
                  <a:srgbClr val="000000"/>
                </a:solidFill>
                <a:latin typeface="Calibri"/>
              </a:rPr>
              <a:t> , que podem ser classificados como acesso ilegal - na verdade, o </a:t>
            </a:r>
            <a:r>
              <a:rPr b="0" i="1" lang="en-US" sz="1200" spc="-1" strike="noStrike">
                <a:solidFill>
                  <a:srgbClr val="000000"/>
                </a:solidFill>
                <a:latin typeface="Calibri"/>
              </a:rPr>
              <a:t>hacking</a:t>
            </a:r>
            <a:r>
              <a:rPr b="0" lang="en-US" sz="1200" spc="-1" strike="noStrike">
                <a:solidFill>
                  <a:srgbClr val="000000"/>
                </a:solidFill>
                <a:latin typeface="Calibri"/>
              </a:rPr>
              <a:t> é utilizado, normalmente, para descrever o ato de aceder ilegalmente um sistema informático por meio da tecnologia. Mas o acesso ilegal também abrange qualquer entrada não autorizada num sistema, independentemente da tecnologia utilizada ou mesmo da utilização ou não da tecnologia. Tal caso, por exemplo, seria a palavra-passe obtida ilegalmente pelo autor. O interesse protegido aqui é a confidencialidade de um sistema informático e dado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É possível que a conduta descrita no Artigo 9.º seja feita "com direito". Existem outras defesas da conduta descritas no Artigo 9.º; Por exemplo, o material pornográfico tem mérito artístico, médico, científico ou outro mérito semelhante.</a:t>
            </a: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E96A2-EC6B-480B-A0AF-49A311FE47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e explica algumas das condutas que constituem uma infração criminal nos termos do Artigo 9.º. Isto inclui a produção, oferta e disponibilização de pornografia infantil. </a:t>
            </a: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8D6F3-C5C6-4188-A206-469B31433E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e explica algumas das condutas que constituem uma infração criminal nos termos do Artigo 9.º. Isto inclui a distribuição, transmissão, aquisição e posse de pornografia infantil. </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771F04-98B1-4DFC-9FF0-A13B5183AC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plica os critérios pelos quais se deve determinar se determinado material é pornográfico por natureza.  O conteúdo deve ser determinado por padrões nacionais relativos à obscenidade, moralidade pública,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bora a linguagem do Artigo 9.º sugira que o material pornográfico deva constituir uma representação visual, também pretende incluir dados armazenados num sistema informático ou um meio de armazenamento de dados informáticos capaz de fazer a conversação numa imagem visual. </a:t>
            </a: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15E708-4D24-45AE-A1BB-30ED719458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 critério mínimo para determinar se determinado material descreve uma "conduta sexualmente explícita". As partes são livres para utilizar uma definição mais ampla. É importante notar que a conduta sexualmente explícita que está a ser descrita não precisa de ser uma conduta sexualmente explícita verdadeira; e pode ser simulada. </a:t>
            </a: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278175-D97B-4463-9CD1-375EE2BB50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7A99F-3090-46A2-81F1-326E10E36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D613B-5DBC-4E18-AFE3-CC75C4D8A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8A663-A337-4A58-90C9-CAC35BFC4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3ABD4-509D-4D13-9264-53E778D77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6FC0F-CF50-449B-86AC-317A5C8AC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33276-FD6C-4A8F-ACF4-B1F7C9082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34EDC-C160-45EE-9AED-E8B62D052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45406-C30E-4881-AD05-114CC9942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0DDD6-B08B-4260-94EF-5ED8D32E1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AFF1B-74EC-42C4-9B6F-B5CF76456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07E51-CD48-4566-BF65-B7260EF09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90257-986C-4773-826A-6827C2A12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133BDA-17FE-4FEE-BB7C-BBEAF230FF86}"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ACFDE6-3F68-4C78-9F08-2AA7D0B2BA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1.2.2 e 1.2.3</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isposições do Direito Penal Substancial ao abrigo da Convenção de Budapeste</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7E6D9CB-EA8F-4CC9-B465-CA691C9E4B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82" name="PlaceHolder 2"/>
          <p:cNvSpPr>
            <a:spLocks noGrp="1"/>
          </p:cNvSpPr>
          <p:nvPr>
            <p:ph/>
          </p:nvPr>
        </p:nvSpPr>
        <p:spPr>
          <a:xfrm>
            <a:off x="457200" y="1866600"/>
            <a:ext cx="8229600" cy="39718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t>
            </a:r>
            <a:r>
              <a:rPr b="1" lang="en-US" sz="4000" spc="-1" strike="noStrike">
                <a:solidFill>
                  <a:srgbClr val="ff0000"/>
                </a:solidFill>
                <a:latin typeface="Calibri"/>
                <a:ea typeface="Times New Roman"/>
              </a:rPr>
              <a:t>acesso</a:t>
            </a:r>
            <a:r>
              <a:rPr b="0" lang="en-US" sz="2800" spc="-1" strike="noStrike">
                <a:solidFill>
                  <a:srgbClr val="000000"/>
                </a:solidFill>
                <a:latin typeface="Calibri"/>
                <a:ea typeface="Times New Roman"/>
              </a:rPr>
              <a:t> ao todo ou a qualquer parte de um sistema informático sem direito.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28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9520301-491B-46E8-B4ED-8784657716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AACF633-BB55-4E16-AF3B-D825386835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6" name=""/>
          <p:cNvSpPr txBox="1"/>
          <p:nvPr/>
        </p:nvSpPr>
        <p:spPr>
          <a:xfrm>
            <a:off x="254160" y="1600200"/>
            <a:ext cx="859464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 os fins do parágrafo 1 acima, "pornografia infantil" incluirá material pornográfico que </a:t>
            </a:r>
            <a:r>
              <a:rPr b="1" lang="en-US" sz="2800" spc="-1" strike="noStrike">
                <a:solidFill>
                  <a:srgbClr val="ff0000"/>
                </a:solidFill>
                <a:latin typeface="Calibri"/>
              </a:rPr>
              <a:t>represente</a:t>
            </a:r>
            <a:r>
              <a:rPr b="0" lang="en-US" sz="2000" spc="-1" strike="noStrike">
                <a:solidFill>
                  <a:srgbClr val="000000"/>
                </a:solidFill>
                <a:latin typeface="Calibri"/>
              </a:rPr>
              <a:t> visualmente:</a:t>
            </a:r>
            <a:endParaRPr b="0" lang="en-US" sz="2000" spc="-1" strike="noStrike">
              <a:solidFill>
                <a:srgbClr val="000000"/>
              </a:solidFill>
              <a:latin typeface="Calibri"/>
            </a:endParaRPr>
          </a:p>
          <a:p>
            <a:pPr lvl="1" marL="857160" indent="-45720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um menor </a:t>
            </a:r>
            <a:r>
              <a:rPr b="0" lang="en-US" sz="1800" spc="-1" strike="noStrike">
                <a:solidFill>
                  <a:srgbClr val="000000"/>
                </a:solidFill>
                <a:latin typeface="Calibri"/>
              </a:rPr>
              <a:t>envolvido em conduta sexualmente explícita;</a:t>
            </a:r>
            <a:endParaRPr b="0" lang="en-US" sz="1800" spc="-1" strike="noStrike">
              <a:solidFill>
                <a:srgbClr val="000000"/>
              </a:solidFill>
              <a:latin typeface="Calibri"/>
            </a:endParaRPr>
          </a:p>
          <a:p>
            <a:pPr lvl="1" marL="857160" indent="-45720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uma pessoa que parece ser menor</a:t>
            </a:r>
            <a:r>
              <a:rPr b="0" lang="en-US" sz="1800" spc="-1" strike="noStrike">
                <a:solidFill>
                  <a:srgbClr val="000000"/>
                </a:solidFill>
                <a:latin typeface="Calibri"/>
              </a:rPr>
              <a:t> envolvida em conduta sexualmente explícita;</a:t>
            </a:r>
            <a:endParaRPr b="0" lang="en-US" sz="1800" spc="-1" strike="noStrike">
              <a:solidFill>
                <a:srgbClr val="000000"/>
              </a:solidFill>
              <a:latin typeface="Calibri"/>
            </a:endParaRPr>
          </a:p>
          <a:p>
            <a:pPr lvl="1" marL="857160" indent="-45720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imagens realistas a representar um menor</a:t>
            </a:r>
            <a:r>
              <a:rPr b="0" lang="en-US" sz="1800" spc="-1" strike="noStrike">
                <a:solidFill>
                  <a:srgbClr val="000000"/>
                </a:solidFill>
                <a:latin typeface="Calibri"/>
              </a:rPr>
              <a:t> envolvido em conduta sexualmente explícita.</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 os fins do parágrafo 2 acima, o termo "menor" deverá incluir todas as pessoas menores de 18 anos de idade. Uma Parte pode, no entanto, exigir um limite de idade inferior, que não deve ser inferior a 16 an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ada Parte pode reservar-se o direito de não aplicar, no todo ou em parte, o parágrafo 1 (d) e 1 (e), e 2 (b) e 2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presentações</a:t>
            </a:r>
            <a:endParaRPr b="0" lang="en-US" sz="4400" spc="-1" strike="noStrike">
              <a:solidFill>
                <a:srgbClr val="000000"/>
              </a:solidFill>
              <a:latin typeface="Calibri"/>
            </a:endParaRPr>
          </a:p>
        </p:txBody>
      </p:sp>
      <p:sp>
        <p:nvSpPr>
          <p:cNvPr id="358" name=""/>
          <p:cNvSpPr txBox="1"/>
          <p:nvPr/>
        </p:nvSpPr>
        <p:spPr>
          <a:xfrm>
            <a:off x="279360" y="167112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ão abrangidas as seguintes representações:</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buso sexual de uma criança real</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gens que mostram uma pessoa que parece ser menor envolvida em conduta sexualmente explícita </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gens que, embora "realistas", não envolvem de fato uma criança real envolvida em conduta sexualmente explícita; incluindo imagens que são alteradas, como imagens de pessoas naturais, ou mesmo geradas inteiramente pelo computador</a:t>
            </a:r>
            <a:r>
              <a:rPr b="0" lang="en-US" sz="2600" spc="-1" strike="noStrike">
                <a:solidFill>
                  <a:srgbClr val="000000"/>
                </a:solidFill>
                <a:latin typeface="Calibri"/>
              </a:rPr>
              <a:t>	</a:t>
            </a:r>
            <a:endParaRPr b="0" lang="en-US" sz="2600" spc="-1" strike="noStrike">
              <a:solidFill>
                <a:srgbClr val="000000"/>
              </a:solidFill>
              <a:latin typeface="Calibri"/>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D066F75-7551-4615-87F0-4E0886237B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938FA6-0ECD-4980-9E36-5F01797ECE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2" name=""/>
          <p:cNvSpPr txBox="1"/>
          <p:nvPr/>
        </p:nvSpPr>
        <p:spPr>
          <a:xfrm>
            <a:off x="457200" y="1600200"/>
            <a:ext cx="8229600" cy="4525920"/>
          </a:xfrm>
          <a:prstGeom prst="rect">
            <a:avLst/>
          </a:prstGeom>
          <a:noFill/>
          <a:ln w="0">
            <a:noFill/>
          </a:ln>
        </p:spPr>
        <p:txBody>
          <a:bodyPr anchor="t">
            <a:normAutofit fontScale="90000"/>
          </a:bodyPr>
          <a:p>
            <a:pPr marL="411480" indent="-411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1 acima, "pornografia infantil" incluirá material pornográfico que represente visualmente:</a:t>
            </a:r>
            <a:endParaRPr b="0" lang="en-US" sz="24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 menor envolvido em conduta sexualmente explícita;</a:t>
            </a:r>
            <a:endParaRPr b="0" lang="en-US" sz="20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a pessoa que parece ser menor envolvida em conduta sexualmente explícita;</a:t>
            </a:r>
            <a:endParaRPr b="0" lang="en-US" sz="20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magens realistas a representar um menor envolvido em conduta sexualmente explícita.</a:t>
            </a:r>
            <a:endParaRPr b="0" lang="en-US" sz="20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2 acima, o termo "</a:t>
            </a:r>
            <a:r>
              <a:rPr b="1" lang="en-US" sz="3200" spc="-1" strike="noStrike">
                <a:solidFill>
                  <a:srgbClr val="ff0000"/>
                </a:solidFill>
                <a:latin typeface="Calibri"/>
              </a:rPr>
              <a:t>menor</a:t>
            </a:r>
            <a:r>
              <a:rPr b="0" lang="en-US" sz="2400" spc="-1" strike="noStrike">
                <a:solidFill>
                  <a:srgbClr val="000000"/>
                </a:solidFill>
                <a:latin typeface="Calibri"/>
              </a:rPr>
              <a:t>" deverá incluir todas as pessoas menores de 18 anos de idade. Uma Parte pode, no entanto, exigir um limite de idade inferior, que não deve ser inferior a 16 anos.</a:t>
            </a:r>
            <a:endParaRPr b="0" lang="en-US" sz="24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pode reservar-se o direito de não aplicar, no todo ou em parte, o parágrafo 1 (d) e 1 (e), e 2 (b) e 2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nor</a:t>
            </a:r>
            <a:endParaRPr b="0" lang="en-US" sz="4400" spc="-1" strike="noStrike">
              <a:solidFill>
                <a:srgbClr val="000000"/>
              </a:solidFill>
              <a:latin typeface="Calibri"/>
            </a:endParaRPr>
          </a:p>
        </p:txBody>
      </p:sp>
      <p:sp>
        <p:nvSpPr>
          <p:cNvPr id="364" name=""/>
          <p:cNvSpPr txBox="1"/>
          <p:nvPr/>
        </p:nvSpPr>
        <p:spPr>
          <a:xfrm>
            <a:off x="279360" y="1593720"/>
            <a:ext cx="8547120" cy="45259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sistente com a definição de criança no Artigo 1.º da Convenção da ONU sobre os Direitos da Criança</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enor geralmente significa todas as pessoas com menos de 18 an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 partes podem exigir um limite de idade inferior, desde que não seja inferior a 16 an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dade refere-se ao uso de crianças (reais ou fictícias) como objetos sexuais; e não a idade de consentimento para relações sexuais</a:t>
            </a:r>
            <a:endParaRPr b="0" lang="en-US" sz="2400" spc="-1" strike="noStrike">
              <a:solidFill>
                <a:srgbClr val="000000"/>
              </a:solidFill>
              <a:latin typeface="Calibri"/>
            </a:endParaRPr>
          </a:p>
        </p:txBody>
      </p:sp>
      <p:sp>
        <p:nvSpPr>
          <p:cNvPr id="3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B67E0D3-7A2F-4F6B-B626-09B951C8DE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frações relacionadas com infrações aos direitos de autor e direitos associados</a:t>
            </a:r>
            <a:endParaRPr b="0" lang="en-US" sz="3200" spc="-1" strike="noStrike">
              <a:solidFill>
                <a:srgbClr val="000000"/>
              </a:solidFill>
              <a:latin typeface="Calibri"/>
            </a:endParaRPr>
          </a:p>
        </p:txBody>
      </p:sp>
      <p:sp>
        <p:nvSpPr>
          <p:cNvPr id="3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0F688E-8BD5-451D-BB79-B56380D8B8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64000"/>
          </a:bodyPr>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Direito de propriedade intelectual</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Artigo 10.º - Convenção de Budapeste)</a:t>
            </a:r>
            <a:r>
              <a:rPr b="0" lang="en-US"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não cria um novo regulamento sobre a finalidade</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deste assunto da Convenção de Budapeste</a:t>
            </a:r>
            <a:endParaRPr b="0" lang="en-US" sz="2400" spc="-1" strike="noStrike">
              <a:solidFill>
                <a:srgbClr val="000000"/>
              </a:solidFill>
              <a:latin typeface="Calibri"/>
            </a:endParaRPr>
          </a:p>
          <a:p>
            <a:pPr lvl="1" marL="475200" indent="-18288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para aplicar as regras anteriores sobre direitos de autor: o que é cumprido com o mundo real também deve ser observado dentro da realidade online</a:t>
            </a:r>
            <a:endParaRPr b="0" lang="en-US" sz="2000" spc="-1" strike="noStrike">
              <a:solidFill>
                <a:srgbClr val="000000"/>
              </a:solidFill>
              <a:latin typeface="Calibri"/>
            </a:endParaRPr>
          </a:p>
          <a:p>
            <a:pPr lvl="1" marL="475200" indent="-18288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As infrações aos direitos de autor online ou cometidas por meio de um sistema informático, devem ser punidas como se tivessem sido cometidas no mundo real.</a:t>
            </a:r>
            <a:endParaRPr b="0" lang="en-US" sz="2000" spc="-1" strike="noStrike">
              <a:solidFill>
                <a:srgbClr val="000000"/>
              </a:solidFill>
              <a:latin typeface="Calibri"/>
            </a:endParaRPr>
          </a:p>
          <a:p>
            <a:pPr lvl="2" marL="731520" indent="0">
              <a:lnSpc>
                <a:spcPct val="90000"/>
              </a:lnSpc>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Convenção de Budapeste refere-se aos tratados internacionais existentes </a:t>
            </a:r>
            <a:endParaRPr b="0" lang="en-US" sz="2400" spc="-1" strike="noStrike">
              <a:solidFill>
                <a:srgbClr val="000000"/>
              </a:solidFill>
              <a:latin typeface="Calibri"/>
            </a:endParaRPr>
          </a:p>
          <a:p>
            <a:pPr lvl="1" marL="475200" indent="-18288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cordo de Paris de 24 de julho de 1971</a:t>
            </a:r>
            <a:endParaRPr b="0" lang="en-US" sz="2000" spc="-1" strike="noStrike">
              <a:solidFill>
                <a:srgbClr val="000000"/>
              </a:solidFill>
              <a:latin typeface="Calibri"/>
            </a:endParaRPr>
          </a:p>
          <a:p>
            <a:pPr lvl="1" marL="475200" indent="-18288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nvenção de Berna</a:t>
            </a:r>
            <a:endParaRPr b="0" lang="en-US" sz="2000" spc="-1" strike="noStrike">
              <a:solidFill>
                <a:srgbClr val="000000"/>
              </a:solidFill>
              <a:latin typeface="Calibri"/>
            </a:endParaRPr>
          </a:p>
          <a:p>
            <a:pPr lvl="1" marL="475200" indent="-18288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ratados da OMPI</a:t>
            </a:r>
            <a:endParaRPr b="0" lang="en-US" sz="2000" spc="-1" strike="noStrike">
              <a:solidFill>
                <a:srgbClr val="000000"/>
              </a:solidFill>
              <a:latin typeface="Calibri"/>
            </a:endParaRPr>
          </a:p>
        </p:txBody>
      </p:sp>
      <p:sp>
        <p:nvSpPr>
          <p:cNvPr id="3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EBD93-5AE3-4754-803B-5F0437D326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1" name="PlaceHolder 2"/>
          <p:cNvSpPr>
            <a:spLocks noGrp="1"/>
          </p:cNvSpPr>
          <p:nvPr>
            <p:ph/>
          </p:nvPr>
        </p:nvSpPr>
        <p:spPr>
          <a:xfrm>
            <a:off x="457200" y="1895400"/>
            <a:ext cx="8229600" cy="4525920"/>
          </a:xfrm>
          <a:prstGeom prst="rect">
            <a:avLst/>
          </a:prstGeom>
          <a:noFill/>
          <a:ln w="0">
            <a:noFill/>
          </a:ln>
        </p:spPr>
        <p:txBody>
          <a:bodyPr anchor="t">
            <a:normAutofit fontScale="99000"/>
          </a:bodyPr>
          <a:p>
            <a:pPr marL="509040" indent="-509040" algn="just">
              <a:lnSpc>
                <a:spcPct val="9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ada Parte adotará as medidas legislativas e outras que sejam necessárias para estabelecer como infração penal na sua lei nacional a violação dos direitos de autor, conforme definido na legislação dessa Parte nos termos das obrigações que assumiu ao abrigo do Acordo de Paris de 24 de julho de 1971 da Convenção de Berna para a Proteção de Obras Literárias e Artísticas, o Acordo sobre Aspetos dos Direitos de Propriedade Intelectual Relacionados com Comércio e o Tratado da OMPI sobre Direitos de Autor, com exceção de quaisquer direitos morais conferidos por tais Convenções, quando este atos são cometidos intencionalmente, a uma escala comercial e por meio de um sistema informático.</a:t>
            </a:r>
            <a:endParaRPr b="0" lang="en-US" sz="2500" spc="-1" strike="noStrike">
              <a:solidFill>
                <a:srgbClr val="000000"/>
              </a:solidFill>
              <a:latin typeface="Calibri"/>
            </a:endParaRPr>
          </a:p>
        </p:txBody>
      </p:sp>
      <p:sp>
        <p:nvSpPr>
          <p:cNvPr id="3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82B68-052C-45F8-A25F-6952967886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473040" indent="-473040" algn="just">
              <a:lnSpc>
                <a:spcPct val="9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tará as medidas legislativas e outras que sejam necessárias para estabelecer como infrações penais da sua lei nacional a violação de direitos associados, conforme definido na legislação dessa Parte, em conformidade com as obrigações que assumiu no âmbito da Convenção Internacional para o Proteção de Executores, Produtores de Fonogramas e Organizações de Radiodifusão (Convenção de Roma), do Acordo sobre Aspetos dos Direitos de Propriedade Intelectual Relacionados com o Comércio e do Tratado da OMPI sobre Desempenhos e Fonogramas, com exceção de quaisquer direitos morais conferidos por tais convenções, cometidos deliberadamente, em escala comercial e por meio de um sistema informático.</a:t>
            </a:r>
            <a:endParaRPr b="0" lang="en-US" sz="2600" spc="-1" strike="noStrike">
              <a:solidFill>
                <a:srgbClr val="000000"/>
              </a:solidFill>
              <a:latin typeface="Calibri"/>
            </a:endParaRPr>
          </a:p>
        </p:txBody>
      </p:sp>
      <p:sp>
        <p:nvSpPr>
          <p:cNvPr id="3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562DF-3AC4-4DFC-A42F-1227897C82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7" name="PlaceHolder 2"/>
          <p:cNvSpPr>
            <a:spLocks noGrp="1"/>
          </p:cNvSpPr>
          <p:nvPr>
            <p:ph/>
          </p:nvPr>
        </p:nvSpPr>
        <p:spPr>
          <a:xfrm>
            <a:off x="457200" y="2063880"/>
            <a:ext cx="8229600" cy="330984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ma Parte poderá reservar-se o direito de não impor responsabilidade penal nos termos dos parágrafos 1 e 2 deste artigo em circunstâncias limitadas, desde que outras medidas efetivas estejam disponíveis e que tal reserva não derrogue as obrigações internacionais da Parte estabelecidas nos instrumentos internacionais referidos nos parágrafos 1 e 2 deste artigo.</a:t>
            </a:r>
            <a:endParaRPr b="0" lang="en-US" sz="2600" spc="-1" strike="noStrike">
              <a:solidFill>
                <a:srgbClr val="000000"/>
              </a:solidFill>
              <a:latin typeface="Calibri"/>
            </a:endParaRPr>
          </a:p>
        </p:txBody>
      </p:sp>
      <p:sp>
        <p:nvSpPr>
          <p:cNvPr id="3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085F60-9387-4AC1-8202-C1EBA65F19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80" name="PlaceHolder 2"/>
          <p:cNvSpPr>
            <a:spLocks noGrp="1"/>
          </p:cNvSpPr>
          <p:nvPr>
            <p:ph/>
          </p:nvPr>
        </p:nvSpPr>
        <p:spPr>
          <a:xfrm>
            <a:off x="442800" y="1628640"/>
            <a:ext cx="8229600" cy="4525920"/>
          </a:xfrm>
          <a:prstGeom prst="rect">
            <a:avLst/>
          </a:prstGeom>
          <a:noFill/>
          <a:ln w="0">
            <a:noFill/>
          </a:ln>
        </p:spPr>
        <p:txBody>
          <a:bodyPr anchor="t">
            <a:normAutofit/>
          </a:bodyPr>
          <a:p>
            <a:pPr marL="514440" indent="-514440" algn="just">
              <a:spcBef>
                <a:spcPts val="4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ada Parte adotará as medidas legislativas e outras que sejam necessárias para estabelecer como infração penal na sua lei nacional a </a:t>
            </a:r>
            <a:r>
              <a:rPr b="1" lang="en-US" sz="2800" spc="-1" strike="noStrike">
                <a:solidFill>
                  <a:srgbClr val="ff0000"/>
                </a:solidFill>
                <a:latin typeface="Calibri"/>
              </a:rPr>
              <a:t>violação dos direitos de autor</a:t>
            </a:r>
            <a:r>
              <a:rPr b="0" lang="en-US" sz="2000" spc="-1" strike="noStrike">
                <a:solidFill>
                  <a:srgbClr val="000000"/>
                </a:solidFill>
                <a:latin typeface="Calibri"/>
              </a:rPr>
              <a:t>, conforme definido na legislação dessa Parte nos termos das obrigações que assumiu ao abrigo do Acordo de Paris de 24 de julho de 1971 da Convenção de Berna para a Proteção de Obras Literárias e Artísticas, o Acordo sobre Aspetos dos Direitos de Propriedade Intelectual Relacionados com Comércio e o Tratado da OMPI sobre Direitos de Autor, </a:t>
            </a:r>
            <a:r>
              <a:rPr b="1" lang="en-US" sz="2800" spc="-1" strike="noStrike">
                <a:solidFill>
                  <a:srgbClr val="ff0000"/>
                </a:solidFill>
                <a:latin typeface="Calibri"/>
              </a:rPr>
              <a:t>com exceção de quaisquer direitos morais</a:t>
            </a:r>
            <a:r>
              <a:rPr b="1" lang="en-US" sz="2800" spc="-1" strike="noStrike">
                <a:solidFill>
                  <a:srgbClr val="000000"/>
                </a:solidFill>
                <a:latin typeface="Calibri"/>
              </a:rPr>
              <a:t> </a:t>
            </a:r>
            <a:r>
              <a:rPr b="0" lang="en-US" sz="2000" spc="-1" strike="noStrike">
                <a:solidFill>
                  <a:srgbClr val="000000"/>
                </a:solidFill>
                <a:latin typeface="Calibri"/>
              </a:rPr>
              <a:t>conferidos por tais Convenções, quando este atos são cometidos </a:t>
            </a:r>
            <a:r>
              <a:rPr b="1" lang="en-US" sz="2800" spc="-1" strike="noStrike">
                <a:solidFill>
                  <a:srgbClr val="ff0000"/>
                </a:solidFill>
                <a:latin typeface="Calibri"/>
              </a:rPr>
              <a:t>intencionalmente</a:t>
            </a:r>
            <a:r>
              <a:rPr b="0" lang="en-US" sz="2000" spc="-1" strike="noStrike">
                <a:solidFill>
                  <a:srgbClr val="000000"/>
                </a:solidFill>
                <a:latin typeface="Calibri"/>
              </a:rPr>
              <a:t>, a uma escala comercial e</a:t>
            </a:r>
            <a:r>
              <a:rPr b="1" lang="en-US" sz="2800" spc="-1" strike="noStrike">
                <a:solidFill>
                  <a:srgbClr val="ff0000"/>
                </a:solidFill>
                <a:latin typeface="Calibri"/>
              </a:rPr>
              <a:t> por meio de um sistema informático</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3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754A2D7-6B07-4D1A-8BBD-36FBE3AEAC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cesso</a:t>
            </a:r>
            <a:endParaRPr b="0" lang="en-US" sz="4400" spc="-1" strike="noStrike">
              <a:solidFill>
                <a:srgbClr val="000000"/>
              </a:solidFill>
              <a:latin typeface="Calibri"/>
            </a:endParaRPr>
          </a:p>
        </p:txBody>
      </p:sp>
      <p:sp>
        <p:nvSpPr>
          <p:cNvPr id="85" name="PlaceHolder 2"/>
          <p:cNvSpPr>
            <a:spLocks noGrp="1"/>
          </p:cNvSpPr>
          <p:nvPr>
            <p:ph/>
          </p:nvPr>
        </p:nvSpPr>
        <p:spPr>
          <a:xfrm>
            <a:off x="457200" y="1501560"/>
            <a:ext cx="8229600" cy="5074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 acesso é entrar no todo ou parte do sistema informático</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clui a entrada de outro sistema informático:</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Quando está ligado via rede pública de telecomunicaçõ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ara um sistema informático na mesma rede (LAN ou Intranet dentro de uma organização) </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Não inclui o simples envio de mensagem de e-mail ou ficheiro para o sistema informático</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 método de comunicação com o sistema informático não importa (seja de distância através de ligações sem fio, ou a uma curta distância)</a:t>
            </a:r>
            <a:endParaRPr b="0" lang="en-US" sz="2800" spc="-1" strike="noStrike">
              <a:solidFill>
                <a:srgbClr val="000000"/>
              </a:solidFill>
              <a:latin typeface="Calibri"/>
            </a:endParaRPr>
          </a:p>
        </p:txBody>
      </p:sp>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B859DE5-4217-4264-B39B-5CD8345619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iolação de direitos de autor</a:t>
            </a:r>
            <a:endParaRPr b="0" lang="en-US" sz="4400" spc="-1" strike="noStrike">
              <a:solidFill>
                <a:srgbClr val="000000"/>
              </a:solidFill>
              <a:latin typeface="Calibri"/>
            </a:endParaRPr>
          </a:p>
        </p:txBody>
      </p:sp>
      <p:sp>
        <p:nvSpPr>
          <p:cNvPr id="383" name=""/>
          <p:cNvSpPr txBox="1"/>
          <p:nvPr/>
        </p:nvSpPr>
        <p:spPr>
          <a:xfrm>
            <a:off x="279360" y="1719360"/>
            <a:ext cx="8547120" cy="4525920"/>
          </a:xfrm>
          <a:prstGeom prst="rect">
            <a:avLst/>
          </a:prstGeom>
          <a:noFill/>
          <a:ln w="0">
            <a:noFill/>
          </a:ln>
        </p:spPr>
        <p:txBody>
          <a:bodyPr anchor="t">
            <a:normAutofit fontScale="92000"/>
          </a:bodyPr>
          <a:p>
            <a:pPr marL="315360" indent="-3153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rigação de criminalizar a violação de direitos de autor</a:t>
            </a:r>
            <a:endParaRPr b="0" lang="en-US" sz="3000" spc="-1" strike="noStrike">
              <a:solidFill>
                <a:srgbClr val="000000"/>
              </a:solidFill>
              <a:latin typeface="Calibri"/>
            </a:endParaRPr>
          </a:p>
          <a:p>
            <a:pPr marL="315360" indent="-3153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15360" indent="-3153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obrigação não se estende à criminalização dos direitos morais, como em:</a:t>
            </a:r>
            <a:endParaRPr b="0" lang="en-US" sz="3000" spc="-1" strike="noStrike">
              <a:solidFill>
                <a:srgbClr val="000000"/>
              </a:solidFill>
              <a:latin typeface="Calibri"/>
            </a:endParaRPr>
          </a:p>
          <a:p>
            <a:pPr lvl="1" marL="683280" indent="-2628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igo 6.º bis da Convenção de Berna</a:t>
            </a:r>
            <a:endParaRPr b="0" lang="en-US" sz="2600" spc="-1" strike="noStrike">
              <a:solidFill>
                <a:srgbClr val="000000"/>
              </a:solidFill>
              <a:latin typeface="Calibri"/>
            </a:endParaRPr>
          </a:p>
          <a:p>
            <a:pPr lvl="1" marL="683280" indent="-2628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igo 5.º do Tratado da OMPI</a:t>
            </a:r>
            <a:endParaRPr b="0" lang="en-US" sz="2600" spc="-1" strike="noStrike">
              <a:solidFill>
                <a:srgbClr val="000000"/>
              </a:solidFill>
              <a:latin typeface="Calibri"/>
            </a:endParaRPr>
          </a:p>
          <a:p>
            <a:pPr marL="315360" indent="-3153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15360" indent="-3153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 infrações de direitos de autor devem ser cometidas intencionalmente </a:t>
            </a:r>
            <a:endParaRPr b="0" lang="en-US" sz="3000" spc="-1" strike="noStrike">
              <a:solidFill>
                <a:srgbClr val="000000"/>
              </a:solidFill>
              <a:latin typeface="Calibri"/>
            </a:endParaRPr>
          </a:p>
        </p:txBody>
      </p:sp>
      <p:sp>
        <p:nvSpPr>
          <p:cNvPr id="3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3A2C59C-08D9-488F-B41A-C632966F5E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86" name="PlaceHolder 2"/>
          <p:cNvSpPr>
            <a:spLocks noGrp="1"/>
          </p:cNvSpPr>
          <p:nvPr>
            <p:ph/>
          </p:nvPr>
        </p:nvSpPr>
        <p:spPr>
          <a:xfrm>
            <a:off x="457200" y="196524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tará as medidas legislativas e outras que sejam necessárias para estabelecer como infração penal na sua lei nacional a violação dos direitos de autor, conforme definido na legislação dessa Parte nos termos das obrigações que assumiu ao abrigo do Acordo de Paris de 24 de julho de 1971 da Convenção de Berna para a Proteção de Obras Literárias e Artísticas, o Acordo sobre Aspetos dos Direitos de Propriedade Intelectual Relacionados com Comércio e o Tratado da OMPI sobre Direitos de Autor, com exceção de quaisquer direitos morais conferidos por tais Convenções, quando este atos são cometidos intencionalmente, a uma </a:t>
            </a:r>
            <a:r>
              <a:rPr b="1" lang="en-US" sz="3200" spc="-1" strike="noStrike">
                <a:solidFill>
                  <a:srgbClr val="ff0000"/>
                </a:solidFill>
                <a:latin typeface="Calibri"/>
              </a:rPr>
              <a:t>escala comercial</a:t>
            </a:r>
            <a:r>
              <a:rPr b="0" lang="en-US" sz="3200" spc="-1" strike="noStrike">
                <a:solidFill>
                  <a:srgbClr val="000000"/>
                </a:solidFill>
                <a:latin typeface="Calibri"/>
              </a:rPr>
              <a:t> </a:t>
            </a:r>
            <a:r>
              <a:rPr b="0" lang="en-US" sz="2400" spc="-1" strike="noStrike">
                <a:solidFill>
                  <a:srgbClr val="000000"/>
                </a:solidFill>
                <a:latin typeface="Calibri"/>
              </a:rPr>
              <a:t>e por meio de um sistema informático.</a:t>
            </a:r>
            <a:endParaRPr b="0" lang="en-US" sz="2400" spc="-1" strike="noStrike">
              <a:solidFill>
                <a:srgbClr val="000000"/>
              </a:solidFill>
              <a:latin typeface="Calibri"/>
            </a:endParaRPr>
          </a:p>
        </p:txBody>
      </p:sp>
      <p:sp>
        <p:nvSpPr>
          <p:cNvPr id="3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67E1F24-A64D-4519-8E83-05FFFBA98E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cala comercial</a:t>
            </a:r>
            <a:endParaRPr b="0" lang="en-US" sz="4400" spc="-1" strike="noStrike">
              <a:solidFill>
                <a:srgbClr val="000000"/>
              </a:solidFill>
              <a:latin typeface="Calibri"/>
            </a:endParaRPr>
          </a:p>
        </p:txBody>
      </p:sp>
      <p:sp>
        <p:nvSpPr>
          <p:cNvPr id="389"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m conformidade com o Artigo 61.º do Acordo TRIP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ida com a pirataria em escala comercial</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 partes podem ir além do limite da pirataria em escala comercial e criminalizar outras instâncias de violação de direitos de autor </a:t>
            </a:r>
            <a:endParaRPr b="0" lang="en-US" sz="3000" spc="-1" strike="noStrike">
              <a:solidFill>
                <a:srgbClr val="000000"/>
              </a:solidFill>
              <a:latin typeface="Calibri"/>
            </a:endParaRPr>
          </a:p>
        </p:txBody>
      </p:sp>
      <p:sp>
        <p:nvSpPr>
          <p:cNvPr id="3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8DDB14F-CC0A-4198-98AB-4A764FCFF4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457200" y="428760"/>
            <a:ext cx="8229600" cy="5689440"/>
          </a:xfrm>
          <a:prstGeom prst="rect">
            <a:avLst/>
          </a:prstGeom>
          <a:noFill/>
          <a:ln w="0">
            <a:noFill/>
          </a:ln>
        </p:spPr>
        <p:txBody>
          <a:bodyPr anchor="t">
            <a:normAutofit fontScale="97000"/>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sponsabilidade e sanções acessórias </a:t>
            </a:r>
            <a:endParaRPr b="0" lang="en-US" sz="4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unição de auxílio e cumplicidade</a:t>
            </a:r>
            <a:endParaRPr b="0" lang="en-US" sz="2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igo 11 </a:t>
            </a:r>
            <a:endParaRPr b="0" lang="en-US" sz="2400" spc="-1" strike="noStrike">
              <a:solidFill>
                <a:srgbClr val="000000"/>
              </a:solidFill>
              <a:latin typeface="Calibri"/>
            </a:endParaRPr>
          </a:p>
          <a:p>
            <a:pPr lvl="2" marL="1108440" indent="-221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tos de auxílio e cumplicidade que todas as Partes da Convenção devem considerar na lei nacional</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 maioria das leis nacionais já considera este ponto de vista</a:t>
            </a:r>
            <a:endParaRPr b="0" lang="en-US" sz="2000" spc="-1" strike="noStrike">
              <a:solidFill>
                <a:srgbClr val="000000"/>
              </a:solidFill>
              <a:latin typeface="Calibri"/>
            </a:endParaRPr>
          </a:p>
          <a:p>
            <a:pPr lvl="2" marL="1108440" indent="0">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sponsabilidade criminal de entidades jurídicas</a:t>
            </a:r>
            <a:endParaRPr b="0" lang="en-US" sz="2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igo 12 </a:t>
            </a:r>
            <a:endParaRPr b="0" lang="en-US" sz="2400" spc="-1" strike="noStrike">
              <a:solidFill>
                <a:srgbClr val="000000"/>
              </a:solidFill>
              <a:latin typeface="Calibri"/>
            </a:endParaRPr>
          </a:p>
          <a:p>
            <a:pPr lvl="2" marL="1108440" indent="-221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xige de todas as Partes a criminalização de atos de entidades jurídicas</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na União Europeia, a criminalização de atos de entidades jurídicas é também uma questão importante</a:t>
            </a:r>
            <a:endParaRPr b="0" lang="en-US" sz="2000" spc="-1" strike="noStrike">
              <a:solidFill>
                <a:srgbClr val="000000"/>
              </a:solidFill>
              <a:latin typeface="Calibri"/>
            </a:endParaRPr>
          </a:p>
        </p:txBody>
      </p:sp>
      <p:sp>
        <p:nvSpPr>
          <p:cNvPr id="3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2F61D9-5721-48E2-B2D1-07A6935B6D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457200" y="126216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sponsabilidade criminal de empresas e outras entidades jurídicas</a:t>
            </a:r>
            <a:endParaRPr b="0" lang="en-US" sz="3200" spc="-1" strike="noStrike">
              <a:solidFill>
                <a:srgbClr val="000000"/>
              </a:solidFill>
              <a:latin typeface="Calibri"/>
            </a:endParaRPr>
          </a:p>
          <a:p>
            <a:pPr marL="33264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r atos criminosos dos seus órgãos representativos</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indo sobre a sua representação e interesse</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ém disso, a responsabilidade das entidades jurídicas ocorre também no caso de</a:t>
            </a:r>
            <a:endParaRPr b="0" lang="en-US" sz="2800" spc="-1" strike="noStrike">
              <a:solidFill>
                <a:srgbClr val="000000"/>
              </a:solidFill>
              <a:latin typeface="Calibri"/>
            </a:endParaRPr>
          </a:p>
          <a:p>
            <a:pPr lvl="2" marL="1108440" indent="-2214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alta de supervisão ou controlo de um representante legal da empresa ou outra entidade jurídica sobre alguém sob sua supervisão </a:t>
            </a:r>
            <a:endParaRPr b="0" lang="en-US" sz="2400" spc="-1" strike="noStrike">
              <a:solidFill>
                <a:srgbClr val="000000"/>
              </a:solidFill>
              <a:latin typeface="Calibri"/>
            </a:endParaRPr>
          </a:p>
        </p:txBody>
      </p:sp>
      <p:sp>
        <p:nvSpPr>
          <p:cNvPr id="3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F6BFAF-9DDA-4B23-8D52-BC60D886AD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6"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3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44FC68-58F4-4C8F-B415-196072E7FB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te dois</a:t>
            </a:r>
            <a:br>
              <a:rPr sz="3200"/>
            </a:br>
            <a:r>
              <a:rPr b="1" lang="en-US" sz="3200" spc="-1" strike="noStrike">
                <a:solidFill>
                  <a:srgbClr val="000000"/>
                </a:solidFill>
                <a:latin typeface="Calibri"/>
              </a:rPr>
              <a:t>Estudos de caso</a:t>
            </a:r>
            <a:endParaRPr b="0" lang="en-US" sz="3200" spc="-1" strike="noStrike">
              <a:solidFill>
                <a:srgbClr val="000000"/>
              </a:solidFill>
              <a:latin typeface="Calibri"/>
            </a:endParaRPr>
          </a:p>
        </p:txBody>
      </p:sp>
      <p:pic>
        <p:nvPicPr>
          <p:cNvPr id="399" name="Picture 3" descr=""/>
          <p:cNvPicPr/>
          <p:nvPr/>
        </p:nvPicPr>
        <p:blipFill>
          <a:blip r:embed="rId1"/>
          <a:stretch/>
        </p:blipFill>
        <p:spPr>
          <a:xfrm>
            <a:off x="6786720" y="4643280"/>
            <a:ext cx="1962000" cy="1766880"/>
          </a:xfrm>
          <a:prstGeom prst="rect">
            <a:avLst/>
          </a:prstGeom>
          <a:ln w="0">
            <a:noFill/>
          </a:ln>
        </p:spPr>
      </p:pic>
      <p:sp>
        <p:nvSpPr>
          <p:cNvPr id="40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26C51-25F8-4A94-99B6-C72E3C53D7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1 </a:t>
            </a:r>
            <a:endParaRPr b="0" lang="en-US" sz="4400" spc="-1" strike="noStrike">
              <a:solidFill>
                <a:srgbClr val="000000"/>
              </a:solidFill>
              <a:latin typeface="Calibri"/>
            </a:endParaRPr>
          </a:p>
        </p:txBody>
      </p:sp>
      <p:sp>
        <p:nvSpPr>
          <p:cNvPr id="402" name=""/>
          <p:cNvSpPr txBox="1"/>
          <p:nvPr/>
        </p:nvSpPr>
        <p:spPr>
          <a:xfrm>
            <a:off x="456840" y="1135080"/>
            <a:ext cx="8513640" cy="5494320"/>
          </a:xfrm>
          <a:prstGeom prst="rect">
            <a:avLst/>
          </a:prstGeom>
          <a:noFill/>
          <a:ln w="0">
            <a:noFill/>
          </a:ln>
        </p:spPr>
        <p:txBody>
          <a:bodyPr anchor="t">
            <a:normAutofit fontScale="95000"/>
          </a:bodyPr>
          <a:p>
            <a:pPr marL="2880" indent="-2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ctos/cenário</a:t>
            </a:r>
            <a:endParaRPr b="0" lang="en-US" sz="28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mille é estudante de uma Faculdade Europeia de Engenharia Elétrica e Ciência da Computação que decidiu escrever um artigo sobre o tema da segurança de sistemas e redes informáticos. Ela invadiu os sistemas informáticos de vários governos na África. Sempre que ela encontrou um buraco no sistema de TI, ela deixou uma mensagem ao administrador: Eu sou Camille, estudante na faculdade yy e estou a escrever uma tese sobre a segurança dos sistemas informáticos e redes e para os fins deste artigo eu revelo as fraquezas dos sistemas informáticos e redes, aqui tem uma falha de segurança, saudações. O mais recente sistema de TI que ela invadiu foi o sistema de informações do Ministério da Administração Interna do seu país.</a:t>
            </a:r>
            <a:endParaRPr b="0" lang="en-US" sz="24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i="1" lang="en-US" sz="2400" spc="-1" strike="noStrike">
                <a:solidFill>
                  <a:srgbClr val="000000"/>
                </a:solidFill>
                <a:latin typeface="Calibri"/>
              </a:rPr>
              <a:t>Isto é uma ofensa criminosa no seu país e se sim – qual; quais são os elementos constitutivos dessa ofensa?</a:t>
            </a:r>
            <a:endParaRPr b="0" lang="en-US" sz="24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2" marL="1085760" indent="-217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95E796-8C49-4E2D-A344-8BAC30DE85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2</a:t>
            </a:r>
            <a:endParaRPr b="0" lang="en-US" sz="4400" spc="-1" strike="noStrike">
              <a:solidFill>
                <a:srgbClr val="000000"/>
              </a:solidFill>
              <a:latin typeface="Calibri"/>
            </a:endParaRPr>
          </a:p>
        </p:txBody>
      </p:sp>
      <p:sp>
        <p:nvSpPr>
          <p:cNvPr id="405" name=""/>
          <p:cNvSpPr txBox="1"/>
          <p:nvPr/>
        </p:nvSpPr>
        <p:spPr>
          <a:xfrm>
            <a:off x="457200" y="1238400"/>
            <a:ext cx="8229600" cy="5101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a:t>
            </a:r>
            <a:endParaRPr b="0" lang="en-US" sz="32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ma pessoa utilizou o nome de utilizador e a palavra-passe de outra pessoa (sem autorização - portanto, sem direito) para aceder ao sistema informático da empresa e fez uma cópia dos mapas digitais num disco removível e, em seguida, eliminou os mapas digitais no disco rígido.</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De acordo com a legislação nacional do seu país - Que ofensas devem ser consideradas?</a:t>
            </a:r>
            <a:endParaRPr b="0" lang="en-US" sz="2400" spc="-1" strike="noStrike">
              <a:solidFill>
                <a:srgbClr val="000000"/>
              </a:solidFill>
              <a:latin typeface="Calibri"/>
            </a:endParaRPr>
          </a:p>
        </p:txBody>
      </p:sp>
      <p:sp>
        <p:nvSpPr>
          <p:cNvPr id="4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191AF-9DE2-4345-BFC5-3BE02CC0B3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 diretor de um call center, que não está satisfeito com o não pagamento dos salários, introduziu a palavra-passe de BIOS num programa de computador do sistema e alterou o código de acesso no sistema operativo, palavras-passe que permaneceram conhecidas apenas para ele e, dessa forma, desativou a utilização do sistema informático.</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Que ofensa criminal é este caso no seu país?</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O autor tem ou não tem o direito de alterar uma palavra-passe - e este é o facto que é o mais importante para definir a ofensa de acordo com a legislação nacional?</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Que ofensas são consideráveis?</a:t>
            </a:r>
            <a:endParaRPr b="0" lang="en-US" sz="2400" spc="-1" strike="noStrike">
              <a:solidFill>
                <a:srgbClr val="000000"/>
              </a:solidFill>
              <a:latin typeface="Calibri"/>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3</a:t>
            </a:r>
            <a:endParaRPr b="0" lang="en-US" sz="4400" spc="-1" strike="noStrike">
              <a:solidFill>
                <a:srgbClr val="000000"/>
              </a:solidFill>
              <a:latin typeface="Calibri"/>
            </a:endParaRPr>
          </a:p>
        </p:txBody>
      </p:sp>
      <p:sp>
        <p:nvSpPr>
          <p:cNvPr id="4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4E2513-02FA-436C-AA0C-8E5D817891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cesso ao </a:t>
            </a:r>
            <a:r>
              <a:rPr b="1" lang="en-US" sz="4000" spc="-1" strike="noStrike">
                <a:solidFill>
                  <a:srgbClr val="ff0000"/>
                </a:solidFill>
                <a:latin typeface="Calibri"/>
                <a:ea typeface="Times New Roman"/>
              </a:rPr>
              <a:t>todo ou a qualquer parte de um sistema informático</a:t>
            </a:r>
            <a:r>
              <a:rPr b="0" lang="en-US" sz="2800" spc="-1" strike="noStrike">
                <a:solidFill>
                  <a:srgbClr val="000000"/>
                </a:solidFill>
                <a:latin typeface="Calibri"/>
                <a:ea typeface="Times New Roman"/>
              </a:rPr>
              <a:t> sem direito.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2800" spc="-1" strike="noStrike">
              <a:solidFill>
                <a:srgbClr val="000000"/>
              </a:solidFill>
              <a:latin typeface="Calibri"/>
            </a:endParaRPr>
          </a:p>
        </p:txBody>
      </p:sp>
      <p:sp>
        <p:nvSpPr>
          <p:cNvPr id="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04727ED-10AF-4C5E-BFCF-EBF8F3C3D5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17320"/>
            <a:ext cx="8229600" cy="4708440"/>
          </a:xfrm>
          <a:prstGeom prst="rect">
            <a:avLst/>
          </a:prstGeom>
          <a:noFill/>
          <a:ln w="0">
            <a:noFill/>
          </a:ln>
        </p:spPr>
        <p:txBody>
          <a:bodyPr anchor="t">
            <a:normAutofit fontScale="9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X enviado para Y - chefe da empresa "K" - uma mensagem de e-mail com o logótipo "E. Bank", no qual ele afirmou que o Banco utiliza uma nova abordagem para os sites de negócios online e é necessário alterar o software para permitir acesso adicional ao e-banking comercial. A mensagem contida em anexo com o software "Driver", com indicação clara de que precisa ser descarregada. Após a transferência, o programa de computador fornecido registou dados do computador do utilizador (Y) sem o seu conhecimento e o X obteve assim o número PIN e o número de autenticação da transação (TAN). X utilizou o PIN e o TAN adquiridos para confirmar a transação e transferiu 65.000,00 € para a conta bancária de Z, aberta dois dias antes no Banco "P". No escritório do Banco "P", Z afirmou falsamente que recebeu dinheiro da venda do imobiliário. Após o pagamento, X levou 63.000,00 € e Z levou 2.000,00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Num papel de promotor público, acusaria X e Z pela mesma ofensa ou não?</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Que ofensas são consideráveis?</a:t>
            </a:r>
            <a:endParaRPr b="0" lang="en-US" sz="2000" spc="-1" strike="noStrike">
              <a:solidFill>
                <a:srgbClr val="000000"/>
              </a:solidFill>
              <a:latin typeface="Calibri"/>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4</a:t>
            </a:r>
            <a:endParaRPr b="0" lang="en-US" sz="4400" spc="-1" strike="noStrike">
              <a:solidFill>
                <a:srgbClr val="000000"/>
              </a:solidFill>
              <a:latin typeface="Calibri"/>
            </a:endParaRPr>
          </a:p>
        </p:txBody>
      </p:sp>
      <p:sp>
        <p:nvSpPr>
          <p:cNvPr id="4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DE30B-95C8-411A-A467-A03FC18422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 suspeito visitou repetidamente sites pornográficos, incluindo pornografia infantil. Nunca transferiu materiais. Mas o computador estava a armazenar automaticamente estes materiais numa pasta em C:/…, (entre imagens que continham pornografia infantil), sem qualquer conhecimento ou ação do suspeito.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É uma ofensa de posse de pornografia infantil?</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Porquê?</a:t>
            </a:r>
            <a:endParaRPr b="0" lang="en-US" sz="2800" spc="-1" strike="noStrike">
              <a:solidFill>
                <a:srgbClr val="000000"/>
              </a:solidFill>
              <a:latin typeface="Calibri"/>
            </a:endParaRPr>
          </a:p>
        </p:txBody>
      </p:sp>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5</a:t>
            </a:r>
            <a:endParaRPr b="0" lang="en-US" sz="4400" spc="-1" strike="noStrike">
              <a:solidFill>
                <a:srgbClr val="000000"/>
              </a:solidFill>
              <a:latin typeface="Calibri"/>
            </a:endParaRPr>
          </a:p>
        </p:txBody>
      </p:sp>
      <p:sp>
        <p:nvSpPr>
          <p:cNvPr id="4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519B4-D0B0-441B-8FED-601CD94C39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6</a:t>
            </a:r>
            <a:endParaRPr b="0" lang="en-US" sz="4400" spc="-1" strike="noStrike">
              <a:solidFill>
                <a:srgbClr val="000000"/>
              </a:solidFill>
              <a:latin typeface="Calibri"/>
            </a:endParaRPr>
          </a:p>
        </p:txBody>
      </p:sp>
      <p:sp>
        <p:nvSpPr>
          <p:cNvPr id="417" name="PlaceHolder 2"/>
          <p:cNvSpPr>
            <a:spLocks noGrp="1"/>
          </p:cNvSpPr>
          <p:nvPr>
            <p:ph/>
          </p:nvPr>
        </p:nvSpPr>
        <p:spPr>
          <a:xfrm>
            <a:off x="457200" y="1417320"/>
            <a:ext cx="8229600" cy="470844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ctos/cenário</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obby é polícia. Durante uma noite de trabalho vê um Mercedes estacionado à frente da sua casa. Ele não reconhece a viatura, mas suspeita que pertença ao chefe da sua esposa. Ele telefona para a esquadra e pede a Mary, a telefonista, que lhe diga a quem pertence o Mercedes, dizendo que a viatura acabou de passar por um semáforo vermelho. Mary confirma que o veículo realmente pertence ao chefe da sua esposa.</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Bobby cometeu uma ofensa criminal?</a:t>
            </a:r>
            <a:endParaRPr b="0" lang="en-US" sz="2800" spc="-1" strike="noStrike">
              <a:solidFill>
                <a:srgbClr val="000000"/>
              </a:solidFill>
              <a:latin typeface="Calibri"/>
            </a:endParaRPr>
          </a:p>
        </p:txBody>
      </p:sp>
      <p:sp>
        <p:nvSpPr>
          <p:cNvPr id="4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E11A01-5759-420D-AEF6-B49B6BFCCB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7</a:t>
            </a:r>
            <a:endParaRPr b="0" lang="en-US" sz="4400" spc="-1" strike="noStrike">
              <a:solidFill>
                <a:srgbClr val="000000"/>
              </a:solidFill>
              <a:latin typeface="Calibri"/>
            </a:endParaRPr>
          </a:p>
        </p:txBody>
      </p:sp>
      <p:sp>
        <p:nvSpPr>
          <p:cNvPr id="420" name="PlaceHolder 2"/>
          <p:cNvSpPr>
            <a:spLocks noGrp="1"/>
          </p:cNvSpPr>
          <p:nvPr>
            <p:ph/>
          </p:nvPr>
        </p:nvSpPr>
        <p:spPr>
          <a:xfrm>
            <a:off x="457200" y="1417320"/>
            <a:ext cx="8229600" cy="4708440"/>
          </a:xfrm>
          <a:prstGeom prst="rect">
            <a:avLst/>
          </a:prstGeom>
          <a:noFill/>
          <a:ln w="0">
            <a:noFill/>
          </a:ln>
        </p:spPr>
        <p:txBody>
          <a:bodyPr anchor="t">
            <a:normAutofit fontScale="98000"/>
          </a:bodyPr>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Factos/cenário</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m segurança num banco é abordado por um grupo de criminosos que pedem-lhe para colocar um dispositivo conhecido como key logger na parte de trás de vários terminais no banco. O key logger regista as combinações de teclas do utilizador e captura palavras-passe e outras informações que permitiriam que alguém que tivesse acesso ao terminal iniciando sessão nas contas de utilizador da equipa do banc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ma funcionalidade adicional do dispositivo key logger é permitir gravar chamadas telefónicas Skype feitas pelo utilizador do terminal.</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Os criminosos também colocaram um bug na mesa que gravou som, incluindo todos os telefonemas feitos e recebidos pelo utilizador do terminal.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Houve uma interceção ilegal?</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2694B-90E2-4CC4-89DC-F5449A6719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8</a:t>
            </a:r>
            <a:endParaRPr b="0" lang="en-US" sz="4400" spc="-1" strike="noStrike">
              <a:solidFill>
                <a:srgbClr val="000000"/>
              </a:solidFill>
              <a:latin typeface="Calibri"/>
            </a:endParaRPr>
          </a:p>
        </p:txBody>
      </p:sp>
      <p:sp>
        <p:nvSpPr>
          <p:cNvPr id="423" name="PlaceHolder 2"/>
          <p:cNvSpPr>
            <a:spLocks noGrp="1"/>
          </p:cNvSpPr>
          <p:nvPr>
            <p:ph/>
          </p:nvPr>
        </p:nvSpPr>
        <p:spPr>
          <a:xfrm>
            <a:off x="457200" y="1417320"/>
            <a:ext cx="8229600" cy="492444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m gangue criminoso comunica utilizando um sistema de e-mails com base na Web que pode ser acedido pela Internet em qualquer lugar do mundo. Em vez de enviar mensagens recíprocas que possam ser intercetadas pela polícia ou que possam incriminá-los se encontradas nos seus computadores, elas utilizam um sistema de "carta morta". O que eles fazem é escrever a mensagem como rascunho e nunca enviarem, os outros membros do gangue têm a palavra-passe do mail que lhes permite aceder à conta e ler e responder à mensagem.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Se a polícia conseguisse aceder ao rascunho da caixa de e-mail, isso seria equivalente a uma interceçã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67C25-C96F-4A79-B373-80B7512C0C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9</a:t>
            </a: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cená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 agente Bobby pegou no telefone da sua esposa, adivinhou a sua palavra-passe e escutou uma mensagem de voz armazenada que ela ainda não tinha ouvid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Isto é uma interceção?</a:t>
            </a:r>
            <a:endParaRPr b="0" lang="en-US" sz="3200" spc="-1" strike="noStrike">
              <a:solidFill>
                <a:srgbClr val="000000"/>
              </a:solidFill>
              <a:latin typeface="Calibri"/>
            </a:endParaRPr>
          </a:p>
        </p:txBody>
      </p:sp>
      <p:sp>
        <p:nvSpPr>
          <p:cNvPr id="4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2A5C5B-3F88-4553-86D9-6B40705B8A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0</a:t>
            </a: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stá interessado em OVNIs e acredita que o governo russo detetou uma nave alienígena que pousou na Sibéria no início do século XX. Ele visita um site de recrutamento militar russo que tem uma hiperligação para um site operado pela Força Aérea Russa. O site da Força Aérea requer uma palavra-passe, mas utilizando uma ferramenta de decifragem de palavras-passe, ele consegue obter acesso. Ele passa algum tempo a explorar o sistema e copia vários ficheiros. Ele também tenta eliminar todos os ficheiros de registo da sua atividade de modo a impedir os Russos de o identificarem. Em seguida, ele altera a página inicial do site e altera a imagem para um OVNI em vez da insígnia da Força Aérea.</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eu uma ofensa?</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4BD24A-D59F-4B40-84AF-220CE9B45B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1</a:t>
            </a:r>
            <a:endParaRPr b="0" lang="en-US" sz="4400" spc="-1" strike="noStrike">
              <a:solidFill>
                <a:srgbClr val="000000"/>
              </a:solidFill>
              <a:latin typeface="Calibri"/>
            </a:endParaRPr>
          </a:p>
        </p:txBody>
      </p:sp>
      <p:sp>
        <p:nvSpPr>
          <p:cNvPr id="432" name="PlaceHolder 2"/>
          <p:cNvSpPr>
            <a:spLocks noGrp="1"/>
          </p:cNvSpPr>
          <p:nvPr>
            <p:ph/>
          </p:nvPr>
        </p:nvSpPr>
        <p:spPr>
          <a:xfrm>
            <a:off x="457200" y="1417680"/>
            <a:ext cx="8229600" cy="4968720"/>
          </a:xfrm>
          <a:prstGeom prst="rect">
            <a:avLst/>
          </a:prstGeom>
          <a:noFill/>
          <a:ln w="0">
            <a:noFill/>
          </a:ln>
        </p:spPr>
        <p:txBody>
          <a:bodyPr anchor="t">
            <a:normAutofit fontScale="9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m programa automatizado de e-mail de spam envia e-mails não solicitados para milhares de utilizadores em todo o mundo, todos os dias. Se o e-mail for aberto, irá transferir software para a máquina do utilizador. O software não faz nada que afete a execução do computador do utilizador, ele não adquire dados informáticos do utilizador, nem elimina nenhum dado ou causa qualquer outro tipo de dano, entretanto significa que o computador do utilizador é agora um "Zombie" que faz parte de um "Botnet" que o "controlador de bots" pode utilizar para realizar vários tipos de atividade.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A infração ao Artigo 4 ou 5 da Convenção de Budapeste foi cometida por uma pessoa responsável pelo envio do spam?</a:t>
            </a:r>
            <a:endParaRPr b="0" lang="en-US" sz="2400" spc="-1" strike="noStrike">
              <a:solidFill>
                <a:srgbClr val="000000"/>
              </a:solidFill>
              <a:latin typeface="Calibri"/>
            </a:endParaRPr>
          </a:p>
        </p:txBody>
      </p:sp>
      <p:sp>
        <p:nvSpPr>
          <p:cNvPr id="4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00C19-85F9-4AD0-BFBE-B39BE346EB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2</a:t>
            </a: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é um ex-policia que foi demitido por utilização indevida do sistema informático da polícia. Ele decide voltar para o departamento da polícia. Ele utiliza um programa de e-mail que lhe permite enviar 70.000 e-mails por hora para o seu antigo departamento. Ele altera o cabeçalho do e-mail para parecer que veio do chefe oficial da polícia, enganando o servidor de e-mail da polícia e acreditando que veio de uma fonte legítima. O servidor da polícia não conseguiu lidar com o volume de tráfego e entrou em colaps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Isto é uma ofensa de interferência do sistema?</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3DFB4-0182-4B4E-B91D-444A93EB37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3</a:t>
            </a: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nvia um e-mail à sua esposa afastada no seu local de trabalho. Ele altera o cabeçalho para fazer parecer que veio de um dos seus amigos. O e-mail contém um programa chamado "aceder a todas as áreas" que permite ao Bobby assumir o controlo do computador da sua esposa.  Antes de Bobby ter hipótese de utilizar o programa, a sua presença é detetada pelo administrador do sistema, que desliga o sistema para realizar uma avaliação da extensão da intrusão.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eu uma ofensa contrária ao Artigo 5 da Convenção de Budapeste?</a:t>
            </a:r>
            <a:endParaRPr b="0" lang="en-US" sz="2400" spc="-1" strike="noStrike">
              <a:solidFill>
                <a:srgbClr val="000000"/>
              </a:solidFill>
              <a:latin typeface="Calibri"/>
            </a:endParaRPr>
          </a:p>
        </p:txBody>
      </p:sp>
      <p:sp>
        <p:nvSpPr>
          <p:cNvPr id="4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4289CF-58D0-448A-A835-B99BDD017C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Todo ou parte do sistema informático</a:t>
            </a:r>
            <a:endParaRPr b="0" lang="en-US" sz="4400" spc="-1" strike="noStrike">
              <a:solidFill>
                <a:srgbClr val="000000"/>
              </a:solidFill>
              <a:latin typeface="Calibri"/>
            </a:endParaRPr>
          </a:p>
        </p:txBody>
      </p:sp>
      <p:sp>
        <p:nvSpPr>
          <p:cNvPr id="91" name="PlaceHolder 2"/>
          <p:cNvSpPr>
            <a:spLocks noGrp="1"/>
          </p:cNvSpPr>
          <p:nvPr>
            <p:ph/>
          </p:nvPr>
        </p:nvSpPr>
        <p:spPr>
          <a:xfrm>
            <a:off x="457200" y="1810800"/>
            <a:ext cx="8229600" cy="4519800"/>
          </a:xfrm>
          <a:prstGeom prst="rect">
            <a:avLst/>
          </a:prstGeom>
          <a:noFill/>
          <a:ln w="0">
            <a:noFill/>
          </a:ln>
        </p:spPr>
        <p:txBody>
          <a:bodyPr anchor="t">
            <a:normAutofit fontScale="96000"/>
          </a:bodyPr>
          <a:p>
            <a:pPr marL="329040" indent="-32904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t>
            </a:r>
            <a:r>
              <a:rPr b="1" lang="en-US" sz="3200" spc="-1" strike="noStrike">
                <a:solidFill>
                  <a:srgbClr val="000000"/>
                </a:solidFill>
                <a:latin typeface="Calibri"/>
                <a:ea typeface="Times New Roman"/>
              </a:rPr>
              <a:t>Parte do sistema informático</a:t>
            </a:r>
            <a:r>
              <a:rPr b="0" lang="en-US" sz="3200" spc="-1" strike="noStrike">
                <a:solidFill>
                  <a:srgbClr val="000000"/>
                </a:solidFill>
                <a:latin typeface="Calibri"/>
                <a:ea typeface="Times New Roman"/>
              </a:rPr>
              <a:t>" inclui:</a:t>
            </a:r>
            <a:endParaRPr b="0" lang="en-US" sz="3200" spc="-1" strike="noStrike">
              <a:solidFill>
                <a:srgbClr val="000000"/>
              </a:solidFill>
              <a:latin typeface="Calibri"/>
            </a:endParaRPr>
          </a:p>
          <a:p>
            <a:pPr lvl="1" marL="713160" indent="0" algn="just">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Hardware</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Componentes</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dos armazenados do sistema instalado no sistema informático</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iretórios no sistema informático</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dos de tráfego no sistema informático</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dos relacionados com o conteúdo no sistema informático</a:t>
            </a:r>
            <a:endParaRPr b="0" lang="en-US" sz="2800" spc="-1" strike="noStrike">
              <a:solidFill>
                <a:srgbClr val="000000"/>
              </a:solidFill>
              <a:latin typeface="Calibri"/>
            </a:endParaRPr>
          </a:p>
        </p:txBody>
      </p:sp>
      <p:sp>
        <p:nvSpPr>
          <p:cNvPr id="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CDA9B13-0F63-4BE7-8A36-DE71CD5948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4</a:t>
            </a:r>
            <a:endParaRPr b="0" lang="en-US" sz="4400" spc="-1" strike="noStrike">
              <a:solidFill>
                <a:srgbClr val="000000"/>
              </a:solidFill>
              <a:latin typeface="Calibri"/>
            </a:endParaRPr>
          </a:p>
        </p:txBody>
      </p:sp>
      <p:sp>
        <p:nvSpPr>
          <p:cNvPr id="441" name="PlaceHolder 2"/>
          <p:cNvSpPr>
            <a:spLocks noGrp="1"/>
          </p:cNvSpPr>
          <p:nvPr>
            <p:ph/>
          </p:nvPr>
        </p:nvSpPr>
        <p:spPr>
          <a:xfrm>
            <a:off x="457200" y="953640"/>
            <a:ext cx="8362800" cy="4924440"/>
          </a:xfrm>
          <a:prstGeom prst="rect">
            <a:avLst/>
          </a:prstGeom>
          <a:noFill/>
          <a:ln w="0">
            <a:noFill/>
          </a:ln>
        </p:spPr>
        <p:txBody>
          <a:bodyPr anchor="t">
            <a:normAutofit fontScale="96000"/>
          </a:bodyPr>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Factos/cenári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m grupo online de "hacktivistas" que está a protestar contra a utilização de animais para testar cosméticos provoca ataques de "Negação de Serviço Distribuído" (DDOS) contra sites de empresas de cosméticos e revistas de glamour.  Através de seu site, o grupo distribui software que denominam "Supergun", que permite ao grupo coordenar ataques a sites e, assim, maximizar a quantidade de procura de tráfego para aceder ao site num determinado momento. O software "Supergun" foi originalmente desenvolvido como uma ferramenta pelos administradores de sistemas para testar a segurança dos seus sistemas. No entanto, apesar do software ainda funcionar exatamente da mesma maneira, a interface do utilizador ficou muito mais fácil de utilizar e agora possui o logótipo do grup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É uma ofensa tornar o Supergun disponível para transferir?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É uma ofensa estar na posse do Supergun?</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6012D5-7A26-4DC5-8C94-EDDED0472F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5</a:t>
            </a:r>
            <a:endParaRPr b="0" lang="en-US" sz="4400" spc="-1" strike="noStrike">
              <a:solidFill>
                <a:srgbClr val="000000"/>
              </a:solidFill>
              <a:latin typeface="Calibri"/>
            </a:endParaRPr>
          </a:p>
        </p:txBody>
      </p:sp>
      <p:sp>
        <p:nvSpPr>
          <p:cNvPr id="444" name="PlaceHolder 2"/>
          <p:cNvSpPr>
            <a:spLocks noGrp="1"/>
          </p:cNvSpPr>
          <p:nvPr>
            <p:ph/>
          </p:nvPr>
        </p:nvSpPr>
        <p:spPr>
          <a:xfrm>
            <a:off x="457200" y="1298520"/>
            <a:ext cx="8229600" cy="4525920"/>
          </a:xfrm>
          <a:prstGeom prst="rect">
            <a:avLst/>
          </a:prstGeom>
          <a:noFill/>
          <a:ln w="0">
            <a:noFill/>
          </a:ln>
        </p:spPr>
        <p:txBody>
          <a:bodyPr anchor="t">
            <a:normAutofit fontScale="8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m prestador de software produziu um software de encriptação. O software divide o conteúdo do disco rígido em dois volumes, cada um requer uma palavra-passe para aceder, no entanto, apenas um volume é visível para o utilizador comum e a existência do volume oculto não pode ser detetada utilizando software forense que esteja atualmente disponível.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fabricante alega que este software seria útil para qualquer um que pudesse se encontrar numa situação em que estivesse sob coação para revelar a sua palavra-passe. Isso significaria que os dados no volume oculto podem ser mantidos seguros, mesmo que eles divulguem a palavra-passe para uma pasta visível.</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O fornecedor deste software cometeu uma ofensa criminal?</a:t>
            </a:r>
            <a:endParaRPr b="0" lang="en-US" sz="2400" spc="-1" strike="noStrike">
              <a:solidFill>
                <a:srgbClr val="000000"/>
              </a:solidFill>
              <a:latin typeface="Calibri"/>
            </a:endParaRPr>
          </a:p>
        </p:txBody>
      </p:sp>
      <p:sp>
        <p:nvSpPr>
          <p:cNvPr id="4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934F2-96E1-4D3B-A450-43B2EFA182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6</a:t>
            </a:r>
            <a:endParaRPr b="0" lang="en-US" sz="4400" spc="-1" strike="noStrike">
              <a:solidFill>
                <a:srgbClr val="000000"/>
              </a:solidFill>
              <a:latin typeface="Calibri"/>
            </a:endParaRPr>
          </a:p>
        </p:txBody>
      </p:sp>
      <p:sp>
        <p:nvSpPr>
          <p:cNvPr id="447" name="PlaceHolder 2"/>
          <p:cNvSpPr>
            <a:spLocks noGrp="1"/>
          </p:cNvSpPr>
          <p:nvPr>
            <p:ph/>
          </p:nvPr>
        </p:nvSpPr>
        <p:spPr>
          <a:xfrm>
            <a:off x="457200" y="1417320"/>
            <a:ext cx="8229600" cy="4708440"/>
          </a:xfrm>
          <a:prstGeom prst="rect">
            <a:avLst/>
          </a:prstGeom>
          <a:noFill/>
          <a:ln w="0">
            <a:noFill/>
          </a:ln>
        </p:spPr>
        <p:txBody>
          <a:bodyPr anchor="t">
            <a:normAutofit fontScale="89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Factos/cenári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ick trabalha no departamento de TI de uma grande empresa que possui a sua própria Intranet. A política da empresa proíbe que os seus funcionários utilizem o computador e a ligação à Internet da sua empresa para fazer compras online. No seu tempo livre, Nick começa a desenvolver um software que permitiria à empresa identificar os funcionários que estão a fazer pagamentos online e capturar essas informações para que possam ser utilizadas como evidência em procedimentos disciplinares.  Nick não tem as capacidades necessárias e faz contacto online com "Júpiter". Em conjunto, eles desenvolvem um software que, uma vez transferido para um computador de utilizadores, será ativado quando o utilizador começar a preencher um formulário online, como aquele utilizado para processar pagamentos online e capturar os dados inseridos pelo utilizador. A empresa de Nick está muito satisfeita, enquanto Júpiter começa a implantar o software utilizando um programa de cavalo de Troia.</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Nick cometeu uma ofensa?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A empresa cometeu uma ofensa?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Júpiter cometeu uma ofensa?</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4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053B2-7EF5-4A33-92A3-68C92D33A0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7</a:t>
            </a: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Cená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utiliza um software fotográfico disponível comercialmente para produzir uma letra realista de banqueiros no seu computador doméstico. Ele leva a letra ao seu banco, que o aceita como genuíno e transfere fundos para a conta de Stefan.</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Que ofensa é que Stefan cometeu?</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F1740-AF31-424D-87EE-AFFF9C18D2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8</a:t>
            </a: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 </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sempre se gabou aos seus amigos das suas proezas como atleta quando ele era adolescente. Os seus amigos são céticos. Ele consegue ter acesso à base de dados da sua antiga escola e altera os registos para mostrá-lo como capitão da equipa de atletismo da escola e ter ganho várias medalhas.</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Isto é uma infração de falsificação relacionada com computadore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70C7DE-5A6D-44CE-B74F-E91598B2B4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9</a:t>
            </a:r>
            <a:endParaRPr b="0" lang="en-US" sz="4400" spc="-1" strike="noStrike">
              <a:solidFill>
                <a:srgbClr val="000000"/>
              </a:solidFill>
              <a:latin typeface="Calibri"/>
            </a:endParaRPr>
          </a:p>
        </p:txBody>
      </p:sp>
      <p:sp>
        <p:nvSpPr>
          <p:cNvPr id="456" name="PlaceHolder 2"/>
          <p:cNvSpPr>
            <a:spLocks noGrp="1"/>
          </p:cNvSpPr>
          <p:nvPr>
            <p:ph/>
          </p:nvPr>
        </p:nvSpPr>
        <p:spPr>
          <a:xfrm>
            <a:off x="457200" y="1417320"/>
            <a:ext cx="8229600" cy="4708440"/>
          </a:xfrm>
          <a:prstGeom prst="rect">
            <a:avLst/>
          </a:prstGeom>
          <a:noFill/>
          <a:ln w="0">
            <a:noFill/>
          </a:ln>
        </p:spPr>
        <p:txBody>
          <a:bodyPr anchor="t">
            <a:normAutofit fontScale="97000"/>
          </a:bodyPr>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Factos/cenári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gora que ele perdeu o emprego na Força Policial e que tem de pagar pensão alimentícia à sua esposa desde o divórcio, Bobby está à procura de outra forma de ganhar dinheiro. Ele teve sempre interesse em negociar ações e adquiriu mil ações na Flanders Mining Inc., uma empresa com direito exclusivo de minerar urânio na Bélgica por 1 euro cada. Bobby é membro de um fórum na Internet cujos membros são, como Bobby, interessados ​​no mercado de ações. Bobby publica uma mensagem a dizer que um amigo do governo da Bélgica lhe disse que quantidades substanciais de urânio foram detetadas na Bélgica. Após este anúncio, o preço da ação na Flanders Mining dispara e, até o final da semana, cada ação vale 1000 euros. Bobby então vende as suas ações.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Bobby cometeu uma ofensa?</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1A90A7-BE4D-4A74-86D0-B9AD910911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0</a:t>
            </a: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dirige-se ao banco. No estacionamento, ele descobre que está com poucos trocos. Ele coloca uma anilha na máquina de estacionamento automatizada e obtém um bilhete.</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tefan cometeu uma infração?</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188A01-35AB-4563-8E2A-3C87A3033A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1</a:t>
            </a: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ós sua prisão, a polícia descobre que Stefan está na posse dos detalhes do cartão de crédito pertencentes a um grande número de terceiros.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 posse desses dados é uma infração criminal?</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4366FA-5DAD-417E-B093-3380FB3EA3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2</a:t>
            </a: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ctos/cenário </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am é membro de um grupo online exclusivo que troca fotos de crianças vítimas de abuso sexual.  Adam também é membro de um grupo de partilha de ficheiros "peer to peer", ele coloca fotografias de crianças a serem abusadas que ele obteve do grupo online nestas pastas partilhadas peer to peer que torna acessível a outras pessoas na rede peer to peer. </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Que infrações Adam cometeu?</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4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BA1606-5AD2-4A6E-B171-DB9484ADF6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3</a:t>
            </a: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ll é preso no aeroporto no regresso de Camboja. Descobre-se que o seu computador portátil contém um grande número de imagens dele envolvido em atividade sexual com crianças que parecem ser do Sudeste Asiátic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O Bill pode ser processado em relação às imagen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E86A1-B366-40D8-846D-E8DBC547AE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cesso ao todo ou a qualquer parte de um sistema informático </a:t>
            </a:r>
            <a:r>
              <a:rPr b="1" lang="en-US" sz="4000" spc="-1" strike="noStrike">
                <a:solidFill>
                  <a:srgbClr val="ff0000"/>
                </a:solidFill>
                <a:latin typeface="Calibri"/>
                <a:ea typeface="Times New Roman"/>
              </a:rPr>
              <a:t>sem direito</a:t>
            </a:r>
            <a:r>
              <a:rPr b="0" lang="en-US" sz="2800" spc="-1" strike="noStrike">
                <a:solidFill>
                  <a:srgbClr val="000000"/>
                </a:solidFill>
                <a:latin typeface="Calibri"/>
                <a:ea typeface="Times New Roman"/>
              </a:rPr>
              <a:t>.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2800" spc="-1" strike="noStrike">
              <a:solidFill>
                <a:srgbClr val="000000"/>
              </a:solidFill>
              <a:latin typeface="Calibri"/>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53DAD6D-F162-4766-9363-894DE951E2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4</a:t>
            </a:r>
            <a:endParaRPr b="0" lang="en-US" sz="4400" spc="-1" strike="noStrike">
              <a:solidFill>
                <a:srgbClr val="000000"/>
              </a:solidFill>
              <a:latin typeface="Calibri"/>
            </a:endParaRPr>
          </a:p>
        </p:txBody>
      </p:sp>
      <p:sp>
        <p:nvSpPr>
          <p:cNvPr id="471" name="PlaceHolder 2"/>
          <p:cNvSpPr>
            <a:spLocks noGrp="1"/>
          </p:cNvSpPr>
          <p:nvPr>
            <p:ph/>
          </p:nvPr>
        </p:nvSpPr>
        <p:spPr>
          <a:xfrm>
            <a:off x="457200" y="1328760"/>
            <a:ext cx="8229600" cy="4525920"/>
          </a:xfrm>
          <a:prstGeom prst="rect">
            <a:avLst/>
          </a:prstGeom>
          <a:noFill/>
          <a:ln w="0">
            <a:noFill/>
          </a:ln>
        </p:spPr>
        <p:txBody>
          <a:bodyPr anchor="t">
            <a:normAutofit fontScale="96000"/>
          </a:bodyPr>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Factos/cenário</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Calibri"/>
              </a:rPr>
              <a:t>WWW.Iuvfishin.com</a:t>
            </a:r>
            <a:r>
              <a:rPr b="0" lang="en-US" sz="2200" spc="-1" strike="noStrike">
                <a:solidFill>
                  <a:srgbClr val="000000"/>
                </a:solidFill>
                <a:latin typeface="Calibri"/>
              </a:rPr>
              <a:t> é um site dedicado à pesca. O site está hospedado em servidores localizados nos EUA. Os proprietários do site descobrem que ele foi invadido e que mil imagens de abuso infantil foram carregadas e incorporadas no site. O modo como foi feito significa que essas imagens não seriam visíveis para utilizadores comuns do site. O site regista os endereços IP daqueles que acederam às fotos.</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m endereço IP atribuído a John foi entregue à polícia no seu país. Eles pesquisam o endereço de John e apreendem o seu computador que contém milhares de imagens de abuso infantil. É claro a partir do histórico da Internet e os dados dentro desses ficheiros que a maioria das imagens foram transferidas da internet.</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Que crimes John cometeu?</a:t>
            </a:r>
            <a:endParaRPr b="0" lang="en-US" sz="2200" spc="-1" strike="noStrike">
              <a:solidFill>
                <a:srgbClr val="000000"/>
              </a:solidFill>
              <a:latin typeface="Calibri"/>
            </a:endParaRPr>
          </a:p>
        </p:txBody>
      </p:sp>
      <p:sp>
        <p:nvSpPr>
          <p:cNvPr id="4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D8F00-2A31-4333-9FD4-FE7984E852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5</a:t>
            </a: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studo de caso 20</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polícia nos EUA derrubou um site que hospeda sites que oferecem imagens de abuso infantil a quem paga uma assinatura mensal. As autoridades dos EUA capturaram dados daqueles que pagaram pelo acesso, incluindo endereço IP, números de cartão de crédito, endereço de e-mail, endereço de cobrança e palavra-passe. Um dos clientes é Oswald. Tendo obtido um mandado de busca, o seu computador é examinado. Não é encontrado nada incriminador porque Oswald utilizou um programa chamado "Eliminação de Provas".</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Oswald cometeu uma infraçã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8168B-3AE1-4A61-9FC1-E98C066110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77"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4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DAB1E-A008-4B48-B21A-2C081D09D1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480" name="Picture 3" descr=""/>
          <p:cNvPicPr/>
          <p:nvPr/>
        </p:nvPicPr>
        <p:blipFill>
          <a:blip r:embed="rId1"/>
          <a:stretch/>
        </p:blipFill>
        <p:spPr>
          <a:xfrm>
            <a:off x="6786720" y="4643280"/>
            <a:ext cx="1962000" cy="1766880"/>
          </a:xfrm>
          <a:prstGeom prst="rect">
            <a:avLst/>
          </a:prstGeom>
          <a:ln w="0">
            <a:noFill/>
          </a:ln>
        </p:spPr>
      </p:pic>
      <p:sp>
        <p:nvSpPr>
          <p:cNvPr id="4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74DF42-8627-44CF-A02D-C1A746F267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483"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 final desta sessão, os delega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umere as disposições do direito penal substancial e identifique alguns dos principais fatores utilizados para descrever os crimes, com base na Convenção de Budapest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Identificar as disposições relevantes do direito substancial das discussões de estudo de caso.</a:t>
            </a:r>
            <a:endParaRPr b="0" lang="en-US" sz="2400" spc="-1" strike="noStrike">
              <a:solidFill>
                <a:srgbClr val="000000"/>
              </a:solidFill>
              <a:latin typeface="Arial"/>
            </a:endParaRPr>
          </a:p>
        </p:txBody>
      </p:sp>
      <p:sp>
        <p:nvSpPr>
          <p:cNvPr id="4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2E292-AAF8-4C28-9BBA-0029677203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6"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4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84C47-8912-449E-9D8D-A12BAEAF16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97"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cesso sem autoridade legislativa, executiva, administrativa, judicial, contratual ou consensual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enhuma criminalização de:</a:t>
            </a: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Acesso autorizado pelo proprietário/detentor do direito do sistema informático ou parte dele</a:t>
            </a: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Acesso ao sistema informático que permite acesso livre e aberto pelo público</a:t>
            </a:r>
            <a:endParaRPr b="0" lang="en-US" sz="3000" spc="-1" strike="noStrike">
              <a:solidFill>
                <a:srgbClr val="000000"/>
              </a:solidFill>
              <a:latin typeface="Calibri"/>
            </a:endParaRPr>
          </a:p>
        </p:txBody>
      </p:sp>
      <p:sp>
        <p:nvSpPr>
          <p:cNvPr id="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2E3EF6-37C7-49E9-A816-FF6D3774DC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cesso ao todo ou a qualquer parte de um sistema informático sem direito. Uma Parte pode exigir que a infração seja cometida por </a:t>
            </a:r>
            <a:r>
              <a:rPr b="1" lang="en-US" sz="3200" spc="-1" strike="noStrike">
                <a:solidFill>
                  <a:srgbClr val="ff0000"/>
                </a:solidFill>
                <a:latin typeface="Calibri"/>
                <a:ea typeface="Times New Roman"/>
              </a:rPr>
              <a:t>infração de medidas de segurança, com a intenção de obter dados informáticos</a:t>
            </a:r>
            <a:r>
              <a:rPr b="0" lang="en-US" sz="2800" spc="-1" strike="noStrike">
                <a:solidFill>
                  <a:srgbClr val="000000"/>
                </a:solidFill>
                <a:latin typeface="Calibri"/>
                <a:ea typeface="Times New Roman"/>
              </a:rPr>
              <a:t> ou outra </a:t>
            </a:r>
            <a:r>
              <a:rPr b="1" lang="en-US" sz="3200" spc="-1" strike="noStrike">
                <a:solidFill>
                  <a:srgbClr val="ff0000"/>
                </a:solidFill>
                <a:latin typeface="Calibri"/>
                <a:ea typeface="Times New Roman"/>
              </a:rPr>
              <a:t>intenção desonesta ou em relação a um sistema informático que esteja ligado a outro sistema informático</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C46A078-E0DC-459A-BA2F-3AAA9D3EAC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ementos de qualificação</a:t>
            </a:r>
            <a:endParaRPr b="0" lang="en-US" sz="4400" spc="-1" strike="noStrike">
              <a:solidFill>
                <a:srgbClr val="000000"/>
              </a:solidFill>
              <a:latin typeface="Calibri"/>
            </a:endParaRPr>
          </a:p>
        </p:txBody>
      </p:sp>
      <p:sp>
        <p:nvSpPr>
          <p:cNvPr id="103" name="PlaceHolder 2"/>
          <p:cNvSpPr>
            <a:spLocks noGrp="1"/>
          </p:cNvSpPr>
          <p:nvPr>
            <p:ph/>
          </p:nvPr>
        </p:nvSpPr>
        <p:spPr>
          <a:xfrm>
            <a:off x="457200" y="1558800"/>
            <a:ext cx="8229600" cy="5075280"/>
          </a:xfrm>
          <a:prstGeom prst="rect">
            <a:avLst/>
          </a:prstGeom>
          <a:noFill/>
          <a:ln w="0">
            <a:noFill/>
          </a:ln>
        </p:spPr>
        <p:txBody>
          <a:bodyPr anchor="t">
            <a:normAutofit fontScale="93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s partes podem limitar a criminalização do acesso intencional a todo ou parte do sistema informático sem direito com os seguintes elementos de qualificação:</a:t>
            </a:r>
            <a:endParaRPr b="0" lang="en-US" sz="2800" spc="-1" strike="noStrike">
              <a:solidFill>
                <a:srgbClr val="000000"/>
              </a:solidFill>
              <a:latin typeface="Calibri"/>
            </a:endParaRPr>
          </a:p>
          <a:p>
            <a:pPr lvl="1" marL="31896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fringir medidas de segurança; ou</a:t>
            </a:r>
            <a:endParaRPr b="0" lang="en-US" sz="2800" spc="-1" strike="noStrike">
              <a:solidFill>
                <a:srgbClr val="000000"/>
              </a:solidFill>
              <a:latin typeface="Calibri"/>
            </a:endParaRPr>
          </a:p>
          <a:p>
            <a:pPr lvl="1" marL="31896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ção de obter dados informáticos; ou</a:t>
            </a:r>
            <a:endParaRPr b="0" lang="en-US" sz="2800" spc="-1" strike="noStrike">
              <a:solidFill>
                <a:srgbClr val="000000"/>
              </a:solidFill>
              <a:latin typeface="Calibri"/>
            </a:endParaRPr>
          </a:p>
          <a:p>
            <a:pPr lvl="1" marL="31896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ção desonesta</a:t>
            </a:r>
            <a:endParaRPr b="0" lang="en-US" sz="2800" spc="-1" strike="noStrike">
              <a:solidFill>
                <a:srgbClr val="000000"/>
              </a:solidFill>
              <a:latin typeface="Calibri"/>
            </a:endParaRPr>
          </a:p>
          <a:p>
            <a:pPr lvl="1" marL="31896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m relação a um sistema informático ligado a outro sistema</a:t>
            </a:r>
            <a:endParaRPr b="0" lang="en-US" sz="28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5A3C53A-C5F1-47C8-9783-34E22026E7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758520"/>
            <a:ext cx="8229600" cy="523404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ceção ilegal</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3.º - Convenção de Budapeste)</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ncionalmente e sem direito</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rcetar, por meios técnicos, as transmissões não públicas de</a:t>
            </a:r>
            <a:r>
              <a:rPr b="1" i="1" lang="en-US" sz="3200" spc="-1" strike="noStrike">
                <a:solidFill>
                  <a:srgbClr val="000000"/>
                </a:solidFill>
                <a:latin typeface="Calibri"/>
                <a:ea typeface="Times New Roman"/>
              </a:rPr>
              <a:t> </a:t>
            </a:r>
            <a:r>
              <a:rPr b="0" i="1" lang="en-US" sz="3200" spc="-1" strike="noStrike">
                <a:solidFill>
                  <a:srgbClr val="000000"/>
                </a:solidFill>
                <a:latin typeface="Calibri"/>
                <a:ea typeface="Times New Roman"/>
              </a:rPr>
              <a:t>dad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Para, de ou dentro de um sistema informático</a:t>
            </a:r>
            <a:endParaRPr b="0" lang="en-US" sz="32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D23551-81BB-46DA-93D6-EAD73C35AD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08"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 transmissões não públicas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3D64D-C7A8-449C-A530-7965091C45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Um</a:t>
            </a:r>
            <a:br>
              <a:rPr sz="2600"/>
            </a:br>
            <a:r>
              <a:rPr b="0" lang="en-US" sz="2600" spc="-1" strike="noStrike">
                <a:solidFill>
                  <a:srgbClr val="000000"/>
                </a:solidFill>
                <a:latin typeface="Calibri"/>
              </a:rPr>
              <a:t>Convenção de Budapeste sobre Cibercrime -</a:t>
            </a:r>
            <a:br>
              <a:rPr sz="2600"/>
            </a:br>
            <a:r>
              <a:rPr b="0" lang="en-US" sz="2600" spc="-1" strike="noStrike">
                <a:solidFill>
                  <a:srgbClr val="000000"/>
                </a:solidFill>
                <a:latin typeface="Calibri"/>
              </a:rPr>
              <a:t>Direito Penal Substancial</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Dois</a:t>
            </a:r>
            <a:br>
              <a:rPr sz="2600"/>
            </a:br>
            <a:r>
              <a:rPr b="0" lang="en-US" sz="2600" spc="-1" strike="noStrike">
                <a:solidFill>
                  <a:srgbClr val="000000"/>
                </a:solidFill>
                <a:latin typeface="Calibri"/>
              </a:rPr>
              <a:t>Estudos de Cas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Três</a:t>
            </a:r>
            <a:br>
              <a:rPr sz="2600"/>
            </a:br>
            <a:r>
              <a:rPr b="0" lang="en-US" sz="2600" spc="-1" strike="noStrike">
                <a:solidFill>
                  <a:srgbClr val="000000"/>
                </a:solidFill>
                <a:latin typeface="Calibri"/>
              </a:rPr>
              <a:t>Resumo</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231AE56-A2FD-4528-BD44-83695DDC73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11" name="PlaceHolder 2"/>
          <p:cNvSpPr>
            <a:spLocks noGrp="1"/>
          </p:cNvSpPr>
          <p:nvPr>
            <p:ph/>
          </p:nvPr>
        </p:nvSpPr>
        <p:spPr>
          <a:xfrm>
            <a:off x="457200" y="1744560"/>
            <a:ext cx="8229600" cy="452592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a:t>
            </a:r>
            <a:r>
              <a:rPr b="1" lang="en-US" sz="4000" spc="-1" strike="noStrike">
                <a:solidFill>
                  <a:srgbClr val="ff0000"/>
                </a:solidFill>
                <a:latin typeface="Calibri"/>
                <a:ea typeface="Times New Roman"/>
              </a:rPr>
              <a:t>interceção</a:t>
            </a:r>
            <a:r>
              <a:rPr b="0" lang="en-US" sz="2800" spc="-1" strike="noStrike">
                <a:solidFill>
                  <a:srgbClr val="000000"/>
                </a:solidFill>
                <a:latin typeface="Calibri"/>
                <a:ea typeface="Times New Roman"/>
              </a:rPr>
              <a:t> sem o direito, por meios técnicos, de transmissões não públicas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DE5E1AE-3813-4F20-B730-960E9A5FED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 interceção</a:t>
            </a:r>
            <a:endParaRPr b="0" lang="en-US" sz="4400" spc="-1" strike="noStrike">
              <a:solidFill>
                <a:srgbClr val="000000"/>
              </a:solidFill>
              <a:latin typeface="Calibri"/>
            </a:endParaRPr>
          </a:p>
        </p:txBody>
      </p:sp>
      <p:sp>
        <p:nvSpPr>
          <p:cNvPr id="114" name="PlaceHolder 2"/>
          <p:cNvSpPr>
            <a:spLocks noGrp="1"/>
          </p:cNvSpPr>
          <p:nvPr>
            <p:ph/>
          </p:nvPr>
        </p:nvSpPr>
        <p:spPr>
          <a:xfrm>
            <a:off x="457200" y="1698480"/>
            <a:ext cx="8229600" cy="4167360"/>
          </a:xfrm>
          <a:prstGeom prst="rect">
            <a:avLst/>
          </a:prstGeom>
          <a:noFill/>
          <a:ln w="0">
            <a:noFill/>
          </a:ln>
        </p:spPr>
        <p:txBody>
          <a:bodyPr anchor="t">
            <a:normAutofit fontScale="99000"/>
          </a:bodyPr>
          <a:p>
            <a:pPr marL="339480" indent="-3394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 interceção diz respeito à escuta, monitorização ou vigilância das comunicações</a:t>
            </a:r>
            <a:endParaRPr b="0" lang="en-US" sz="3000" spc="-1" strike="noStrike">
              <a:solidFill>
                <a:srgbClr val="000000"/>
              </a:solidFill>
              <a:latin typeface="Calibri"/>
            </a:endParaRPr>
          </a:p>
          <a:p>
            <a:pPr lvl="1" marL="73548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marL="339480" indent="-3394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 disposição visa proteger a privacidade das comunicações de dados </a:t>
            </a:r>
            <a:endParaRPr b="0" lang="en-US" sz="3000" spc="-1" strike="noStrike">
              <a:solidFill>
                <a:srgbClr val="000000"/>
              </a:solidFill>
              <a:latin typeface="Calibri"/>
            </a:endParaRPr>
          </a:p>
          <a:p>
            <a:pPr marL="3394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39480" indent="-3394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nfrenta equivalentes de escutas tradicionais e gravação de conversas telefónicas orais quando feitas para transmissão de dados informáticos</a:t>
            </a:r>
            <a:endParaRPr b="0" lang="en-US" sz="30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1E16F04-C62B-4CC7-9F10-2F2F98B85B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17"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a:t>
            </a:r>
            <a:r>
              <a:rPr b="1" lang="en-US" sz="4000" spc="-1" strike="noStrike">
                <a:solidFill>
                  <a:srgbClr val="ff0000"/>
                </a:solidFill>
                <a:latin typeface="Calibri"/>
                <a:ea typeface="Times New Roman"/>
              </a:rPr>
              <a:t>sem o direito</a:t>
            </a:r>
            <a:r>
              <a:rPr b="0" lang="en-US" sz="2800" spc="-1" strike="noStrike">
                <a:solidFill>
                  <a:srgbClr val="000000"/>
                </a:solidFill>
                <a:latin typeface="Calibri"/>
                <a:ea typeface="Times New Roman"/>
              </a:rPr>
              <a:t>, por meios técnicos, de transmissões não públicas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5D79046-FE24-479C-97C4-7F7C799ED4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120" name="PlaceHolder 2"/>
          <p:cNvSpPr>
            <a:spLocks noGrp="1"/>
          </p:cNvSpPr>
          <p:nvPr>
            <p:ph/>
          </p:nvPr>
        </p:nvSpPr>
        <p:spPr>
          <a:xfrm>
            <a:off x="457200" y="1544760"/>
            <a:ext cx="8229600" cy="5075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ão se aplica quando a pessoa intercetora tem o direito de fazê-l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xemplos:</a:t>
            </a:r>
            <a:endParaRPr b="0" lang="en-US" sz="3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 pessoa intercetora instruída ou autorizada pelos participantes da transmissão, incluindo:</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Testes autorizados acordados pelos participantes</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Atividades de proteção acordadas pelos participant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tilizando cookies em sit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Vigilância pelas autoridades responsáveis pela aplicação da lei legalmente autorizadas no interesse de:</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Segurança nacional</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Deteção de infrações</a:t>
            </a:r>
            <a:endParaRPr b="0" lang="en-US" sz="24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D13E40C-692F-4598-B877-8FEABF2A2E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23"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a:t>
            </a:r>
            <a:r>
              <a:rPr b="1" lang="en-US" sz="4000" spc="-1" strike="noStrike">
                <a:solidFill>
                  <a:srgbClr val="ff0000"/>
                </a:solidFill>
                <a:latin typeface="Calibri"/>
                <a:ea typeface="Times New Roman"/>
              </a:rPr>
              <a:t>por meios técnicos</a:t>
            </a:r>
            <a:r>
              <a:rPr b="0" lang="en-US" sz="2800" spc="-1" strike="noStrike">
                <a:solidFill>
                  <a:srgbClr val="000000"/>
                </a:solidFill>
                <a:latin typeface="Calibri"/>
                <a:ea typeface="Times New Roman"/>
              </a:rPr>
              <a:t>, de transmissões não públicas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186F51C-CC0D-4C80-B530-A9DF37EAB7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Meios técnicos</a:t>
            </a:r>
            <a:endParaRPr b="0" lang="en-US" sz="4400" spc="-1" strike="noStrike">
              <a:solidFill>
                <a:srgbClr val="000000"/>
              </a:solidFill>
              <a:latin typeface="Calibri"/>
            </a:endParaRPr>
          </a:p>
        </p:txBody>
      </p:sp>
      <p:sp>
        <p:nvSpPr>
          <p:cNvPr id="126" name="PlaceHolder 2"/>
          <p:cNvSpPr>
            <a:spLocks noGrp="1"/>
          </p:cNvSpPr>
          <p:nvPr>
            <p:ph/>
          </p:nvPr>
        </p:nvSpPr>
        <p:spPr>
          <a:xfrm>
            <a:off x="457200" y="1642680"/>
            <a:ext cx="8229600" cy="44766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través:</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cesso e uso de sistema informático; ou</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eletrónicos de espionagem ou escuta</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de inclui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Gravação</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técnicos fixados em linhas de transmissão</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para recolher e registar comunicações sem fio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software, palavras-passe e códigos</a:t>
            </a:r>
            <a:endParaRPr b="0" lang="en-US" sz="24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3EFE8F8-2437-4482-B7E0-7E34233879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29" name="PlaceHolder 2"/>
          <p:cNvSpPr>
            <a:spLocks noGrp="1"/>
          </p:cNvSpPr>
          <p:nvPr>
            <p:ph/>
          </p:nvPr>
        </p:nvSpPr>
        <p:spPr>
          <a:xfrm>
            <a:off x="457200" y="1533600"/>
            <a:ext cx="8229600" cy="4525920"/>
          </a:xfrm>
          <a:prstGeom prst="rect">
            <a:avLst/>
          </a:prstGeom>
          <a:noFill/>
          <a:ln w="0">
            <a:noFill/>
          </a:ln>
        </p:spPr>
        <p:txBody>
          <a:bodyPr anchor="t">
            <a:normAutofit fontScale="94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a:t>
            </a:r>
            <a:r>
              <a:rPr b="1" lang="en-US" sz="4000" spc="-1" strike="noStrike">
                <a:solidFill>
                  <a:srgbClr val="ff0000"/>
                </a:solidFill>
                <a:latin typeface="Calibri"/>
                <a:ea typeface="Times New Roman"/>
              </a:rPr>
              <a:t> transmissões não públicas</a:t>
            </a:r>
            <a:r>
              <a:rPr b="0" lang="en-US" sz="2800" spc="-1" strike="noStrike">
                <a:solidFill>
                  <a:srgbClr val="000000"/>
                </a:solidFill>
                <a:latin typeface="Calibri"/>
                <a:ea typeface="Times New Roman"/>
              </a:rPr>
              <a:t>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ABF6111-E51D-4B09-9385-678815612C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Transmissões não públicas</a:t>
            </a:r>
            <a:endParaRPr b="0" lang="en-US" sz="4400" spc="-1" strike="noStrike">
              <a:solidFill>
                <a:srgbClr val="000000"/>
              </a:solidFill>
              <a:latin typeface="Calibri"/>
            </a:endParaRPr>
          </a:p>
        </p:txBody>
      </p:sp>
      <p:sp>
        <p:nvSpPr>
          <p:cNvPr id="132"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ão criminaliza a interceção de dados não públicos, mas de transmissões não públicas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ão exclui, </a:t>
            </a:r>
            <a:r>
              <a:rPr b="0" i="1" lang="en-US" sz="3200" spc="-1" strike="noStrike">
                <a:solidFill>
                  <a:srgbClr val="000000"/>
                </a:solidFill>
                <a:latin typeface="Calibri"/>
                <a:ea typeface="Times New Roman"/>
              </a:rPr>
              <a:t>por si só,</a:t>
            </a:r>
            <a:r>
              <a:rPr b="0" lang="en-US" sz="3200" spc="-1" strike="noStrike">
                <a:solidFill>
                  <a:srgbClr val="000000"/>
                </a:solidFill>
                <a:latin typeface="Calibri"/>
                <a:ea typeface="Times New Roman"/>
              </a:rPr>
              <a:t> comunicações através de redes públicas</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Pode incluir informações publicamente disponíveis, comunicadas através de transmissões não públicas</a:t>
            </a:r>
            <a:endParaRPr b="0" lang="en-US" sz="32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65EAD36-E22C-4D69-9ABF-532D3D9845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35" name="PlaceHolder 2"/>
          <p:cNvSpPr>
            <a:spLocks noGrp="1"/>
          </p:cNvSpPr>
          <p:nvPr>
            <p:ph/>
          </p:nvPr>
        </p:nvSpPr>
        <p:spPr>
          <a:xfrm>
            <a:off x="457200" y="1562040"/>
            <a:ext cx="8229600" cy="4525920"/>
          </a:xfrm>
          <a:prstGeom prst="rect">
            <a:avLst/>
          </a:prstGeom>
          <a:noFill/>
          <a:ln w="0">
            <a:noFill/>
          </a:ln>
        </p:spPr>
        <p:txBody>
          <a:bodyPr anchor="t">
            <a:normAutofit fontScale="90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 transmissões não públicas de dados informáticos </a:t>
            </a:r>
            <a:r>
              <a:rPr b="1" lang="en-US" sz="4000" spc="-1" strike="noStrike">
                <a:solidFill>
                  <a:srgbClr val="ff0000"/>
                </a:solidFill>
                <a:latin typeface="Calibri"/>
                <a:ea typeface="Times New Roman"/>
              </a:rPr>
              <a:t>para, de ou dentro de um sistema informático</a:t>
            </a:r>
            <a:r>
              <a:rPr b="0" lang="en-US" sz="2800" spc="-1" strike="noStrike">
                <a:solidFill>
                  <a:srgbClr val="000000"/>
                </a:solidFill>
                <a:latin typeface="Calibri"/>
                <a:ea typeface="Times New Roman"/>
              </a:rPr>
              <a:t>,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97E1742-DD88-4A28-9817-9F124F0F91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ara, de ou dentro de um sistema informático</a:t>
            </a:r>
            <a:endParaRPr b="0" lang="en-US" sz="4400" spc="-1" strike="noStrike">
              <a:solidFill>
                <a:srgbClr val="000000"/>
              </a:solidFill>
              <a:latin typeface="Calibri"/>
            </a:endParaRPr>
          </a:p>
        </p:txBody>
      </p:sp>
      <p:sp>
        <p:nvSpPr>
          <p:cNvPr id="138" name="PlaceHolder 2"/>
          <p:cNvSpPr>
            <a:spLocks noGrp="1"/>
          </p:cNvSpPr>
          <p:nvPr>
            <p:ph/>
          </p:nvPr>
        </p:nvSpPr>
        <p:spPr>
          <a:xfrm>
            <a:off x="457200" y="1952640"/>
            <a:ext cx="8229600" cy="4208400"/>
          </a:xfrm>
          <a:prstGeom prst="rect">
            <a:avLst/>
          </a:prstGeom>
          <a:noFill/>
          <a:ln w="0">
            <a:noFill/>
          </a:ln>
        </p:spPr>
        <p:txBody>
          <a:bodyPr anchor="t">
            <a:normAutofit fontScale="94000"/>
          </a:bodyPr>
          <a:p>
            <a:pPr marL="322200" indent="-322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um sistema informático</a:t>
            </a:r>
            <a:endParaRPr b="0" lang="en-US" sz="2800" spc="-1" strike="noStrike">
              <a:solidFill>
                <a:srgbClr val="000000"/>
              </a:solidFill>
              <a:latin typeface="Calibri"/>
            </a:endParaRPr>
          </a:p>
          <a:p>
            <a:pPr lvl="1" marL="698400" indent="-268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xemplo, transmissões que fluem da pessoa para o teclado</a:t>
            </a:r>
            <a:endParaRPr b="0" lang="en-US" sz="2400" spc="-1" strike="noStrike">
              <a:solidFill>
                <a:srgbClr val="000000"/>
              </a:solidFill>
              <a:latin typeface="Calibri"/>
            </a:endParaRPr>
          </a:p>
          <a:p>
            <a:pPr lvl="1" marL="69840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22200" indent="-322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 um sistema informático</a:t>
            </a:r>
            <a:endParaRPr b="0" lang="en-US" sz="2800" spc="-1" strike="noStrike">
              <a:solidFill>
                <a:srgbClr val="000000"/>
              </a:solidFill>
              <a:latin typeface="Calibri"/>
            </a:endParaRPr>
          </a:p>
          <a:p>
            <a:pPr lvl="1" marL="698400" indent="-268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xemplo, transmissões que fluem de um sistema informático para outro</a:t>
            </a:r>
            <a:endParaRPr b="0" lang="en-US" sz="2400" spc="-1" strike="noStrike">
              <a:solidFill>
                <a:srgbClr val="000000"/>
              </a:solidFill>
              <a:latin typeface="Calibri"/>
            </a:endParaRPr>
          </a:p>
          <a:p>
            <a:pPr lvl="1" marL="69840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22200" indent="-322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ntro do sistema informático: </a:t>
            </a:r>
            <a:endParaRPr b="0" lang="en-US" sz="2800" spc="-1" strike="noStrike">
              <a:solidFill>
                <a:srgbClr val="000000"/>
              </a:solidFill>
              <a:latin typeface="Calibri"/>
            </a:endParaRPr>
          </a:p>
          <a:p>
            <a:pPr lvl="1" marL="698400" indent="-268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xemplo, transmissões que fluem da CPU para a impressora</a:t>
            </a:r>
            <a:endParaRPr b="0" lang="en-US" sz="2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59E1DF0-EBAF-4387-9589-BE3321282A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 final desta sessão, os delega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umere as disposições do direito penal substancial e identifique alguns dos principais fatores utilizados para descrever os crimes, com base na Convenção de Budapest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Identificar as disposições relevantes do direito substancial das discussões de estudo de caso</a:t>
            </a: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074B265-FDEF-4AA5-9D6C-F223EA82C5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41" name="PlaceHolder 2"/>
          <p:cNvSpPr>
            <a:spLocks noGrp="1"/>
          </p:cNvSpPr>
          <p:nvPr>
            <p:ph/>
          </p:nvPr>
        </p:nvSpPr>
        <p:spPr>
          <a:xfrm>
            <a:off x="457200" y="1744560"/>
            <a:ext cx="8229600" cy="4525920"/>
          </a:xfrm>
          <a:prstGeom prst="rect">
            <a:avLst/>
          </a:prstGeom>
          <a:noFill/>
          <a:ln w="0">
            <a:noFill/>
          </a:ln>
        </p:spPr>
        <p:txBody>
          <a:bodyPr anchor="t">
            <a:normAutofit fontScale="92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 transmissões não públicas de dados informáticos para, de ou dentro de um sistema informático, incluindo </a:t>
            </a:r>
            <a:r>
              <a:rPr b="1" lang="en-US" sz="4000" spc="-1" strike="noStrike">
                <a:solidFill>
                  <a:srgbClr val="ff0000"/>
                </a:solidFill>
                <a:latin typeface="Calibri"/>
                <a:ea typeface="Times New Roman"/>
              </a:rPr>
              <a:t>emissões eletromagnéticas </a:t>
            </a:r>
            <a:r>
              <a:rPr b="0" lang="en-US" sz="2800" spc="-1" strike="noStrike">
                <a:solidFill>
                  <a:srgbClr val="000000"/>
                </a:solidFill>
                <a:latin typeface="Calibri"/>
                <a:ea typeface="Times New Roman"/>
              </a:rPr>
              <a:t>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9584334-AA5E-4395-B590-541D2EA179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missões eletromagnéticas</a:t>
            </a:r>
            <a:endParaRPr b="0" lang="en-US" sz="4400" spc="-1" strike="noStrike">
              <a:solidFill>
                <a:srgbClr val="000000"/>
              </a:solidFill>
              <a:latin typeface="Calibri"/>
            </a:endParaRPr>
          </a:p>
        </p:txBody>
      </p:sp>
      <p:sp>
        <p:nvSpPr>
          <p:cNvPr id="144" name="PlaceHolder 2"/>
          <p:cNvSpPr>
            <a:spLocks noGrp="1"/>
          </p:cNvSpPr>
          <p:nvPr>
            <p:ph/>
          </p:nvPr>
        </p:nvSpPr>
        <p:spPr>
          <a:xfrm>
            <a:off x="457200" y="1544760"/>
            <a:ext cx="8229600" cy="4039920"/>
          </a:xfrm>
          <a:prstGeom prst="rect">
            <a:avLst/>
          </a:prstGeom>
          <a:noFill/>
          <a:ln w="0">
            <a:noFill/>
          </a:ln>
        </p:spPr>
        <p:txBody>
          <a:bodyPr anchor="t">
            <a:normAutofit fontScale="75000"/>
          </a:bodyPr>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cluído para garantir um âmbito mais abrangente</a:t>
            </a:r>
            <a:endParaRPr b="0" lang="en-US" sz="2800" spc="-1" strike="noStrike">
              <a:solidFill>
                <a:srgbClr val="000000"/>
              </a:solidFill>
              <a:latin typeface="Calibri"/>
            </a:endParaRPr>
          </a:p>
          <a:p>
            <a:pPr marL="2570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Sistemas informáticos podem emitir emissões eletromagnéticas durante a operação</a:t>
            </a:r>
            <a:endParaRPr b="0" lang="en-US" sz="2800" spc="-1" strike="noStrike">
              <a:solidFill>
                <a:srgbClr val="000000"/>
              </a:solidFill>
              <a:latin typeface="Calibri"/>
            </a:endParaRPr>
          </a:p>
          <a:p>
            <a:pPr marL="2570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s emissões não se enquadram na definição da Convenção de Budapeste de dados informáticos</a:t>
            </a:r>
            <a:endParaRPr b="0" lang="en-US" sz="2800" spc="-1" strike="noStrike">
              <a:solidFill>
                <a:srgbClr val="000000"/>
              </a:solidFill>
              <a:latin typeface="Calibri"/>
            </a:endParaRPr>
          </a:p>
          <a:p>
            <a:pPr marL="2570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s dados podem ser reconstruídos a partir dessas emissões</a:t>
            </a:r>
            <a:endParaRPr b="0" lang="en-US" sz="2800" spc="-1" strike="noStrike">
              <a:solidFill>
                <a:srgbClr val="000000"/>
              </a:solidFill>
              <a:latin typeface="Calibri"/>
            </a:endParaRPr>
          </a:p>
          <a:p>
            <a:pPr marL="2570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ssim, a interceção de emissões eletromagnéticas é incluída na ofensa</a:t>
            </a:r>
            <a:endParaRPr b="0" lang="en-US" sz="2800" spc="-1" strike="noStrike">
              <a:solidFill>
                <a:srgbClr val="000000"/>
              </a:solidFill>
              <a:latin typeface="Calibri"/>
            </a:endParaRPr>
          </a:p>
        </p:txBody>
      </p:sp>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0FC9E7D-99BA-4FBF-BE6D-6AD240EF49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47" name="PlaceHolder 2"/>
          <p:cNvSpPr>
            <a:spLocks noGrp="1"/>
          </p:cNvSpPr>
          <p:nvPr>
            <p:ph/>
          </p:nvPr>
        </p:nvSpPr>
        <p:spPr>
          <a:xfrm>
            <a:off x="457200" y="1744560"/>
            <a:ext cx="8229600" cy="4525920"/>
          </a:xfrm>
          <a:prstGeom prst="rect">
            <a:avLst/>
          </a:prstGeom>
          <a:noFill/>
          <a:ln w="0">
            <a:noFill/>
          </a:ln>
        </p:spPr>
        <p:txBody>
          <a:bodyPr anchor="t">
            <a:normAutofit fontScale="93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 transmissões não públicas de dados informáticos para, de ou dentro de um sistema informático, incluindo emissões eletromagnéticas de um sistema informático que transporta esses dados informáticos. Uma Parte pode exigir que a infração seja cometida com </a:t>
            </a:r>
            <a:r>
              <a:rPr b="1" lang="en-US" sz="3200" spc="-1" strike="noStrike">
                <a:solidFill>
                  <a:srgbClr val="ff0000"/>
                </a:solidFill>
                <a:latin typeface="Calibri"/>
                <a:ea typeface="Times New Roman"/>
              </a:rPr>
              <a:t>intenção desonesta</a:t>
            </a:r>
            <a:r>
              <a:rPr b="0" lang="en-US" sz="2800" spc="-1" strike="noStrike">
                <a:solidFill>
                  <a:srgbClr val="000000"/>
                </a:solidFill>
                <a:latin typeface="Calibri"/>
                <a:ea typeface="Times New Roman"/>
              </a:rPr>
              <a:t> ou </a:t>
            </a:r>
            <a:r>
              <a:rPr b="1" lang="en-US" sz="3200" spc="-1" strike="noStrike">
                <a:solidFill>
                  <a:srgbClr val="ff0000"/>
                </a:solidFill>
                <a:latin typeface="Calibri"/>
                <a:ea typeface="Times New Roman"/>
              </a:rPr>
              <a:t>em relação a um sistema informático ligado a outro sistema informático</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BCBFE2A-57D6-4A66-9411-77DBDA560F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ementos de qualificação</a:t>
            </a:r>
            <a:endParaRPr b="0" lang="en-US" sz="4400" spc="-1" strike="noStrike">
              <a:solidFill>
                <a:srgbClr val="000000"/>
              </a:solidFill>
              <a:latin typeface="Calibri"/>
            </a:endParaRPr>
          </a:p>
        </p:txBody>
      </p:sp>
      <p:sp>
        <p:nvSpPr>
          <p:cNvPr id="150"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s partes podem limitar a criminalização da interceção intencional não autorizada com os seguintes elementos de qualificação:</a:t>
            </a:r>
            <a:endParaRPr b="0" lang="en-US" sz="3200" spc="-1" strike="noStrike">
              <a:solidFill>
                <a:srgbClr val="000000"/>
              </a:solidFill>
              <a:latin typeface="Calibri"/>
            </a:endParaRPr>
          </a:p>
          <a:p>
            <a:pPr lvl="1" marL="743040" indent="0" algn="just">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Intenção desonesta</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Em relação a um sistema informático ligado a outro sistema</a:t>
            </a:r>
            <a:endParaRPr b="0" lang="en-US" sz="30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8504746-1AEB-42B6-BD4A-1C2DBF6F9B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ferência de dados</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4 – Convenção de Budapeste)</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anos, eliminação, deterioração, alteração ou supressão de dados</a:t>
            </a:r>
            <a:r>
              <a:rPr b="1" i="1" lang="en-US" sz="3200" spc="-1" strike="noStrike">
                <a:solidFill>
                  <a:srgbClr val="000000"/>
                </a:solidFill>
                <a:latin typeface="Calibri"/>
                <a:ea typeface="Times New Roman"/>
              </a:rPr>
              <a:t> </a:t>
            </a:r>
            <a:r>
              <a:rPr b="0" i="1" lang="en-US" sz="3200" spc="-1" strike="noStrike">
                <a:solidFill>
                  <a:srgbClr val="000000"/>
                </a:solidFill>
                <a:latin typeface="Calibri"/>
                <a:ea typeface="Times New Roman"/>
              </a:rPr>
              <a:t>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ncionalmente, sem direito</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55B46-E657-4E72-8749-74ACEF4428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55"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eliminação, deterioração, alteração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CA72E1-7280-493A-B271-C9E7468C53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58" name="PlaceHolder 2"/>
          <p:cNvSpPr>
            <a:spLocks noGrp="1"/>
          </p:cNvSpPr>
          <p:nvPr>
            <p:ph/>
          </p:nvPr>
        </p:nvSpPr>
        <p:spPr>
          <a:xfrm>
            <a:off x="457200" y="18399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a:t>
            </a:r>
            <a:r>
              <a:rPr b="1" lang="en-US" sz="4000" spc="-1" strike="noStrike">
                <a:solidFill>
                  <a:srgbClr val="ff0000"/>
                </a:solidFill>
                <a:latin typeface="Calibri"/>
                <a:ea typeface="Times New Roman"/>
              </a:rPr>
              <a:t>danos</a:t>
            </a:r>
            <a:r>
              <a:rPr b="0" lang="en-US" sz="2800" spc="-1" strike="noStrike">
                <a:solidFill>
                  <a:srgbClr val="000000"/>
                </a:solidFill>
                <a:latin typeface="Calibri"/>
              </a:rPr>
              <a:t>, eliminação, </a:t>
            </a:r>
            <a:r>
              <a:rPr b="1" lang="en-US" sz="4000" spc="-1" strike="noStrike">
                <a:solidFill>
                  <a:srgbClr val="ff0000"/>
                </a:solidFill>
                <a:latin typeface="Calibri"/>
                <a:ea typeface="Times New Roman"/>
              </a:rPr>
              <a:t>deterioração</a:t>
            </a:r>
            <a:r>
              <a:rPr b="0" lang="en-US" sz="2800" spc="-1" strike="noStrike">
                <a:solidFill>
                  <a:srgbClr val="000000"/>
                </a:solidFill>
                <a:latin typeface="Calibri"/>
              </a:rPr>
              <a:t>, alteração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21C64BD-0B84-4766-8D37-48A265919D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anos, deterioração </a:t>
            </a:r>
            <a:endParaRPr b="0" lang="en-US" sz="4400" spc="-1" strike="noStrike">
              <a:solidFill>
                <a:srgbClr val="000000"/>
              </a:solidFill>
              <a:latin typeface="Calibri"/>
            </a:endParaRPr>
          </a:p>
        </p:txBody>
      </p:sp>
      <p:sp>
        <p:nvSpPr>
          <p:cNvPr id="161"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anos e deterioração são atos sobrepost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lteração negativa de:</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Integridade; ou </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conteúdo informativo </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	</a:t>
            </a:r>
            <a:r>
              <a:rPr b="0" lang="en-US" sz="3000" spc="-1" strike="noStrike">
                <a:solidFill>
                  <a:srgbClr val="000000"/>
                </a:solidFill>
                <a:latin typeface="Calibri"/>
                <a:ea typeface="Times New Roman"/>
              </a:rPr>
              <a:t>de dados e programas</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DAE8DCC-D036-4676-95E0-1B848F144A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64" name="PlaceHolder 2"/>
          <p:cNvSpPr>
            <a:spLocks noGrp="1"/>
          </p:cNvSpPr>
          <p:nvPr>
            <p:ph/>
          </p:nvPr>
        </p:nvSpPr>
        <p:spPr>
          <a:xfrm>
            <a:off x="457200" y="181080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a:t>
            </a:r>
            <a:r>
              <a:rPr b="1" lang="en-US" sz="4000" spc="-1" strike="noStrike">
                <a:solidFill>
                  <a:srgbClr val="ff0000"/>
                </a:solidFill>
                <a:latin typeface="Calibri"/>
                <a:ea typeface="Times New Roman"/>
              </a:rPr>
              <a:t>eliminação</a:t>
            </a:r>
            <a:r>
              <a:rPr b="0" lang="en-US" sz="2800" spc="-1" strike="noStrike">
                <a:solidFill>
                  <a:srgbClr val="000000"/>
                </a:solidFill>
                <a:latin typeface="Calibri"/>
              </a:rPr>
              <a:t>, deterioração, alteração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DEFB61E-2254-40F3-946B-AE4C853B03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iminação</a:t>
            </a:r>
            <a:endParaRPr b="0" lang="en-US" sz="4400" spc="-1" strike="noStrike">
              <a:solidFill>
                <a:srgbClr val="000000"/>
              </a:solidFill>
              <a:latin typeface="Calibri"/>
            </a:endParaRPr>
          </a:p>
        </p:txBody>
      </p:sp>
      <p:sp>
        <p:nvSpPr>
          <p:cNvPr id="167"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 eliminação de dados é o equivalente da destruição de algo corpóreo.</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estrói dad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Torna os dados irreconhecíveis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4ED0823-84AE-4E84-B9D5-34412386D4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Convenção de Budapeste sobre Cibercrime -</a:t>
            </a:r>
            <a:br>
              <a:rPr sz="4000"/>
            </a:br>
            <a:r>
              <a:rPr b="1" lang="en-US" sz="4000" spc="-1" strike="noStrike">
                <a:solidFill>
                  <a:srgbClr val="000000"/>
                </a:solidFill>
                <a:latin typeface="Calibri"/>
              </a:rPr>
              <a:t>Direito Penal Substancial</a:t>
            </a:r>
            <a:br>
              <a:rPr sz="4000"/>
            </a:b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C6271-3654-43EF-AB6A-90E7C30370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70" name="PlaceHolder 2"/>
          <p:cNvSpPr>
            <a:spLocks noGrp="1"/>
          </p:cNvSpPr>
          <p:nvPr>
            <p:ph/>
          </p:nvPr>
        </p:nvSpPr>
        <p:spPr>
          <a:xfrm>
            <a:off x="457200" y="174096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eliminação, deterioração, </a:t>
            </a:r>
            <a:r>
              <a:rPr b="1" lang="en-US" sz="4000" spc="-1" strike="noStrike">
                <a:solidFill>
                  <a:srgbClr val="ff0000"/>
                </a:solidFill>
                <a:latin typeface="Calibri"/>
                <a:ea typeface="Times New Roman"/>
              </a:rPr>
              <a:t>alteração</a:t>
            </a:r>
            <a:r>
              <a:rPr b="0" lang="en-US" sz="2800" spc="-1" strike="noStrike">
                <a:solidFill>
                  <a:srgbClr val="000000"/>
                </a:solidFill>
                <a:latin typeface="Calibri"/>
              </a:rPr>
              <a:t>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18754AA-68C9-45D5-B946-4493F3A16F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lteração</a:t>
            </a:r>
            <a:endParaRPr b="0" lang="en-US" sz="4400" spc="-1" strike="noStrike">
              <a:solidFill>
                <a:srgbClr val="000000"/>
              </a:solidFill>
              <a:latin typeface="Calibri"/>
            </a:endParaRPr>
          </a:p>
        </p:txBody>
      </p:sp>
      <p:sp>
        <p:nvSpPr>
          <p:cNvPr id="173"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Modificação de dados existente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Inclui a inserção de códigos maliciosos, como vírus e cavalos de Troia e resulta na modificação de dad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A660C6D-C31F-4713-8B5D-857F72A4E1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eliminação, deterioração, alteração ou </a:t>
            </a:r>
            <a:r>
              <a:rPr b="1" lang="en-US" sz="4000" spc="-1" strike="noStrike">
                <a:solidFill>
                  <a:srgbClr val="ff0000"/>
                </a:solidFill>
                <a:latin typeface="Calibri"/>
                <a:ea typeface="Times New Roman"/>
              </a:rPr>
              <a:t>supressão</a:t>
            </a:r>
            <a:r>
              <a:rPr b="0" lang="en-US" sz="2800" spc="-1" strike="noStrike">
                <a:solidFill>
                  <a:srgbClr val="ff0000"/>
                </a:solidFill>
                <a:latin typeface="Calibri"/>
              </a:rPr>
              <a:t> </a:t>
            </a:r>
            <a:r>
              <a:rPr b="0" lang="en-US" sz="2800" spc="-1" strike="noStrike">
                <a:solidFill>
                  <a:srgbClr val="000000"/>
                </a:solidFill>
                <a:latin typeface="Calibri"/>
              </a:rPr>
              <a:t>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CA94B88-377D-4A72-9FFF-CA1D999506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upressão</a:t>
            </a:r>
            <a:endParaRPr b="0" lang="en-US" sz="4400" spc="-1" strike="noStrike">
              <a:solidFill>
                <a:srgbClr val="000000"/>
              </a:solidFill>
              <a:latin typeface="Calibri"/>
            </a:endParaRPr>
          </a:p>
        </p:txBody>
      </p:sp>
      <p:sp>
        <p:nvSpPr>
          <p:cNvPr id="179"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Qualquer ação que impeça ou termine a disponibilidade de dados para pessoas que tenham acesso ao computador ou ao meio de armazenamento no qual foram armazenada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ão afeta o conteúdo dos dados em si, mas a sua disponibilidade </a:t>
            </a:r>
            <a:endParaRPr b="0" lang="en-US" sz="30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0553C60-4219-44E6-964A-517F6328F8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82"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eliminação, deterioração, alteração ou supressão de dados informáticos </a:t>
            </a:r>
            <a:r>
              <a:rPr b="1" lang="en-US" sz="4000" spc="-1" strike="noStrike">
                <a:solidFill>
                  <a:srgbClr val="ff0000"/>
                </a:solidFill>
                <a:latin typeface="Calibri"/>
                <a:ea typeface="Times New Roman"/>
              </a:rPr>
              <a:t>sem direito</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3C33858-A62C-4D57-9952-386E410D6D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185" name="PlaceHolder 2"/>
          <p:cNvSpPr>
            <a:spLocks noGrp="1"/>
          </p:cNvSpPr>
          <p:nvPr>
            <p:ph/>
          </p:nvPr>
        </p:nvSpPr>
        <p:spPr>
          <a:xfrm>
            <a:off x="457200" y="1730520"/>
            <a:ext cx="8229600" cy="3443040"/>
          </a:xfrm>
          <a:prstGeom prst="rect">
            <a:avLst/>
          </a:prstGeom>
          <a:noFill/>
          <a:ln w="0">
            <a:noFill/>
          </a:ln>
        </p:spPr>
        <p:txBody>
          <a:bodyPr anchor="t">
            <a:normAutofit fontScale="77000"/>
          </a:bodyPr>
          <a:p>
            <a:pPr marL="263880" indent="-2638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Não se aplica quando a pessoa que interfere tem o direito de interferir com os dados</a:t>
            </a:r>
            <a:endParaRPr b="0" lang="en-US" sz="2600" spc="-1" strike="noStrike">
              <a:solidFill>
                <a:srgbClr val="000000"/>
              </a:solidFill>
              <a:latin typeface="Calibri"/>
            </a:endParaRPr>
          </a:p>
          <a:p>
            <a:pPr marL="263880" indent="-2638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Exemplos incluem:</a:t>
            </a:r>
            <a:endParaRPr b="0" lang="en-US" sz="26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Atividades inerentes ao design de redes ou práticas operacionais ou comerciais comuns</a:t>
            </a:r>
            <a:endParaRPr b="0" lang="en-US" sz="22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Teste ou proteção de sistema de segurança do computador autorizado pelo proprietário ou operador </a:t>
            </a:r>
            <a:endParaRPr b="0" lang="en-US" sz="22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Reconfiguração do sistema operativo do computador no momento da instalação do novo software </a:t>
            </a:r>
            <a:endParaRPr b="0" lang="en-US" sz="22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odificação de dados de tráfego para facilitar comunicações anónimas (por exemplo, sistemas anónimos de repostagem)</a:t>
            </a:r>
            <a:endParaRPr b="0" lang="en-US" sz="22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odificação de dados para fins de comunicações seguras (por exemplo, encriptação)</a:t>
            </a:r>
            <a:endParaRPr b="0" lang="en-US" sz="2200" spc="-1" strike="noStrike">
              <a:solidFill>
                <a:srgbClr val="000000"/>
              </a:solidFill>
              <a:latin typeface="Calibri"/>
            </a:endParaRPr>
          </a:p>
        </p:txBody>
      </p:sp>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3D56AA-4B48-468F-95EF-DDC3BD4D94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88" name="PlaceHolder 2"/>
          <p:cNvSpPr>
            <a:spLocks noGrp="1"/>
          </p:cNvSpPr>
          <p:nvPr>
            <p:ph/>
          </p:nvPr>
        </p:nvSpPr>
        <p:spPr>
          <a:xfrm>
            <a:off x="457200" y="18813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 Cada Parte adotará as medidas legislativas e outras que sejam necessárias para estabelecer como infrações penais, nos termos de sua legislação nacional, quando cometidas intencionalmente, os danos, eliminação, deterioração, alteração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Uma Parte poderá reservar o direito de considerar que a conduta descrita no parágrafo 1 resulta em </a:t>
            </a:r>
            <a:r>
              <a:rPr b="1" lang="en-US" sz="4000" spc="-1" strike="noStrike">
                <a:solidFill>
                  <a:srgbClr val="ff0000"/>
                </a:solidFill>
                <a:latin typeface="Calibri"/>
                <a:ea typeface="Times New Roman"/>
              </a:rPr>
              <a:t>danos graves</a:t>
            </a:r>
            <a:r>
              <a:rPr b="1" lang="en-US" sz="2800" spc="-1" strike="noStrike">
                <a:solidFill>
                  <a:srgbClr val="ff0000"/>
                </a:solidFill>
                <a:latin typeface="Calibri"/>
              </a:rPr>
              <a:t>.</a:t>
            </a:r>
            <a:endParaRPr b="0" lang="en-US" sz="2800" spc="-1" strike="noStrike">
              <a:solidFill>
                <a:srgbClr val="000000"/>
              </a:solidFill>
              <a:latin typeface="Calibri"/>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AA55E2C-4FC1-4589-8CDA-7F5365E290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anos grave</a:t>
            </a:r>
            <a:endParaRPr b="0" lang="en-US" sz="4400" spc="-1" strike="noStrike">
              <a:solidFill>
                <a:srgbClr val="000000"/>
              </a:solidFill>
              <a:latin typeface="Calibri"/>
            </a:endParaRPr>
          </a:p>
        </p:txBody>
      </p:sp>
      <p:sp>
        <p:nvSpPr>
          <p:cNvPr id="191" name="PlaceHolder 2"/>
          <p:cNvSpPr>
            <a:spLocks noGrp="1"/>
          </p:cNvSpPr>
          <p:nvPr>
            <p:ph/>
          </p:nvPr>
        </p:nvSpPr>
        <p:spPr>
          <a:xfrm>
            <a:off x="457200" y="1899720"/>
            <a:ext cx="8229600" cy="3443400"/>
          </a:xfrm>
          <a:prstGeom prst="rect">
            <a:avLst/>
          </a:prstGeom>
          <a:noFill/>
          <a:ln w="0">
            <a:noFill/>
          </a:ln>
        </p:spPr>
        <p:txBody>
          <a:bodyPr anchor="t">
            <a:normAutofit fontScale="90000"/>
          </a:bodyPr>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s Partes podem limitar o âmbito deste delito, referindo que a conduta resulta em danos graves</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efinição de danos graves a prever na legislação nacional </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Poderá ser qualificado na base no quantum de danos monetários decorrentes da conduta</a:t>
            </a:r>
            <a:endParaRPr b="0" lang="en-US" sz="3000" spc="-1" strike="noStrike">
              <a:solidFill>
                <a:srgbClr val="000000"/>
              </a:solidFill>
              <a:latin typeface="Calibri"/>
            </a:endParaRPr>
          </a:p>
        </p:txBody>
      </p:sp>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15997BB-BCC8-4FA4-B80B-A1D39881F9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ferência do sistema</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5 – Convenção de Budapest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O impedimento grave do funcionamento de um sistema informático</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Através da inserção, transmissão, danos, eliminação, deterioração, alteração ou supressão de dad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ncionalmente, sem direito </a:t>
            </a:r>
            <a:endParaRPr b="0" lang="en-US" sz="3200" spc="-1" strike="noStrike">
              <a:solidFill>
                <a:srgbClr val="000000"/>
              </a:solidFill>
              <a:latin typeface="Calibri"/>
            </a:endParaRPr>
          </a:p>
        </p:txBody>
      </p:sp>
      <p:sp>
        <p:nvSpPr>
          <p:cNvPr id="1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C735F9-C17C-4C89-9BD3-4F07989364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5 - Interferência do sistema</a:t>
            </a: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o impedimento grave sem direito do funcionamento de um sistema informático através da introdução, transmissão, danos, eliminação, deterioração, alteração ou supressão de dados informáticos.</a:t>
            </a:r>
            <a:endParaRPr b="0" lang="en-US" sz="2800" spc="-1" strike="noStrike">
              <a:solidFill>
                <a:srgbClr val="000000"/>
              </a:solidFill>
              <a:latin typeface="Calibri"/>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E9339-34DC-489D-8061-C435F483D8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feld 12"/>
          <p:cNvSpPr/>
          <p:nvPr/>
        </p:nvSpPr>
        <p:spPr>
          <a:xfrm>
            <a:off x="179280" y="1052640"/>
            <a:ext cx="2786040" cy="3447000"/>
          </a:xfrm>
          <a:prstGeom prst="rect">
            <a:avLst/>
          </a:prstGeom>
          <a:solidFill>
            <a:srgbClr val="fdeada"/>
          </a:solidFill>
          <a:ln w="9360">
            <a:solidFill>
              <a:srgbClr val="7f7f7f"/>
            </a:solidFill>
            <a:miter/>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nduta de criminalização</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cesso ilega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ceção ilega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ferência de dad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ferência do sistem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Utilização indevida de dispositiv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raude e falsificaç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ornografia infanti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fensas IPR</a:t>
            </a:r>
            <a:endParaRPr b="0" lang="en-US" sz="1800" spc="-1" strike="noStrike">
              <a:solidFill>
                <a:srgbClr val="000000"/>
              </a:solidFill>
              <a:latin typeface="Arial"/>
            </a:endParaRPr>
          </a:p>
        </p:txBody>
      </p:sp>
      <p:sp>
        <p:nvSpPr>
          <p:cNvPr id="62" name="Textfeld 3"/>
          <p:cNvSpPr/>
          <p:nvPr/>
        </p:nvSpPr>
        <p:spPr>
          <a:xfrm>
            <a:off x="3465360" y="1041480"/>
            <a:ext cx="2428920" cy="28983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erramentas processuais</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eservação acelerad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rdens de produç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esquisa e apreens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ceção de dados informáticos</a:t>
            </a:r>
            <a:endParaRPr b="0" lang="en-US" sz="1800" spc="-1" strike="noStrike">
              <a:solidFill>
                <a:srgbClr val="000000"/>
              </a:solidFill>
              <a:latin typeface="Arial"/>
            </a:endParaRPr>
          </a:p>
        </p:txBody>
      </p:sp>
      <p:sp>
        <p:nvSpPr>
          <p:cNvPr id="63" name="Textfeld 4"/>
          <p:cNvSpPr/>
          <p:nvPr/>
        </p:nvSpPr>
        <p:spPr>
          <a:xfrm>
            <a:off x="6394320" y="1004760"/>
            <a:ext cx="2571840" cy="39956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operação internacional</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xtradiç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formações espontânea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eservação acelerad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 para aceder a dados informátic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 para interceç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ontos de contacto 24 horas por dia, 7 dias por semana</a:t>
            </a:r>
            <a:endParaRPr b="0" lang="en-US" sz="1800" spc="-1" strike="noStrike">
              <a:solidFill>
                <a:srgbClr val="000000"/>
              </a:solidFill>
              <a:latin typeface="Arial"/>
            </a:endParaRPr>
          </a:p>
        </p:txBody>
      </p:sp>
      <p:sp>
        <p:nvSpPr>
          <p:cNvPr id="64" name="Textfeld 16"/>
          <p:cNvSpPr/>
          <p:nvPr/>
        </p:nvSpPr>
        <p:spPr>
          <a:xfrm>
            <a:off x="289404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5" name="Textfeld 17"/>
          <p:cNvSpPr/>
          <p:nvPr/>
        </p:nvSpPr>
        <p:spPr>
          <a:xfrm>
            <a:off x="582300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6" name="Textfeld 18"/>
          <p:cNvSpPr/>
          <p:nvPr/>
        </p:nvSpPr>
        <p:spPr>
          <a:xfrm>
            <a:off x="2679840" y="526716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Arial"/>
              </a:rPr>
              <a:t>Harmonização </a:t>
            </a:r>
            <a:endParaRPr b="0" lang="en-US" sz="1800" spc="-1" strike="noStrike">
              <a:solidFill>
                <a:srgbClr val="000000"/>
              </a:solidFill>
              <a:latin typeface="Arial"/>
            </a:endParaRPr>
          </a:p>
        </p:txBody>
      </p:sp>
      <p:cxnSp>
        <p:nvCxnSpPr>
          <p:cNvPr id="67" name="Form 20"/>
          <p:cNvCxnSpPr>
            <a:stCxn id="61" idx="2"/>
          </p:cNvCxnSpPr>
          <p:nvPr/>
        </p:nvCxnSpPr>
        <p:spPr>
          <a:xfrm flipH="1" rot="16200000">
            <a:off x="3435840" y="2666160"/>
            <a:ext cx="1094760" cy="4822920"/>
          </a:xfrm>
          <a:prstGeom prst="bentConnector2">
            <a:avLst/>
          </a:prstGeom>
          <a:ln w="9360">
            <a:solidFill>
              <a:srgbClr val="002060"/>
            </a:solidFill>
            <a:miter/>
            <a:tailEnd len="med" type="arrow" w="med"/>
          </a:ln>
        </p:spPr>
      </p:cxnSp>
      <p:sp>
        <p:nvSpPr>
          <p:cNvPr id="68" name="Gerade Verbindung 27"/>
          <p:cNvSpPr/>
          <p:nvPr/>
        </p:nvSpPr>
        <p:spPr>
          <a:xfrm>
            <a:off x="4680000" y="3965400"/>
            <a:ext cx="0" cy="16592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PlaceHolder 1"/>
          <p:cNvSpPr>
            <a:spLocks noGrp="1"/>
          </p:cNvSpPr>
          <p:nvPr>
            <p:ph type="title"/>
          </p:nvPr>
        </p:nvSpPr>
        <p:spPr>
          <a:xfrm>
            <a:off x="3510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Âmbito da Convenção de Budapeste</a:t>
            </a:r>
            <a:endParaRPr b="0" lang="en-US" sz="4000" spc="-1" strike="noStrike">
              <a:solidFill>
                <a:srgbClr val="000000"/>
              </a:solidFill>
              <a:latin typeface="Calibri"/>
            </a:endParaRPr>
          </a:p>
        </p:txBody>
      </p:sp>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B21CB-20BB-4664-A4B7-DACC0F5301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5 - Interferência do sistema</a:t>
            </a: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o </a:t>
            </a:r>
            <a:r>
              <a:rPr b="1" lang="en-US" sz="4000" spc="-1" strike="noStrike">
                <a:solidFill>
                  <a:srgbClr val="ff0000"/>
                </a:solidFill>
                <a:latin typeface="Calibri"/>
                <a:ea typeface="Times New Roman"/>
              </a:rPr>
              <a:t>impedimento</a:t>
            </a:r>
            <a:r>
              <a:rPr b="0" lang="en-US" sz="2800" spc="-1" strike="noStrike">
                <a:solidFill>
                  <a:srgbClr val="000000"/>
                </a:solidFill>
                <a:latin typeface="Calibri"/>
                <a:ea typeface="Times New Roman"/>
              </a:rPr>
              <a:t> grave sem direito do funcionamento de um sistema informático através da introdução, transmissão, danos, eliminação, deterioração, alteração ou supressão de dados informáticos.</a:t>
            </a:r>
            <a:endParaRPr b="0" lang="en-US" sz="2800" spc="-1" strike="noStrike">
              <a:solidFill>
                <a:srgbClr val="000000"/>
              </a:solidFill>
              <a:latin typeface="Calibri"/>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AD94911-3901-443F-B60E-7A0A9DABDC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mpedimento do funcionamento de um sistema informático</a:t>
            </a:r>
            <a:endParaRPr b="0" lang="en-US" sz="4400" spc="-1" strike="noStrike">
              <a:solidFill>
                <a:srgbClr val="000000"/>
              </a:solidFill>
              <a:latin typeface="Calibri"/>
            </a:endParaRPr>
          </a:p>
        </p:txBody>
      </p:sp>
      <p:sp>
        <p:nvSpPr>
          <p:cNvPr id="202" name="PlaceHolder 2"/>
          <p:cNvSpPr>
            <a:spLocks noGrp="1"/>
          </p:cNvSpPr>
          <p:nvPr>
            <p:ph/>
          </p:nvPr>
        </p:nvSpPr>
        <p:spPr>
          <a:xfrm>
            <a:off x="457200" y="1914120"/>
            <a:ext cx="8229600" cy="3443400"/>
          </a:xfrm>
          <a:prstGeom prst="rect">
            <a:avLst/>
          </a:prstGeom>
          <a:noFill/>
          <a:ln w="0">
            <a:noFill/>
          </a:ln>
        </p:spPr>
        <p:txBody>
          <a:bodyPr anchor="t">
            <a:normAutofit fontScale="80000"/>
          </a:bodyPr>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interferência é uma ação que interfere com o funcionamento adequado do sistema informático</a:t>
            </a:r>
            <a:endParaRPr b="0" lang="en-US" sz="2800" spc="-1" strike="noStrike">
              <a:solidFill>
                <a:srgbClr val="000000"/>
              </a:solidFill>
              <a:latin typeface="Calibri"/>
            </a:endParaRPr>
          </a:p>
          <a:p>
            <a:pPr marL="27432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 impedimento ocorre através de:</a:t>
            </a:r>
            <a:endParaRPr b="0" lang="en-US" sz="28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inserçã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transmissã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danos;</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eliminaçã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alteraçã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supressão; </a:t>
            </a:r>
            <a:endParaRPr b="0" lang="en-US" sz="2400" spc="-1" strike="noStrike">
              <a:solidFill>
                <a:srgbClr val="000000"/>
              </a:solidFill>
              <a:latin typeface="Calibri"/>
            </a:endParaRPr>
          </a:p>
        </p:txBody>
      </p:sp>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33A22D7-624D-4E27-9F5D-DF7B737E4E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4" name="Rectangle 1"/>
          <p:cNvSpPr/>
          <p:nvPr/>
        </p:nvSpPr>
        <p:spPr>
          <a:xfrm>
            <a:off x="5265720" y="4567320"/>
            <a:ext cx="294516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ados informáticos</a:t>
            </a:r>
            <a:endParaRPr b="0" lang="en-US" sz="2800" spc="-1" strike="noStrike">
              <a:solidFill>
                <a:srgbClr val="000000"/>
              </a:solidFill>
              <a:latin typeface="Arial"/>
            </a:endParaRPr>
          </a:p>
        </p:txBody>
      </p:sp>
      <p:sp>
        <p:nvSpPr>
          <p:cNvPr id="205" name="Rectangle 2"/>
          <p:cNvSpPr/>
          <p:nvPr/>
        </p:nvSpPr>
        <p:spPr>
          <a:xfrm>
            <a:off x="914400" y="370044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Rectangle 6"/>
          <p:cNvSpPr/>
          <p:nvPr/>
        </p:nvSpPr>
        <p:spPr>
          <a:xfrm>
            <a:off x="912960" y="410544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7"/>
          <p:cNvSpPr/>
          <p:nvPr/>
        </p:nvSpPr>
        <p:spPr>
          <a:xfrm>
            <a:off x="912960" y="451332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8"/>
          <p:cNvSpPr/>
          <p:nvPr/>
        </p:nvSpPr>
        <p:spPr>
          <a:xfrm>
            <a:off x="909720" y="491976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9"/>
          <p:cNvSpPr/>
          <p:nvPr/>
        </p:nvSpPr>
        <p:spPr>
          <a:xfrm>
            <a:off x="912960" y="532908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10"/>
          <p:cNvSpPr/>
          <p:nvPr/>
        </p:nvSpPr>
        <p:spPr>
          <a:xfrm>
            <a:off x="909720" y="573552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11" name="Straight Arrow Connector 4"/>
          <p:cNvCxnSpPr>
            <a:stCxn id="205" idx="3"/>
            <a:endCxn id="204" idx="1"/>
          </p:cNvCxnSpPr>
          <p:nvPr/>
        </p:nvCxnSpPr>
        <p:spPr>
          <a:xfrm>
            <a:off x="3038400" y="3897000"/>
            <a:ext cx="2532960" cy="910440"/>
          </a:xfrm>
          <a:prstGeom prst="straightConnector1">
            <a:avLst/>
          </a:prstGeom>
          <a:ln w="25560">
            <a:solidFill>
              <a:srgbClr val="4f81bd"/>
            </a:solidFill>
            <a:miter/>
            <a:tailEnd len="med" type="triangle" w="med"/>
          </a:ln>
        </p:spPr>
      </p:cxnSp>
      <p:cxnSp>
        <p:nvCxnSpPr>
          <p:cNvPr id="212" name="Straight Arrow Connector 16"/>
          <p:cNvCxnSpPr>
            <a:stCxn id="206" idx="3"/>
            <a:endCxn id="204" idx="1"/>
          </p:cNvCxnSpPr>
          <p:nvPr/>
        </p:nvCxnSpPr>
        <p:spPr>
          <a:xfrm>
            <a:off x="3036960" y="4301640"/>
            <a:ext cx="2534400" cy="505800"/>
          </a:xfrm>
          <a:prstGeom prst="straightConnector1">
            <a:avLst/>
          </a:prstGeom>
          <a:ln w="25560">
            <a:solidFill>
              <a:srgbClr val="4f81bd"/>
            </a:solidFill>
            <a:miter/>
            <a:tailEnd len="med" type="triangle" w="med"/>
          </a:ln>
        </p:spPr>
      </p:cxnSp>
      <p:cxnSp>
        <p:nvCxnSpPr>
          <p:cNvPr id="213" name="Straight Arrow Connector 19"/>
          <p:cNvCxnSpPr>
            <a:stCxn id="207" idx="3"/>
            <a:endCxn id="204" idx="1"/>
          </p:cNvCxnSpPr>
          <p:nvPr/>
        </p:nvCxnSpPr>
        <p:spPr>
          <a:xfrm>
            <a:off x="3036960" y="4709880"/>
            <a:ext cx="2534400" cy="97560"/>
          </a:xfrm>
          <a:prstGeom prst="straightConnector1">
            <a:avLst/>
          </a:prstGeom>
          <a:ln w="25560">
            <a:solidFill>
              <a:srgbClr val="4f81bd"/>
            </a:solidFill>
            <a:miter/>
            <a:tailEnd len="med" type="triangle" w="med"/>
          </a:ln>
        </p:spPr>
      </p:cxnSp>
      <p:cxnSp>
        <p:nvCxnSpPr>
          <p:cNvPr id="214" name="Straight Arrow Connector 22"/>
          <p:cNvCxnSpPr>
            <a:stCxn id="208" idx="3"/>
            <a:endCxn id="204" idx="1"/>
          </p:cNvCxnSpPr>
          <p:nvPr/>
        </p:nvCxnSpPr>
        <p:spPr>
          <a:xfrm flipV="1">
            <a:off x="3033360" y="4806720"/>
            <a:ext cx="2537640" cy="310320"/>
          </a:xfrm>
          <a:prstGeom prst="straightConnector1">
            <a:avLst/>
          </a:prstGeom>
          <a:ln w="25560">
            <a:solidFill>
              <a:srgbClr val="4f81bd"/>
            </a:solidFill>
            <a:miter/>
            <a:tailEnd len="med" type="triangle" w="med"/>
          </a:ln>
        </p:spPr>
      </p:cxnSp>
      <p:cxnSp>
        <p:nvCxnSpPr>
          <p:cNvPr id="215" name="Straight Arrow Connector 30"/>
          <p:cNvCxnSpPr>
            <a:stCxn id="209" idx="3"/>
            <a:endCxn id="204" idx="1"/>
          </p:cNvCxnSpPr>
          <p:nvPr/>
        </p:nvCxnSpPr>
        <p:spPr>
          <a:xfrm flipV="1">
            <a:off x="3036960" y="4806360"/>
            <a:ext cx="2534400" cy="719640"/>
          </a:xfrm>
          <a:prstGeom prst="straightConnector1">
            <a:avLst/>
          </a:prstGeom>
          <a:ln w="25560">
            <a:solidFill>
              <a:srgbClr val="4f81bd"/>
            </a:solidFill>
            <a:miter/>
            <a:tailEnd len="med" type="triangle" w="med"/>
          </a:ln>
        </p:spPr>
      </p:cxnSp>
      <p:cxnSp>
        <p:nvCxnSpPr>
          <p:cNvPr id="216" name="Straight Arrow Connector 33"/>
          <p:cNvCxnSpPr>
            <a:stCxn id="210" idx="3"/>
            <a:endCxn id="204" idx="1"/>
          </p:cNvCxnSpPr>
          <p:nvPr/>
        </p:nvCxnSpPr>
        <p:spPr>
          <a:xfrm flipV="1">
            <a:off x="3033360" y="4806720"/>
            <a:ext cx="2537640" cy="112608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5 - Interferência do sistema</a:t>
            </a: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o </a:t>
            </a:r>
            <a:r>
              <a:rPr b="1" lang="en-US" sz="4000" spc="-1" strike="noStrike">
                <a:solidFill>
                  <a:srgbClr val="ff0000"/>
                </a:solidFill>
                <a:latin typeface="Calibri"/>
                <a:ea typeface="Times New Roman"/>
              </a:rPr>
              <a:t>impedimento grave </a:t>
            </a:r>
            <a:r>
              <a:rPr b="0" lang="en-US" sz="2800" spc="-1" strike="noStrike">
                <a:solidFill>
                  <a:srgbClr val="000000"/>
                </a:solidFill>
                <a:latin typeface="Calibri"/>
                <a:ea typeface="Times New Roman"/>
              </a:rPr>
              <a:t>sem direito do funcionamento de um sistema informático através da introdução, transmissão, danos, eliminação, deterioração, alteração ou supressão de dados informáticos.</a:t>
            </a:r>
            <a:endParaRPr b="0" lang="en-US" sz="2800" spc="-1" strike="noStrike">
              <a:solidFill>
                <a:srgbClr val="000000"/>
              </a:solidFill>
              <a:latin typeface="Calibri"/>
            </a:endParaRPr>
          </a:p>
        </p:txBody>
      </p:sp>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D771A65-48BE-4B5F-AE7C-4736DEB4F2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mpedimento grave</a:t>
            </a:r>
            <a:endParaRPr b="0" lang="en-US" sz="4400" spc="-1" strike="noStrike">
              <a:solidFill>
                <a:srgbClr val="000000"/>
              </a:solidFill>
              <a:latin typeface="Calibri"/>
            </a:endParaRPr>
          </a:p>
        </p:txBody>
      </p:sp>
      <p:sp>
        <p:nvSpPr>
          <p:cNvPr id="221" name="PlaceHolder 2"/>
          <p:cNvSpPr>
            <a:spLocks noGrp="1"/>
          </p:cNvSpPr>
          <p:nvPr>
            <p:ph/>
          </p:nvPr>
        </p:nvSpPr>
        <p:spPr>
          <a:xfrm>
            <a:off x="457200" y="1428840"/>
            <a:ext cx="8229600" cy="3443040"/>
          </a:xfrm>
          <a:prstGeom prst="rect">
            <a:avLst/>
          </a:prstGeom>
          <a:noFill/>
          <a:ln w="0">
            <a:noFill/>
          </a:ln>
        </p:spPr>
        <p:txBody>
          <a:bodyPr anchor="t">
            <a:normAutofit fontScale="82000"/>
          </a:bodyPr>
          <a:p>
            <a:pPr marL="281160" indent="-28116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Os critérios para determinar o que constitui uma conduta grave devem ser determinados pelas Partes. </a:t>
            </a:r>
            <a:endParaRPr b="0" lang="en-US" sz="2400" spc="-1" strike="noStrike">
              <a:solidFill>
                <a:srgbClr val="000000"/>
              </a:solidFill>
              <a:latin typeface="Calibri"/>
            </a:endParaRPr>
          </a:p>
          <a:p>
            <a:pPr marL="281160" indent="-28116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O envio de dados para um determinado sistema num formato, tamanho ou frequência que tenha um efeito prejudicial significativo na capacidade do proprietário ou operador de:</a:t>
            </a:r>
            <a:endParaRPr b="0" lang="en-US" sz="24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Utilizar o sistema; ou</a:t>
            </a:r>
            <a:endParaRPr b="0" lang="en-US" sz="20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Comunicar com outros sistemas</a:t>
            </a:r>
            <a:endParaRPr b="0" lang="en-US" sz="2000" spc="-1" strike="noStrike">
              <a:solidFill>
                <a:srgbClr val="000000"/>
              </a:solidFill>
              <a:latin typeface="Calibri"/>
            </a:endParaRPr>
          </a:p>
          <a:p>
            <a:pPr marL="281160" indent="-28116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Exemplos:</a:t>
            </a:r>
            <a:endParaRPr b="0" lang="en-US" sz="24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gramas que geram ataques de negação de serviços</a:t>
            </a:r>
            <a:endParaRPr b="0" lang="en-US" sz="20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Códigos maliciosos que impedem ou abrandam a operação do sistema</a:t>
            </a:r>
            <a:endParaRPr b="0" lang="en-US" sz="20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gramas que enviam enormes quantidades de correio eletrónico para um destinatário, a fim de bloquear as funções de comunicação do sistema</a:t>
            </a:r>
            <a:endParaRPr b="0" lang="en-US" sz="2000" spc="-1" strike="noStrike">
              <a:solidFill>
                <a:srgbClr val="000000"/>
              </a:solidFill>
              <a:latin typeface="Calibri"/>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9129F8A-F05E-4913-9F65-90E8B3829E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5 - Interferência do sistema</a:t>
            </a:r>
            <a:endParaRPr b="0" lang="en-US" sz="4400" spc="-1" strike="noStrike">
              <a:solidFill>
                <a:srgbClr val="000000"/>
              </a:solidFill>
              <a:latin typeface="Calibri"/>
            </a:endParaRPr>
          </a:p>
        </p:txBody>
      </p:sp>
      <p:sp>
        <p:nvSpPr>
          <p:cNvPr id="224"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o impedimento grave </a:t>
            </a:r>
            <a:r>
              <a:rPr b="1" lang="en-US" sz="4000" spc="-1" strike="noStrike">
                <a:solidFill>
                  <a:srgbClr val="ff0000"/>
                </a:solidFill>
                <a:latin typeface="Calibri"/>
                <a:ea typeface="Times New Roman"/>
              </a:rPr>
              <a:t>sem direito </a:t>
            </a:r>
            <a:r>
              <a:rPr b="0" lang="en-US" sz="2800" spc="-1" strike="noStrike">
                <a:solidFill>
                  <a:srgbClr val="000000"/>
                </a:solidFill>
                <a:latin typeface="Calibri"/>
                <a:ea typeface="Times New Roman"/>
              </a:rPr>
              <a:t>do funcionamento de um sistema informático através da introdução, transmissão, danos, eliminação, deterioração, alteração ou supressão de dados informáticos.</a:t>
            </a:r>
            <a:endParaRPr b="0" lang="en-US" sz="2800" spc="-1" strike="noStrike">
              <a:solidFill>
                <a:srgbClr val="000000"/>
              </a:solidFill>
              <a:latin typeface="Calibri"/>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2142967-EC50-456A-8C5F-E27882A2F7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227" name="PlaceHolder 2"/>
          <p:cNvSpPr>
            <a:spLocks noGrp="1"/>
          </p:cNvSpPr>
          <p:nvPr>
            <p:ph/>
          </p:nvPr>
        </p:nvSpPr>
        <p:spPr>
          <a:xfrm>
            <a:off x="457200" y="1161720"/>
            <a:ext cx="8229600" cy="3443400"/>
          </a:xfrm>
          <a:prstGeom prst="rect">
            <a:avLst/>
          </a:prstGeom>
          <a:noFill/>
          <a:ln w="0">
            <a:noFill/>
          </a:ln>
        </p:spPr>
        <p:txBody>
          <a:bodyPr anchor="t">
            <a:normAutofit fontScale="70000"/>
          </a:bodyPr>
          <a:p>
            <a:pPr marL="240120" indent="-2401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ão se aplica quando a pessoa que interfere tem o direito de interferir com os dados</a:t>
            </a:r>
            <a:endParaRPr b="0" lang="en-US" sz="3000" spc="-1" strike="noStrike">
              <a:solidFill>
                <a:srgbClr val="000000"/>
              </a:solidFill>
              <a:latin typeface="Calibri"/>
            </a:endParaRPr>
          </a:p>
          <a:p>
            <a:pPr marL="240120" indent="-2401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xemplos incluem:</a:t>
            </a:r>
            <a:endParaRPr b="0" lang="en-US" sz="30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Atividades inerentes ao design de redes ou práticas operacionais ou comerciais comuns</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Teste de segurança do sistema informático autorizado pelo proprietário ou operador;</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Proteção do sistema informático pelo proprietário ou operador;</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Reconfiguração do sistema operativo do computador em que o operador do sistema instala um novo software que desativa programas instalados anteriormente;</a:t>
            </a:r>
            <a:endParaRPr b="0" lang="en-US" sz="2800" spc="-1" strike="noStrike">
              <a:solidFill>
                <a:srgbClr val="000000"/>
              </a:solidFill>
              <a:latin typeface="Calibri"/>
            </a:endParaRPr>
          </a:p>
        </p:txBody>
      </p:sp>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FA39E5C-A3C8-4D2F-A17A-E18DACA7A6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80960" y="274320"/>
            <a:ext cx="8205840" cy="5791320"/>
          </a:xfrm>
          <a:prstGeom prst="rect">
            <a:avLst/>
          </a:prstGeom>
          <a:noFill/>
          <a:ln w="0">
            <a:noFill/>
          </a:ln>
        </p:spPr>
        <p:txBody>
          <a:bodyPr anchor="t">
            <a:norm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Times New Roman"/>
              </a:rPr>
              <a:t>Utilização indevida de dispositivos</a:t>
            </a:r>
            <a:endParaRPr b="0" lang="en-US" sz="2400" spc="-1" strike="noStrike">
              <a:solidFill>
                <a:srgbClr val="000000"/>
              </a:solidFill>
              <a:latin typeface="Calibri"/>
            </a:endParaRPr>
          </a:p>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Times New Roman"/>
              </a:rPr>
              <a:t>(Artigo 6.º - Convenção de Budapeste)</a:t>
            </a:r>
            <a:endParaRPr b="0" lang="en-US" sz="2400" spc="-1" strike="noStrike">
              <a:solidFill>
                <a:srgbClr val="000000"/>
              </a:solidFill>
              <a:latin typeface="Calibri"/>
            </a:endParaRPr>
          </a:p>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intencionalmente e sem direi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para produzir, vender, adquirir para utilização, importar, distribuir ou disponibilizar de outra forma:</a:t>
            </a:r>
            <a:endParaRPr b="0" lang="en-US" sz="2400" spc="-1" strike="noStrike">
              <a:solidFill>
                <a:srgbClr val="000000"/>
              </a:solidFill>
              <a:latin typeface="Calibri"/>
            </a:endParaRPr>
          </a:p>
          <a:p>
            <a:pPr lvl="2" marL="914400" indent="0" algn="just">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1.</a:t>
            </a:r>
            <a:r>
              <a:rPr b="0" lang="en-US" sz="2000" spc="-1" strike="noStrike">
                <a:solidFill>
                  <a:srgbClr val="000000"/>
                </a:solidFill>
                <a:latin typeface="Calibri"/>
              </a:rPr>
              <a:t>	</a:t>
            </a:r>
            <a:r>
              <a:rPr b="0" lang="en-US" sz="2000" spc="-1" strike="noStrike">
                <a:solidFill>
                  <a:srgbClr val="000000"/>
                </a:solidFill>
                <a:latin typeface="Calibri"/>
              </a:rPr>
              <a:t>um dispositivo,</a:t>
            </a:r>
            <a:r>
              <a:rPr b="1" lang="en-US" sz="2000" spc="-1" strike="noStrike">
                <a:solidFill>
                  <a:srgbClr val="000000"/>
                </a:solidFill>
                <a:latin typeface="Calibri"/>
              </a:rPr>
              <a:t> </a:t>
            </a:r>
            <a:r>
              <a:rPr b="0" lang="en-US" sz="2000" spc="-1" strike="noStrike">
                <a:solidFill>
                  <a:srgbClr val="000000"/>
                </a:solidFill>
                <a:latin typeface="Calibri"/>
              </a:rPr>
              <a:t>incluindo um programa informático, concebido ou </a:t>
            </a:r>
            <a:r>
              <a:rPr b="0" lang="en-US" sz="2000" spc="-1" strike="noStrike">
                <a:solidFill>
                  <a:srgbClr val="000000"/>
                </a:solidFill>
                <a:latin typeface="Calibri"/>
              </a:rPr>
              <a:t>	</a:t>
            </a:r>
            <a:r>
              <a:rPr b="0" lang="en-US" sz="2000" spc="-1" strike="noStrike">
                <a:solidFill>
                  <a:srgbClr val="000000"/>
                </a:solidFill>
                <a:latin typeface="Calibri"/>
              </a:rPr>
              <a:t>adaptado principalmente</a:t>
            </a:r>
            <a:r>
              <a:rPr b="1" lang="en-US" sz="2000" spc="-1" strike="noStrike">
                <a:solidFill>
                  <a:srgbClr val="000000"/>
                </a:solidFill>
                <a:latin typeface="Calibri"/>
              </a:rPr>
              <a:t> </a:t>
            </a:r>
            <a:r>
              <a:rPr b="0" lang="en-US" sz="2000" spc="-1" strike="noStrike">
                <a:solidFill>
                  <a:srgbClr val="000000"/>
                </a:solidFill>
                <a:latin typeface="Calibri"/>
              </a:rPr>
              <a:t>para </a:t>
            </a:r>
            <a:r>
              <a:rPr b="0" lang="en-US" sz="2000" spc="-1" strike="noStrike">
                <a:solidFill>
                  <a:srgbClr val="000000"/>
                </a:solidFill>
                <a:latin typeface="Calibri"/>
              </a:rPr>
              <a:t>	</a:t>
            </a:r>
            <a:r>
              <a:rPr b="0" lang="en-US" sz="2000" spc="-1" strike="noStrike">
                <a:solidFill>
                  <a:srgbClr val="000000"/>
                </a:solidFill>
                <a:latin typeface="Calibri"/>
              </a:rPr>
              <a:t>cometer qualquer uma </a:t>
            </a:r>
            <a:r>
              <a:rPr b="0" lang="en-US" sz="2000" spc="-1" strike="noStrike">
                <a:solidFill>
                  <a:srgbClr val="000000"/>
                </a:solidFill>
                <a:latin typeface="Calibri"/>
              </a:rPr>
              <a:t>	</a:t>
            </a:r>
            <a:r>
              <a:rPr b="0" lang="en-US" sz="2000" spc="-1" strike="noStrike">
                <a:solidFill>
                  <a:srgbClr val="000000"/>
                </a:solidFill>
                <a:latin typeface="Calibri"/>
              </a:rPr>
              <a:t>das infrações estabelecidas em conformidade com o Artigo </a:t>
            </a:r>
            <a:r>
              <a:rPr b="0" lang="en-US" sz="2000" spc="-1" strike="noStrike">
                <a:solidFill>
                  <a:srgbClr val="000000"/>
                </a:solidFill>
                <a:latin typeface="Calibri"/>
              </a:rPr>
              <a:t>	</a:t>
            </a:r>
            <a:r>
              <a:rPr b="0" lang="en-US" sz="2000" spc="-1" strike="noStrike">
                <a:solidFill>
                  <a:srgbClr val="000000"/>
                </a:solidFill>
                <a:latin typeface="Calibri"/>
              </a:rPr>
              <a:t>2 – 5;</a:t>
            </a:r>
            <a:endParaRPr b="0" lang="en-US" sz="2000" spc="-1" strike="noStrike">
              <a:solidFill>
                <a:srgbClr val="000000"/>
              </a:solidFill>
              <a:latin typeface="Calibri"/>
            </a:endParaRPr>
          </a:p>
          <a:p>
            <a:pPr lvl="2" marL="914400" indent="0" algn="just">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2.</a:t>
            </a:r>
            <a:r>
              <a:rPr b="0" lang="en-US" sz="2000" spc="-1" strike="noStrike">
                <a:solidFill>
                  <a:srgbClr val="000000"/>
                </a:solidFill>
                <a:latin typeface="Calibri"/>
              </a:rPr>
              <a:t>	</a:t>
            </a:r>
            <a:r>
              <a:rPr b="0" lang="en-US" sz="2000" spc="-1" strike="noStrike">
                <a:solidFill>
                  <a:srgbClr val="000000"/>
                </a:solidFill>
                <a:latin typeface="Calibri"/>
              </a:rPr>
              <a:t>uma palavra-passe, um código de acesso ou dados semelhantes pelos quais a totalidade ou qualquer parte de um sistema informático é capaz de ser acedida com a intenção de ser utilizada com a finalidade de cometer qualquer uma das infrações estabelecidas nos artigos 2 - 5</a:t>
            </a:r>
            <a:endParaRPr b="0" lang="en-US" sz="20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998C366-AC74-484D-8ABF-4A46F91B49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Utilização indevida de dispositivo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6 – Convenção de Budapeste)</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Intencionalmente e sem direito</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Para possuir um item mencionado nos parágrafos (a)(1) ou</a:t>
            </a:r>
            <a:r>
              <a:rPr b="1" i="1" lang="en-US" sz="2800" spc="-1" strike="noStrike">
                <a:solidFill>
                  <a:srgbClr val="000000"/>
                </a:solidFill>
                <a:latin typeface="Calibri"/>
                <a:ea typeface="Times New Roman"/>
              </a:rPr>
              <a:t> </a:t>
            </a:r>
            <a:r>
              <a:rPr b="0" i="1" lang="en-US" sz="2800" spc="-1" strike="noStrike">
                <a:solidFill>
                  <a:srgbClr val="000000"/>
                </a:solidFill>
                <a:latin typeface="Calibri"/>
                <a:ea typeface="Times New Roman"/>
              </a:rPr>
              <a:t>(2) acima, com a intenção de que seja utilizado para cometer qualquer uma das infrações estabelecidas nos artigos 2.º - 5.º.</a:t>
            </a:r>
            <a:endParaRPr b="0" lang="en-US" sz="2800" spc="-1" strike="noStrike">
              <a:solidFill>
                <a:srgbClr val="000000"/>
              </a:solidFill>
              <a:latin typeface="Calibri"/>
            </a:endParaRPr>
          </a:p>
        </p:txBody>
      </p:sp>
      <p:sp>
        <p:nvSpPr>
          <p:cNvPr id="2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83E1E5C-4FFB-4983-837F-20FD7E8FBB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34" name="PlaceHolder 2"/>
          <p:cNvSpPr>
            <a:spLocks noGrp="1"/>
          </p:cNvSpPr>
          <p:nvPr>
            <p:ph/>
          </p:nvPr>
        </p:nvSpPr>
        <p:spPr>
          <a:xfrm>
            <a:off x="457200" y="2106360"/>
            <a:ext cx="8229600" cy="294300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sem direito:</a:t>
            </a:r>
            <a:endParaRPr b="0" lang="en-US" sz="3200" spc="-1" strike="noStrike">
              <a:solidFill>
                <a:srgbClr val="000000"/>
              </a:solidFill>
              <a:latin typeface="Calibri"/>
            </a:endParaRPr>
          </a:p>
        </p:txBody>
      </p:sp>
      <p:sp>
        <p:nvSpPr>
          <p:cNvPr id="2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C5622-5943-4F1F-8DB5-32E1E75BCF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37" name="PlaceHolder 2"/>
          <p:cNvSpPr>
            <a:spLocks noGrp="1"/>
          </p:cNvSpPr>
          <p:nvPr>
            <p:ph/>
          </p:nvPr>
        </p:nvSpPr>
        <p:spPr>
          <a:xfrm>
            <a:off x="457200" y="1417680"/>
            <a:ext cx="8229600" cy="4983120"/>
          </a:xfrm>
          <a:prstGeom prst="rect">
            <a:avLst/>
          </a:prstGeom>
          <a:noFill/>
          <a:ln w="0">
            <a:noFill/>
          </a:ln>
        </p:spPr>
        <p:txBody>
          <a:bodyPr anchor="t">
            <a:normAutofit fontScale="97000"/>
          </a:bodyPr>
          <a:p>
            <a:pPr lvl="1" marL="284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a)</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a produção, venda, aquisição para utilização, importação, distribuição ou disponibilização de:</a:t>
            </a:r>
            <a:endParaRPr b="0" lang="en-US" sz="2400" spc="-1" strike="noStrike">
              <a:solidFill>
                <a:srgbClr val="000000"/>
              </a:solidFill>
              <a:latin typeface="Calibri"/>
            </a:endParaRPr>
          </a:p>
          <a:p>
            <a:pPr lvl="2" marL="5587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1.</a:t>
            </a: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um dispositivo, incluindo um programa informático, concebido ou adaptado principalmente para cometer qualquer uma das infrações estabelecidas em conformidade com o Artigo 2 – 5;</a:t>
            </a:r>
            <a:endParaRPr b="0" lang="en-US" sz="2200" spc="-1" strike="noStrike">
              <a:solidFill>
                <a:srgbClr val="000000"/>
              </a:solidFill>
              <a:latin typeface="Calibri"/>
            </a:endParaRPr>
          </a:p>
          <a:p>
            <a:pPr lvl="2" marL="5587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2.</a:t>
            </a: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 - 5; </a:t>
            </a:r>
            <a:endParaRPr b="0" lang="en-US" sz="2200" spc="-1" strike="noStrike">
              <a:solidFill>
                <a:srgbClr val="000000"/>
              </a:solidFill>
              <a:latin typeface="Calibri"/>
            </a:endParaRPr>
          </a:p>
          <a:p>
            <a:pPr lvl="1" marL="284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b)</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a posse de um item mencionado nos parágrafos (a)(1) ou (2) acima, com a intenção de que seja utilizado para cometer qualquer uma das infrações estabelecidas nos artigos 2.º - 5.º. </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Uma Parte pode exigir por lei que vários desses itens sejam possuídos antes da responsabilidade criminal ser anexada.</a:t>
            </a:r>
            <a:endParaRPr b="0" lang="en-US" sz="2400" spc="-1" strike="noStrike">
              <a:solidFill>
                <a:srgbClr val="000000"/>
              </a:solidFill>
              <a:latin typeface="Calibri"/>
            </a:endParaRPr>
          </a:p>
        </p:txBody>
      </p:sp>
      <p:sp>
        <p:nvSpPr>
          <p:cNvPr id="2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39F2DA-717C-4BE4-A283-419BCA040E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 o objetivo de facilitar e desenvolver a cooperação internacional em investigações crimina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 o objetivo de harmonizar o direito substanc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inindo:</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	</a:t>
            </a:r>
            <a:r>
              <a:rPr b="0" lang="en-US" sz="2800" spc="-1" strike="noStrike">
                <a:solidFill>
                  <a:srgbClr val="000000"/>
                </a:solidFill>
                <a:latin typeface="Calibri"/>
              </a:rPr>
              <a:t> Infrações contra a confidencialidade, integridade e disponibilidade de sistemas e dados informático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frações informática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frações relacionadas com o conteúdo:</a:t>
            </a:r>
            <a:endParaRPr b="0" lang="en-US" sz="2800" spc="-1" strike="noStrike">
              <a:solidFill>
                <a:srgbClr val="000000"/>
              </a:solidFill>
              <a:latin typeface="Calibri"/>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 disposições do Direito Penal Substancial</a:t>
            </a:r>
            <a:endParaRPr b="0" lang="en-US" sz="4400" spc="-1" strike="noStrike">
              <a:solidFill>
                <a:srgbClr val="000000"/>
              </a:solidFill>
              <a:latin typeface="Calibri"/>
            </a:endParaRPr>
          </a:p>
        </p:txBody>
      </p:sp>
      <p:sp>
        <p:nvSpPr>
          <p:cNvPr id="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ADD32-65E8-432A-8DB7-A4F255E02C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40" name="PlaceHolder 2"/>
          <p:cNvSpPr>
            <a:spLocks noGrp="1"/>
          </p:cNvSpPr>
          <p:nvPr>
            <p:ph/>
          </p:nvPr>
        </p:nvSpPr>
        <p:spPr>
          <a:xfrm>
            <a:off x="457200" y="154476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Este artigo não deve ser interpretado como impondo responsabilidade penal quando a produção, venda, aquisição para utilização, importação, distribuição ou disponibilização/posse a que se refere o parágrafo 1 deste artigo não se destinar a cometer um delito estabelecido de acordo com os Artigos 2 a 5 desta Convenção, como para o teste ou proteção autorizada de um sistema informático.</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3. Cada Parte poderá reservar-se o direito de não aplicar o parágrafo 1 deste artigo, desde que a reserva não diga respeito à venda, distribuição ou disponibilização de qualquer outra parte dos itens mencionados no parágrafo 1 a.ii deste artigo.</a:t>
            </a:r>
            <a:endParaRPr b="0" lang="en-US" sz="2400" spc="-1" strike="noStrike">
              <a:solidFill>
                <a:srgbClr val="000000"/>
              </a:solidFill>
              <a:latin typeface="Calibri"/>
            </a:endParaRPr>
          </a:p>
        </p:txBody>
      </p:sp>
      <p:sp>
        <p:nvSpPr>
          <p:cNvPr id="2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64878-9CA5-4E36-98AE-C4A6B93F28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43"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a:t>
            </a:r>
            <a:r>
              <a:rPr b="1" lang="en-US" sz="4000" spc="-1" strike="noStrike">
                <a:solidFill>
                  <a:srgbClr val="ff0000"/>
                </a:solidFill>
                <a:latin typeface="Calibri"/>
                <a:ea typeface="Times New Roman"/>
              </a:rPr>
              <a:t>sem direito</a:t>
            </a:r>
            <a:r>
              <a:rPr b="0" lang="en-US" sz="3200" spc="-1" strike="noStrike">
                <a:solidFill>
                  <a:srgbClr val="000000"/>
                </a:solidFill>
                <a:latin typeface="Calibri"/>
                <a:ea typeface="Times New Roman"/>
              </a:rPr>
              <a:t>:</a:t>
            </a:r>
            <a:endParaRPr b="0" lang="en-US" sz="3200" spc="-1" strike="noStrike">
              <a:solidFill>
                <a:srgbClr val="000000"/>
              </a:solidFill>
              <a:latin typeface="Calibri"/>
            </a:endParaRPr>
          </a:p>
        </p:txBody>
      </p:sp>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FB7B026-AAD3-4BC2-93B6-4C7E836430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246"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Utilização indevida sem direito</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Evita a criminalização excessiva quando os dispositivos são produzidos e colocados no mercado para fins legítimos</a:t>
            </a:r>
            <a:endParaRPr b="0" lang="en-US" sz="3200" spc="-1" strike="noStrike">
              <a:solidFill>
                <a:srgbClr val="000000"/>
              </a:solidFill>
              <a:latin typeface="Calibri"/>
            </a:endParaRPr>
          </a:p>
        </p:txBody>
      </p:sp>
      <p:sp>
        <p:nvSpPr>
          <p:cNvPr id="2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B9C2994-B55B-430C-8028-B60ED4FB98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49"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a:t>
            </a:r>
            <a:r>
              <a:rPr b="1" lang="en-US" sz="2800" spc="-1" strike="noStrike">
                <a:solidFill>
                  <a:srgbClr val="ff0000"/>
                </a:solidFill>
                <a:latin typeface="Calibri"/>
                <a:ea typeface="Times New Roman"/>
              </a:rPr>
              <a:t>produção</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venda</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aquisição para utilização</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importação</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distribuição</a:t>
            </a:r>
            <a:r>
              <a:rPr b="0" lang="en-US" sz="2800" spc="-1" strike="noStrike">
                <a:solidFill>
                  <a:srgbClr val="000000"/>
                </a:solidFill>
                <a:latin typeface="Calibri"/>
                <a:ea typeface="Times New Roman"/>
              </a:rPr>
              <a:t> </a:t>
            </a:r>
            <a:r>
              <a:rPr b="0" lang="en-US" sz="2000" spc="-1" strike="noStrike">
                <a:solidFill>
                  <a:srgbClr val="000000"/>
                </a:solidFill>
                <a:latin typeface="Calibri"/>
                <a:ea typeface="Times New Roman"/>
              </a:rPr>
              <a:t>ou </a:t>
            </a:r>
            <a:r>
              <a:rPr b="1" lang="en-US" sz="2800" spc="-1" strike="noStrike">
                <a:solidFill>
                  <a:srgbClr val="ff0000"/>
                </a:solidFill>
                <a:latin typeface="Calibri"/>
                <a:ea typeface="Times New Roman"/>
              </a:rPr>
              <a:t>disponibilização de</a:t>
            </a:r>
            <a:r>
              <a:rPr b="0" lang="en-US" sz="2000" spc="-1" strike="noStrike">
                <a:solidFill>
                  <a:srgbClr val="000000"/>
                </a:solidFill>
                <a:latin typeface="Calibri"/>
                <a:ea typeface="Times New Roman"/>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incluindo um programa informático, concebido ou adaptado principalmente para cometer qualquer uma das infrações estabelecidas em conformidade com o Artigo 2 – 5;</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osse de um item mencionado nos parágrafos (a)(1) ou (2) acima, com a intenção de que seja utilizado para cometer qualquer uma das infrações estabelecidas nos artigos 2.º - 5.º. Uma Parte pode exigir por lei que vários desses itens sejam possuídos antes da responsabilidade criminal ser anexada.</a:t>
            </a:r>
            <a:endParaRPr b="0" lang="en-US" sz="2000" spc="-1" strike="noStrike">
              <a:solidFill>
                <a:srgbClr val="000000"/>
              </a:solidFill>
              <a:latin typeface="Calibri"/>
            </a:endParaRPr>
          </a:p>
        </p:txBody>
      </p:sp>
      <p:sp>
        <p:nvSpPr>
          <p:cNvPr id="2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7D6E2E8-9196-4EF4-8899-5D4ABE100C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rodução, venda, etc.</a:t>
            </a:r>
            <a:endParaRPr b="0" lang="en-US" sz="4400" spc="-1" strike="noStrike">
              <a:solidFill>
                <a:srgbClr val="000000"/>
              </a:solidFill>
              <a:latin typeface="Calibri"/>
            </a:endParaRPr>
          </a:p>
        </p:txBody>
      </p:sp>
      <p:sp>
        <p:nvSpPr>
          <p:cNvPr id="252" name="PlaceHolder 2"/>
          <p:cNvSpPr>
            <a:spLocks noGrp="1"/>
          </p:cNvSpPr>
          <p:nvPr>
            <p:ph/>
          </p:nvPr>
        </p:nvSpPr>
        <p:spPr>
          <a:xfrm>
            <a:off x="457200" y="1401840"/>
            <a:ext cx="8229600" cy="3443040"/>
          </a:xfrm>
          <a:prstGeom prst="rect">
            <a:avLst/>
          </a:prstGeom>
          <a:noFill/>
          <a:ln w="0">
            <a:noFill/>
          </a:ln>
        </p:spPr>
        <p:txBody>
          <a:bodyPr anchor="t">
            <a:normAutofit fontScale="74000"/>
          </a:bodyPr>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riminalização de:</a:t>
            </a:r>
            <a:endParaRPr b="0" lang="en-US" sz="28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roduçã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Venda;</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quisição para utilizaçã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Importaçã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Distribuição; ou</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Disponibilização de dispositivos</a:t>
            </a:r>
            <a:endParaRPr b="0" lang="en-US" sz="24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istribuição: ato ativo de encaminhar dados para outros</a:t>
            </a:r>
            <a:endParaRPr b="0" lang="en-US" sz="28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isponibilizar: colocação de dispositivos online para que possam ser utilizados por outros e inclui a criação ou recolha de hiperligações online para facilitar o acesso a esses dispositivos</a:t>
            </a:r>
            <a:endParaRPr b="0" lang="en-US" sz="2800" spc="-1" strike="noStrike">
              <a:solidFill>
                <a:srgbClr val="000000"/>
              </a:solidFill>
              <a:latin typeface="Calibri"/>
            </a:endParaRPr>
          </a:p>
        </p:txBody>
      </p:sp>
      <p:sp>
        <p:nvSpPr>
          <p:cNvPr id="2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D5421D2-1C00-4778-9C5D-910178C98C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55" name="PlaceHolder 2"/>
          <p:cNvSpPr>
            <a:spLocks noGrp="1"/>
          </p:cNvSpPr>
          <p:nvPr>
            <p:ph/>
          </p:nvPr>
        </p:nvSpPr>
        <p:spPr>
          <a:xfrm>
            <a:off x="457200" y="1671120"/>
            <a:ext cx="8229600" cy="4983480"/>
          </a:xfrm>
          <a:prstGeom prst="rect">
            <a:avLst/>
          </a:prstGeom>
          <a:noFill/>
          <a:ln w="0">
            <a:noFill/>
          </a:ln>
        </p:spPr>
        <p:txBody>
          <a:bodyPr anchor="t">
            <a:normAutofit fontScale="98000"/>
          </a:bodyPr>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rodução, venda, aquisição para utilização, importação, distribuição ou disponibilização de:</a:t>
            </a:r>
            <a:endParaRPr b="0" lang="en-US" sz="2000" spc="-1" strike="noStrike">
              <a:solidFill>
                <a:srgbClr val="000000"/>
              </a:solidFill>
              <a:latin typeface="Calibri"/>
            </a:endParaRPr>
          </a:p>
          <a:p>
            <a:pPr lvl="2" marL="56448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a:t>
            </a:r>
            <a:r>
              <a:rPr b="1" lang="en-US" sz="2800" spc="-1" strike="noStrike">
                <a:solidFill>
                  <a:srgbClr val="ff0000"/>
                </a:solidFill>
                <a:latin typeface="Calibri"/>
                <a:ea typeface="Times New Roman"/>
              </a:rPr>
              <a:t>incluindo um programa informático</a:t>
            </a:r>
            <a:r>
              <a:rPr b="0" lang="en-US" sz="2000" spc="-1" strike="noStrike">
                <a:solidFill>
                  <a:srgbClr val="000000"/>
                </a:solidFill>
                <a:latin typeface="Calibri"/>
                <a:ea typeface="Times New Roman"/>
              </a:rPr>
              <a:t>, concebido ou adaptado principalmente para cometer qualquer uma das infrações estabelecidas em conformidade com os artigos 2.º - 5.º;</a:t>
            </a:r>
            <a:endParaRPr b="0" lang="en-US" sz="2000" spc="-1" strike="noStrike">
              <a:solidFill>
                <a:srgbClr val="000000"/>
              </a:solidFill>
              <a:latin typeface="Calibri"/>
            </a:endParaRPr>
          </a:p>
          <a:p>
            <a:pPr lvl="2" marL="56448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000" spc="-1" strike="noStrike">
              <a:solidFill>
                <a:srgbClr val="000000"/>
              </a:solidFill>
              <a:latin typeface="Calibri"/>
            </a:endParaRPr>
          </a:p>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osse de um item mencionado nos parágrafos (a)(1) ou (2) acima, com a intenção de que seja utilizado para cometer qualquer uma das infrações estabelecidas nos artigos 2.º - 5.º. Uma Parte pode exigir por lei que vários desses itens sejam possuídos antes da responsabilidade criminal ser anexada.</a:t>
            </a:r>
            <a:endParaRPr b="0" lang="en-US" sz="2000" spc="-1" strike="noStrike">
              <a:solidFill>
                <a:srgbClr val="000000"/>
              </a:solidFill>
              <a:latin typeface="Calibri"/>
            </a:endParaRPr>
          </a:p>
        </p:txBody>
      </p:sp>
      <p:sp>
        <p:nvSpPr>
          <p:cNvPr id="2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2E9113-41D5-4A91-9908-2E1E5D13D1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rograma de computador</a:t>
            </a:r>
            <a:endParaRPr b="0" lang="en-US" sz="4400" spc="-1" strike="noStrike">
              <a:solidFill>
                <a:srgbClr val="000000"/>
              </a:solidFill>
              <a:latin typeface="Calibri"/>
            </a:endParaRPr>
          </a:p>
        </p:txBody>
      </p:sp>
      <p:sp>
        <p:nvSpPr>
          <p:cNvPr id="258" name="PlaceHolder 2"/>
          <p:cNvSpPr>
            <a:spLocks noGrp="1"/>
          </p:cNvSpPr>
          <p:nvPr>
            <p:ph/>
          </p:nvPr>
        </p:nvSpPr>
        <p:spPr>
          <a:xfrm>
            <a:off x="457200" y="1781280"/>
            <a:ext cx="8229600" cy="3443040"/>
          </a:xfrm>
          <a:prstGeom prst="rect">
            <a:avLst/>
          </a:prstGeom>
          <a:noFill/>
          <a:ln w="0">
            <a:noFill/>
          </a:ln>
        </p:spPr>
        <p:txBody>
          <a:bodyPr anchor="t">
            <a:normAutofit fontScale="95000"/>
          </a:bodyPr>
          <a:p>
            <a:pPr marL="325800" indent="-325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Refere-se a programas concebidos para alterar ou destruir dados ou interferir no funcionamento de sistemas</a:t>
            </a:r>
            <a:endParaRPr b="0" lang="en-US" sz="3000" spc="-1" strike="noStrike">
              <a:solidFill>
                <a:srgbClr val="000000"/>
              </a:solidFill>
              <a:latin typeface="Calibri"/>
            </a:endParaRPr>
          </a:p>
          <a:p>
            <a:pPr marL="32580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25800" indent="-325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xemplos:</a:t>
            </a:r>
            <a:endParaRPr b="0" lang="en-US" sz="3000" spc="-1" strike="noStrike">
              <a:solidFill>
                <a:srgbClr val="000000"/>
              </a:solidFill>
              <a:latin typeface="Calibri"/>
            </a:endParaRPr>
          </a:p>
          <a:p>
            <a:pPr lvl="1" marL="705600" indent="-2714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Programas de vírus</a:t>
            </a:r>
            <a:endParaRPr b="0" lang="en-US" sz="2600" spc="-1" strike="noStrike">
              <a:solidFill>
                <a:srgbClr val="000000"/>
              </a:solidFill>
              <a:latin typeface="Calibri"/>
            </a:endParaRPr>
          </a:p>
          <a:p>
            <a:pPr lvl="1" marL="705600" indent="-2714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Programas concebidos ou adaptados para obtenção de acesso a sistemas informáticos</a:t>
            </a:r>
            <a:endParaRPr b="0" lang="en-US" sz="2600" spc="-1" strike="noStrike">
              <a:solidFill>
                <a:srgbClr val="000000"/>
              </a:solidFill>
              <a:latin typeface="Calibri"/>
            </a:endParaRPr>
          </a:p>
        </p:txBody>
      </p:sp>
      <p:sp>
        <p:nvSpPr>
          <p:cNvPr id="2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CD876A3-BEBC-46CA-9261-CC5B9C55FB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61" name="PlaceHolder 2"/>
          <p:cNvSpPr>
            <a:spLocks noGrp="1"/>
          </p:cNvSpPr>
          <p:nvPr>
            <p:ph/>
          </p:nvPr>
        </p:nvSpPr>
        <p:spPr>
          <a:xfrm>
            <a:off x="457200" y="1417680"/>
            <a:ext cx="8229600" cy="4983120"/>
          </a:xfrm>
          <a:prstGeom prst="rect">
            <a:avLst/>
          </a:prstGeom>
          <a:noFill/>
          <a:ln w="0">
            <a:noFill/>
          </a:ln>
        </p:spPr>
        <p:txBody>
          <a:bodyPr anchor="t">
            <a:normAutofit fontScale="94000"/>
          </a:bodyPr>
          <a:p>
            <a:pPr lvl="1" marL="27612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 a produção, venda, aquisição para utilização, importação, distribuição ou disponibilização de:</a:t>
            </a:r>
            <a:endParaRPr b="0" lang="en-US" sz="2000" spc="-1" strike="noStrike">
              <a:solidFill>
                <a:srgbClr val="000000"/>
              </a:solidFill>
              <a:latin typeface="Calibri"/>
            </a:endParaRPr>
          </a:p>
          <a:p>
            <a:pPr lvl="2" marL="54144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a:t>
            </a:r>
            <a:r>
              <a:rPr b="1" lang="en-US" sz="2800" spc="-1" strike="noStrike">
                <a:solidFill>
                  <a:srgbClr val="ff0000"/>
                </a:solidFill>
                <a:latin typeface="Calibri"/>
                <a:ea typeface="Times New Roman"/>
              </a:rPr>
              <a:t>incluindo um programa informático, concebido ou adaptado principalmente para cometer qualquer uma das infrações estabelecidas em conformidade com os artigos 2.º - 5.º;</a:t>
            </a:r>
            <a:endParaRPr b="0" lang="en-US" sz="2800" spc="-1" strike="noStrike">
              <a:solidFill>
                <a:srgbClr val="000000"/>
              </a:solidFill>
              <a:latin typeface="Calibri"/>
            </a:endParaRPr>
          </a:p>
          <a:p>
            <a:pPr lvl="2" marL="54144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000" spc="-1" strike="noStrike">
              <a:solidFill>
                <a:srgbClr val="000000"/>
              </a:solidFill>
              <a:latin typeface="Calibri"/>
            </a:endParaRPr>
          </a:p>
          <a:p>
            <a:pPr lvl="1" marL="27612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7612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osse de um item mencionado nos parágrafos (a)(1) ou (2) acima, com a intenção de que seja utilizado para cometer qualquer uma das infrações estabelecidas nos artigos 2.º - 5.º. Uma Parte pode exigir por lei que vários desses itens sejam possuídos antes da responsabilidade criminal ser anexada.</a:t>
            </a:r>
            <a:endParaRPr b="0" lang="en-US" sz="2000" spc="-1" strike="noStrike">
              <a:solidFill>
                <a:srgbClr val="000000"/>
              </a:solidFill>
              <a:latin typeface="Calibri"/>
            </a:endParaRPr>
          </a:p>
        </p:txBody>
      </p:sp>
      <p:sp>
        <p:nvSpPr>
          <p:cNvPr id="262"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BC7103A-232D-4E25-8F54-C82742BFDC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5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Concebidos ou adaptados, principalmente com o propósito de cometer uma infração</a:t>
            </a:r>
            <a:endParaRPr b="0" lang="en-US" sz="3600" spc="-1" strike="noStrike">
              <a:solidFill>
                <a:srgbClr val="000000"/>
              </a:solidFill>
              <a:latin typeface="Calibri"/>
            </a:endParaRPr>
          </a:p>
        </p:txBody>
      </p:sp>
      <p:sp>
        <p:nvSpPr>
          <p:cNvPr id="264" name="PlaceHolder 2"/>
          <p:cNvSpPr>
            <a:spLocks noGrp="1"/>
          </p:cNvSpPr>
          <p:nvPr>
            <p:ph/>
          </p:nvPr>
        </p:nvSpPr>
        <p:spPr>
          <a:xfrm>
            <a:off x="457200" y="1994040"/>
            <a:ext cx="8229600" cy="3443040"/>
          </a:xfrm>
          <a:prstGeom prst="rect">
            <a:avLst/>
          </a:prstGeom>
          <a:noFill/>
          <a:ln w="0">
            <a:noFill/>
          </a:ln>
        </p:spPr>
        <p:txBody>
          <a:bodyPr anchor="t">
            <a:normAutofit fontScale="94000"/>
          </a:bodyPr>
          <a:p>
            <a:pPr marL="322200" indent="-32220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A Convenção de Budapeste estabelece um equilíbrio entre:</a:t>
            </a:r>
            <a:endParaRPr b="0" lang="en-US" sz="2400" spc="-1" strike="noStrike">
              <a:solidFill>
                <a:srgbClr val="000000"/>
              </a:solidFill>
              <a:latin typeface="Calibri"/>
            </a:endParaRPr>
          </a:p>
          <a:p>
            <a:pPr lvl="1" marL="698400" indent="-2685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 exclusão de dispositivos de dupla utilização (que seriam demasiado limitada e difícil de provar); e</a:t>
            </a:r>
            <a:endParaRPr b="0" lang="en-US" sz="2000" spc="-1" strike="noStrike">
              <a:solidFill>
                <a:srgbClr val="000000"/>
              </a:solidFill>
              <a:latin typeface="Calibri"/>
            </a:endParaRPr>
          </a:p>
          <a:p>
            <a:pPr lvl="1" marL="698400" indent="-2685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 incluindo de dispositivos de dupla utilização (o que resultaria em criminalização excessiva, incluindo todos os dispositivos, mesmo se produzidos e distribuídos de forma legal)</a:t>
            </a:r>
            <a:endParaRPr b="0" lang="en-US" sz="2000" spc="-1" strike="noStrike">
              <a:solidFill>
                <a:srgbClr val="000000"/>
              </a:solidFill>
              <a:latin typeface="Calibri"/>
            </a:endParaRPr>
          </a:p>
          <a:p>
            <a:pPr lvl="1" marL="698400" indent="0" algn="just">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22200" indent="-32220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A Convenção de Budapeste exige que o dispositivo seja concebido ou adaptado </a:t>
            </a:r>
            <a:r>
              <a:rPr b="1" lang="en-US" sz="2400" spc="-1" strike="noStrike">
                <a:solidFill>
                  <a:srgbClr val="000000"/>
                </a:solidFill>
                <a:latin typeface="Calibri"/>
                <a:ea typeface="Times New Roman"/>
              </a:rPr>
              <a:t>principalmente </a:t>
            </a:r>
            <a:r>
              <a:rPr b="0" lang="en-US" sz="2400" spc="-1" strike="noStrike">
                <a:solidFill>
                  <a:srgbClr val="000000"/>
                </a:solidFill>
                <a:latin typeface="Calibri"/>
                <a:ea typeface="Times New Roman"/>
              </a:rPr>
              <a:t>(mas não apenas) para a prática de uma infração nos termos dos artigos 2.º - 5.º da Convenção.</a:t>
            </a:r>
            <a:endParaRPr b="0" lang="en-US" sz="2400" spc="-1" strike="noStrike">
              <a:solidFill>
                <a:srgbClr val="000000"/>
              </a:solidFill>
              <a:latin typeface="Calibri"/>
            </a:endParaRPr>
          </a:p>
        </p:txBody>
      </p:sp>
      <p:sp>
        <p:nvSpPr>
          <p:cNvPr id="2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1F0A538-FFC9-40A5-816C-73C44F5F2B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67" name="PlaceHolder 2"/>
          <p:cNvSpPr>
            <a:spLocks noGrp="1"/>
          </p:cNvSpPr>
          <p:nvPr>
            <p:ph/>
          </p:nvPr>
        </p:nvSpPr>
        <p:spPr>
          <a:xfrm>
            <a:off x="457200" y="1417680"/>
            <a:ext cx="8229600" cy="4983120"/>
          </a:xfrm>
          <a:prstGeom prst="rect">
            <a:avLst/>
          </a:prstGeom>
          <a:noFill/>
          <a:ln w="0">
            <a:noFill/>
          </a:ln>
        </p:spPr>
        <p:txBody>
          <a:bodyPr anchor="t">
            <a:normAutofit fontScale="96000"/>
          </a:bodyPr>
          <a:p>
            <a:pPr lvl="1" marL="2818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rodução, venda, aquisição para utilização, importação, distribuição ou disponibilização de:</a:t>
            </a:r>
            <a:endParaRPr b="0" lang="en-US" sz="2000" spc="-1" strike="noStrike">
              <a:solidFill>
                <a:srgbClr val="000000"/>
              </a:solidFill>
              <a:latin typeface="Calibri"/>
            </a:endParaRPr>
          </a:p>
          <a:p>
            <a:pPr lvl="2" marL="5529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incluindo um programa informático, concebido ou adaptado principalmente para cometer qualquer uma das infrações estabelecidas em conformidade com os artigos 2.º - 5.º;</a:t>
            </a:r>
            <a:endParaRPr b="0" lang="en-US" sz="2000" spc="-1" strike="noStrike">
              <a:solidFill>
                <a:srgbClr val="000000"/>
              </a:solidFill>
              <a:latin typeface="Calibri"/>
            </a:endParaRPr>
          </a:p>
          <a:p>
            <a:pPr lvl="2" marL="55296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800" spc="-1" strike="noStrike">
              <a:solidFill>
                <a:srgbClr val="000000"/>
              </a:solidFill>
              <a:latin typeface="Calibri"/>
            </a:endParaRPr>
          </a:p>
          <a:p>
            <a:pPr lvl="1" marL="2818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 posse de um item mencionado nos parágrafos (a)(1) ou (2) acima, com a intenção de que seja utilizado para cometer qualquer uma das infrações estabelecidas nos artigos 2.º - 5.º. Uma Parte pode exigir por lei que vários desses itens sejam possuídos antes da responsabilidade criminal ser anexada.</a:t>
            </a:r>
            <a:endParaRPr b="0" lang="en-US" sz="2000" spc="-1" strike="noStrike">
              <a:solidFill>
                <a:srgbClr val="000000"/>
              </a:solidFill>
              <a:latin typeface="Calibri"/>
            </a:endParaRPr>
          </a:p>
        </p:txBody>
      </p:sp>
      <p:sp>
        <p:nvSpPr>
          <p:cNvPr id="2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204D262-DC23-4C05-802A-3C6129B447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Times New Roman"/>
              </a:rPr>
              <a:t>Infrações contra a confidencialidade, integridade e disponibilidade de </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Times New Roman"/>
              </a:rPr>
              <a:t>dados e sistemas informáticos</a:t>
            </a:r>
            <a:endParaRPr b="0" lang="en-US" sz="3200" spc="-1" strike="noStrike">
              <a:solidFill>
                <a:srgbClr val="000000"/>
              </a:solidFill>
              <a:latin typeface="Calibri"/>
            </a:endParaRPr>
          </a:p>
        </p:txBody>
      </p:sp>
      <p:sp>
        <p:nvSpPr>
          <p:cNvPr id="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54F56-B619-409C-9D41-CE4ACBCB3B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alavras-passe informáticas, códigos de acesso, etc.</a:t>
            </a:r>
            <a:endParaRPr b="0" lang="en-US" sz="4400" spc="-1" strike="noStrike">
              <a:solidFill>
                <a:srgbClr val="000000"/>
              </a:solidFill>
              <a:latin typeface="Calibri"/>
            </a:endParaRPr>
          </a:p>
        </p:txBody>
      </p:sp>
      <p:sp>
        <p:nvSpPr>
          <p:cNvPr id="270" name="PlaceHolder 2"/>
          <p:cNvSpPr>
            <a:spLocks noGrp="1"/>
          </p:cNvSpPr>
          <p:nvPr>
            <p:ph/>
          </p:nvPr>
        </p:nvSpPr>
        <p:spPr>
          <a:xfrm>
            <a:off x="457200" y="1530000"/>
            <a:ext cx="8229600" cy="3443400"/>
          </a:xfrm>
          <a:prstGeom prst="rect">
            <a:avLst/>
          </a:prstGeom>
          <a:noFill/>
          <a:ln w="0">
            <a:noFill/>
          </a:ln>
        </p:spPr>
        <p:txBody>
          <a:bodyPr anchor="t">
            <a:normAutofit fontScale="73000"/>
          </a:bodyPr>
          <a:p>
            <a:pPr marL="250200" indent="-2502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 parágrafo 1(a)2 criminaliza a:</a:t>
            </a:r>
            <a:endParaRPr b="0" lang="en-US" sz="30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dução;</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nda;</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quisição para utilização;</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mportação;</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ição; ou </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ponibilizaçãode:</a:t>
            </a:r>
            <a:endParaRPr b="0" lang="en-US" sz="2400" spc="-1" strike="noStrike">
              <a:solidFill>
                <a:srgbClr val="000000"/>
              </a:solidFill>
              <a:latin typeface="Calibri"/>
            </a:endParaRPr>
          </a:p>
          <a:p>
            <a:pPr marL="250200" indent="0" algn="just">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uma palavra-passe, código de acesso ou dados semelhantes através dos quais é possível aceder a todo ou qualquer parte de um sistema informático.</a:t>
            </a:r>
            <a:endParaRPr b="0" lang="en-US" sz="3000" spc="-1" strike="noStrike">
              <a:solidFill>
                <a:srgbClr val="000000"/>
              </a:solidFill>
              <a:latin typeface="Calibri"/>
            </a:endParaRPr>
          </a:p>
        </p:txBody>
      </p:sp>
      <p:sp>
        <p:nvSpPr>
          <p:cNvPr id="2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DC9F82-432C-4FE9-AEDE-A2864603F4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73" name="PlaceHolder 2"/>
          <p:cNvSpPr>
            <a:spLocks noGrp="1"/>
          </p:cNvSpPr>
          <p:nvPr>
            <p:ph/>
          </p:nvPr>
        </p:nvSpPr>
        <p:spPr>
          <a:xfrm>
            <a:off x="457200" y="1571760"/>
            <a:ext cx="8229600" cy="4983120"/>
          </a:xfrm>
          <a:prstGeom prst="rect">
            <a:avLst/>
          </a:prstGeom>
          <a:noFill/>
          <a:ln w="0">
            <a:noFill/>
          </a:ln>
        </p:spPr>
        <p:txBody>
          <a:bodyPr anchor="t">
            <a:normAutofit fontScale="97000"/>
          </a:bodyPr>
          <a:p>
            <a:pPr lvl="1" marL="284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rodução, venda, aquisição para utilização, importação, distribuição ou disponibilização de:</a:t>
            </a:r>
            <a:endParaRPr b="0" lang="en-US" sz="2000" spc="-1" strike="noStrike">
              <a:solidFill>
                <a:srgbClr val="000000"/>
              </a:solidFill>
              <a:latin typeface="Calibri"/>
            </a:endParaRPr>
          </a:p>
          <a:p>
            <a:pPr lvl="2" marL="55872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incluindo um programa informático, concebido ou adaptado principalmente para cometer qualquer uma das infrações estabelecidas em conformidade com os artigos 2.º - 5.º;</a:t>
            </a:r>
            <a:endParaRPr b="0" lang="en-US" sz="2000" spc="-1" strike="noStrike">
              <a:solidFill>
                <a:srgbClr val="000000"/>
              </a:solidFill>
              <a:latin typeface="Calibri"/>
            </a:endParaRPr>
          </a:p>
          <a:p>
            <a:pPr lvl="2" marL="55872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000" spc="-1" strike="noStrike">
              <a:solidFill>
                <a:srgbClr val="000000"/>
              </a:solidFill>
              <a:latin typeface="Calibri"/>
            </a:endParaRPr>
          </a:p>
          <a:p>
            <a:pPr lvl="1" marL="284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a posse de um item</a:t>
            </a:r>
            <a:r>
              <a:rPr b="0" lang="en-US" sz="2800" spc="-1" strike="noStrike">
                <a:solidFill>
                  <a:srgbClr val="000000"/>
                </a:solidFill>
                <a:latin typeface="Calibri"/>
                <a:ea typeface="Times New Roman"/>
              </a:rPr>
              <a:t> </a:t>
            </a:r>
            <a:r>
              <a:rPr b="0" lang="en-US" sz="2000" spc="-1" strike="noStrike">
                <a:solidFill>
                  <a:srgbClr val="000000"/>
                </a:solidFill>
                <a:latin typeface="Calibri"/>
                <a:ea typeface="Times New Roman"/>
              </a:rPr>
              <a:t>mencionado nos parágrafos (a)(1) ou (2) acima, </a:t>
            </a:r>
            <a:r>
              <a:rPr b="1" lang="en-US" sz="2800" spc="-1" strike="noStrike">
                <a:solidFill>
                  <a:srgbClr val="ff0000"/>
                </a:solidFill>
                <a:latin typeface="Calibri"/>
                <a:ea typeface="Times New Roman"/>
              </a:rPr>
              <a:t>com a intenção de que seja utilizado para cometer qualquer uma das infrações estabelecidas nos artigos 2.º - 5.º</a:t>
            </a:r>
            <a:r>
              <a:rPr b="0" lang="en-US" sz="28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rte pode exigir por lei que </a:t>
            </a:r>
            <a:r>
              <a:rPr b="1" lang="en-US" sz="2800" spc="-1" strike="noStrike">
                <a:solidFill>
                  <a:srgbClr val="ff0000"/>
                </a:solidFill>
                <a:latin typeface="Calibri"/>
                <a:ea typeface="Times New Roman"/>
              </a:rPr>
              <a:t>vários desses itens</a:t>
            </a:r>
            <a:r>
              <a:rPr b="0" lang="en-US" sz="2800" spc="-1" strike="noStrike">
                <a:solidFill>
                  <a:srgbClr val="000000"/>
                </a:solidFill>
                <a:latin typeface="Calibri"/>
                <a:ea typeface="Times New Roman"/>
              </a:rPr>
              <a:t> </a:t>
            </a:r>
            <a:r>
              <a:rPr b="0" lang="en-US" sz="2000" spc="-1" strike="noStrike">
                <a:solidFill>
                  <a:srgbClr val="000000"/>
                </a:solidFill>
                <a:latin typeface="Calibri"/>
                <a:ea typeface="Times New Roman"/>
              </a:rPr>
              <a:t>sejam possuídos antes da responsabilidade criminal ser anexada.</a:t>
            </a:r>
            <a:endParaRPr b="0" lang="en-US" sz="2000" spc="-1" strike="noStrike">
              <a:solidFill>
                <a:srgbClr val="000000"/>
              </a:solidFill>
              <a:latin typeface="Calibri"/>
            </a:endParaRPr>
          </a:p>
        </p:txBody>
      </p:sp>
      <p:sp>
        <p:nvSpPr>
          <p:cNvPr id="2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7299C20-75FC-49E4-AD2F-03B9F018DD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22040"/>
            <a:ext cx="8391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osse de um dispositivo, palavra-passe, etc.</a:t>
            </a:r>
            <a:endParaRPr b="0" lang="en-US" sz="4400" spc="-1" strike="noStrike">
              <a:solidFill>
                <a:srgbClr val="000000"/>
              </a:solidFill>
              <a:latin typeface="Calibri"/>
            </a:endParaRPr>
          </a:p>
        </p:txBody>
      </p:sp>
      <p:sp>
        <p:nvSpPr>
          <p:cNvPr id="276" name="PlaceHolder 2"/>
          <p:cNvSpPr>
            <a:spLocks noGrp="1"/>
          </p:cNvSpPr>
          <p:nvPr>
            <p:ph/>
          </p:nvPr>
        </p:nvSpPr>
        <p:spPr>
          <a:xfrm>
            <a:off x="457200" y="1854360"/>
            <a:ext cx="8229600" cy="3443040"/>
          </a:xfrm>
          <a:prstGeom prst="rect">
            <a:avLst/>
          </a:prstGeom>
          <a:noFill/>
          <a:ln w="0">
            <a:noFill/>
          </a:ln>
        </p:spPr>
        <p:txBody>
          <a:bodyPr anchor="t">
            <a:normAutofit fontScale="88000"/>
          </a:bodyPr>
          <a:p>
            <a:pPr marL="301680" indent="-3016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sse de itens estabelecida no parágrafo 1(a)1 ou 1(a)2</a:t>
            </a:r>
            <a:endParaRPr b="0" lang="en-US" sz="2800" spc="-1" strike="noStrike">
              <a:solidFill>
                <a:srgbClr val="000000"/>
              </a:solidFill>
              <a:latin typeface="Calibri"/>
            </a:endParaRPr>
          </a:p>
          <a:p>
            <a:pPr marL="3016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1680" indent="-3016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posse deve ser no caso de intenção de cometer uma infração nos termos dos artigos 2.º - 5.º da Convenção</a:t>
            </a:r>
            <a:endParaRPr b="0" lang="en-US" sz="2800" spc="-1" strike="noStrike">
              <a:solidFill>
                <a:srgbClr val="000000"/>
              </a:solidFill>
              <a:latin typeface="Calibri"/>
            </a:endParaRPr>
          </a:p>
          <a:p>
            <a:pPr marL="3016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1680" indent="-3016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Parte pode, através da legislação interna, exigir que uma pessoa possua um certo número de itens para determinar a responsabilidade criminal</a:t>
            </a:r>
            <a:endParaRPr b="0" lang="en-US" sz="2800" spc="-1" strike="noStrike">
              <a:solidFill>
                <a:srgbClr val="000000"/>
              </a:solidFill>
              <a:latin typeface="Calibri"/>
            </a:endParaRPr>
          </a:p>
        </p:txBody>
      </p:sp>
      <p:sp>
        <p:nvSpPr>
          <p:cNvPr id="2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A63F1CC-BE11-46BA-905F-64EC675A6C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frações informáticas</a:t>
            </a: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2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E2E78B-CD77-4DD4-9B16-173908E6C2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7200" y="558720"/>
            <a:ext cx="8229600" cy="5757840"/>
          </a:xfrm>
          <a:prstGeom prst="rect">
            <a:avLst/>
          </a:prstGeom>
          <a:noFill/>
          <a:ln w="38160">
            <a:solidFill>
              <a:srgbClr val="ff0000"/>
            </a:solidFill>
            <a:miter/>
          </a:ln>
        </p:spPr>
        <p:txBody>
          <a:bodyPr anchor="t">
            <a:normAutofit/>
          </a:bodyPr>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Times New Roman"/>
              </a:rPr>
              <a:t>Falsificação informática</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Times New Roman"/>
              </a:rPr>
              <a:t>(Art. 7 - Convenção de Budapeste)</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Times New Roman"/>
              </a:rPr>
              <a:t>Cria uma infração paralela à falsificação de infrações tangíveis</a:t>
            </a:r>
            <a:endParaRPr b="0" lang="en-US" sz="24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Times New Roman"/>
              </a:rPr>
              <a:t>A lacuna no direito penal como falsificação tradicional geralmente requer legibilidade visual de afirmações ou declarações incorporadas no documento</a:t>
            </a:r>
            <a:endParaRPr b="0" lang="en-US" sz="24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Times New Roman"/>
              </a:rPr>
              <a:t>A falsificação tradicional pode não ser aplicável em todos os dados eletrónicos </a:t>
            </a:r>
            <a:endParaRPr b="0" lang="en-US" sz="2400" spc="-1" strike="noStrike">
              <a:solidFill>
                <a:srgbClr val="000000"/>
              </a:solidFill>
              <a:latin typeface="Calibri"/>
            </a:endParaRPr>
          </a:p>
        </p:txBody>
      </p:sp>
      <p:sp>
        <p:nvSpPr>
          <p:cNvPr id="2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40BCE3-660E-435D-885B-C534988009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7 – Falsificação informática</a:t>
            </a:r>
            <a:r>
              <a:rPr b="1"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83" name="PlaceHolder 2"/>
          <p:cNvSpPr>
            <a:spLocks noGrp="1"/>
          </p:cNvSpPr>
          <p:nvPr>
            <p:ph/>
          </p:nvPr>
        </p:nvSpPr>
        <p:spPr>
          <a:xfrm>
            <a:off x="457200" y="192420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sem direito a inserção, alteração, eliminação ou supressão de dados informáticos, resultando em dados inautênticos com o objetivo de serem considerados ou atuados para questões legais como se fossem autênticos, independentemente ou não dos dados serem diretamente legíveis e inteligíveis. Uma Parte poderá exigir uma intenção de defraudar ou de forma desonesta, antes da responsabilidade criminal ser anexada.</a:t>
            </a:r>
            <a:endParaRPr b="0" lang="en-US" sz="2600" spc="-1" strike="noStrike">
              <a:solidFill>
                <a:srgbClr val="000000"/>
              </a:solidFill>
              <a:latin typeface="Calibri"/>
            </a:endParaRPr>
          </a:p>
        </p:txBody>
      </p:sp>
      <p:sp>
        <p:nvSpPr>
          <p:cNvPr id="2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BD5FF9-F5B1-4394-AE2C-7A2DCEE289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7 – Falsificação informática</a:t>
            </a:r>
            <a:r>
              <a:rPr b="1"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86" name="PlaceHolder 2"/>
          <p:cNvSpPr>
            <a:spLocks noGrp="1"/>
          </p:cNvSpPr>
          <p:nvPr>
            <p:ph/>
          </p:nvPr>
        </p:nvSpPr>
        <p:spPr>
          <a:xfrm>
            <a:off x="457200" y="1767960"/>
            <a:ext cx="8229600" cy="452628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sem direito a </a:t>
            </a:r>
            <a:r>
              <a:rPr b="1" lang="en-US" sz="3200" spc="-1" strike="noStrike">
                <a:solidFill>
                  <a:srgbClr val="ff0000"/>
                </a:solidFill>
                <a:latin typeface="Calibri"/>
                <a:ea typeface="Times New Roman"/>
              </a:rPr>
              <a:t>inserção</a:t>
            </a:r>
            <a:r>
              <a:rPr b="0" lang="en-US" sz="2600" spc="-1" strike="noStrike">
                <a:solidFill>
                  <a:srgbClr val="000000"/>
                </a:solidFill>
                <a:latin typeface="Calibri"/>
                <a:ea typeface="Times New Roman"/>
              </a:rPr>
              <a:t>, </a:t>
            </a:r>
            <a:r>
              <a:rPr b="1" lang="en-US" sz="3200" spc="-1" strike="noStrike">
                <a:solidFill>
                  <a:srgbClr val="ff0000"/>
                </a:solidFill>
                <a:latin typeface="Calibri"/>
                <a:ea typeface="Times New Roman"/>
              </a:rPr>
              <a:t>alteração</a:t>
            </a:r>
            <a:r>
              <a:rPr b="0" lang="en-US" sz="2600" spc="-1" strike="noStrike">
                <a:solidFill>
                  <a:srgbClr val="000000"/>
                </a:solidFill>
                <a:latin typeface="Calibri"/>
                <a:ea typeface="Times New Roman"/>
              </a:rPr>
              <a:t>, </a:t>
            </a:r>
            <a:r>
              <a:rPr b="1" lang="en-US" sz="3200" spc="-1" strike="noStrike">
                <a:solidFill>
                  <a:srgbClr val="ff0000"/>
                </a:solidFill>
                <a:latin typeface="Calibri"/>
                <a:ea typeface="Times New Roman"/>
              </a:rPr>
              <a:t>eliminação</a:t>
            </a:r>
            <a:r>
              <a:rPr b="0" lang="en-US" sz="2600" spc="-1" strike="noStrike">
                <a:solidFill>
                  <a:srgbClr val="000000"/>
                </a:solidFill>
                <a:latin typeface="Calibri"/>
                <a:ea typeface="Times New Roman"/>
              </a:rPr>
              <a:t> ou </a:t>
            </a:r>
            <a:r>
              <a:rPr b="1" lang="en-US" sz="3200" spc="-1" strike="noStrike">
                <a:solidFill>
                  <a:srgbClr val="ff0000"/>
                </a:solidFill>
                <a:latin typeface="Calibri"/>
                <a:ea typeface="Times New Roman"/>
              </a:rPr>
              <a:t>supressão</a:t>
            </a:r>
            <a:r>
              <a:rPr b="0" lang="en-US" sz="3200" spc="-1" strike="noStrike">
                <a:solidFill>
                  <a:srgbClr val="ff0000"/>
                </a:solidFill>
                <a:latin typeface="Calibri"/>
                <a:ea typeface="Times New Roman"/>
              </a:rPr>
              <a:t> </a:t>
            </a:r>
            <a:r>
              <a:rPr b="1" lang="en-US" sz="3200" spc="-1" strike="noStrike">
                <a:solidFill>
                  <a:srgbClr val="ff0000"/>
                </a:solidFill>
                <a:latin typeface="Calibri"/>
                <a:ea typeface="Times New Roman"/>
              </a:rPr>
              <a:t>de dados informáticos</a:t>
            </a:r>
            <a:r>
              <a:rPr b="0" lang="en-US" sz="2600" spc="-1" strike="noStrike">
                <a:solidFill>
                  <a:srgbClr val="000000"/>
                </a:solidFill>
                <a:latin typeface="Calibri"/>
                <a:ea typeface="Times New Roman"/>
              </a:rPr>
              <a:t>, </a:t>
            </a:r>
            <a:r>
              <a:rPr b="1" lang="en-US" sz="3200" spc="-1" strike="noStrike">
                <a:solidFill>
                  <a:srgbClr val="ff0000"/>
                </a:solidFill>
                <a:latin typeface="Calibri"/>
                <a:ea typeface="Times New Roman"/>
              </a:rPr>
              <a:t>resultando em dados inautênticos</a:t>
            </a:r>
            <a:r>
              <a:rPr b="0" lang="en-US" sz="3200" spc="-1" strike="noStrike">
                <a:solidFill>
                  <a:srgbClr val="000000"/>
                </a:solidFill>
                <a:latin typeface="Calibri"/>
                <a:ea typeface="Times New Roman"/>
              </a:rPr>
              <a:t> </a:t>
            </a:r>
            <a:r>
              <a:rPr b="0" lang="en-US" sz="2600" spc="-1" strike="noStrike">
                <a:solidFill>
                  <a:srgbClr val="000000"/>
                </a:solidFill>
                <a:latin typeface="Calibri"/>
                <a:ea typeface="Times New Roman"/>
              </a:rPr>
              <a:t>com o objetivo de serem considerados ou atuados para questões legais como se fossem autênticos, independentemente ou não dos dados serem diretamente legíveis e inteligíveis. Uma Parte poderá exigir uma intenção de defraudar ou de forma desonesta, antes da responsabilidade criminal ser anexada.</a:t>
            </a:r>
            <a:endParaRPr b="0" lang="en-US" sz="2600" spc="-1" strike="noStrike">
              <a:solidFill>
                <a:srgbClr val="000000"/>
              </a:solidFill>
              <a:latin typeface="Calibri"/>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A631F5-DDDE-4E22-8F25-EEEC72D4A6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nserção, alteração, eliminação ou supressão</a:t>
            </a:r>
            <a:endParaRPr b="0" lang="en-US" sz="4400" spc="-1" strike="noStrike">
              <a:solidFill>
                <a:srgbClr val="000000"/>
              </a:solidFill>
              <a:latin typeface="Calibri"/>
            </a:endParaRPr>
          </a:p>
        </p:txBody>
      </p:sp>
      <p:sp>
        <p:nvSpPr>
          <p:cNvPr id="289" name="PlaceHolder 2"/>
          <p:cNvSpPr>
            <a:spLocks noGrp="1"/>
          </p:cNvSpPr>
          <p:nvPr>
            <p:ph/>
          </p:nvPr>
        </p:nvSpPr>
        <p:spPr>
          <a:xfrm>
            <a:off x="457200" y="2276640"/>
            <a:ext cx="8229600" cy="344304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Falsificação de documento genuíno por:</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Inserção</a:t>
            </a:r>
            <a:r>
              <a:rPr b="0" lang="en-US" sz="2800" spc="-1" strike="noStrike">
                <a:solidFill>
                  <a:srgbClr val="000000"/>
                </a:solidFill>
                <a:latin typeface="Calibri"/>
                <a:ea typeface="Times New Roman"/>
              </a:rPr>
              <a:t> de dados corretos ou incorreto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Alteração</a:t>
            </a:r>
            <a:r>
              <a:rPr b="0" lang="en-US" sz="2800" spc="-1" strike="noStrike">
                <a:solidFill>
                  <a:srgbClr val="000000"/>
                </a:solidFill>
                <a:latin typeface="Calibri"/>
                <a:ea typeface="Times New Roman"/>
              </a:rPr>
              <a:t> subsequente (modificações, variações, alterações parciai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liminação</a:t>
            </a:r>
            <a:r>
              <a:rPr b="0" lang="en-US" sz="2800" spc="-1" strike="noStrike">
                <a:solidFill>
                  <a:srgbClr val="000000"/>
                </a:solidFill>
                <a:latin typeface="Calibri"/>
                <a:ea typeface="Times New Roman"/>
              </a:rPr>
              <a:t> (remoção de dados de um meio de dado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Supressão</a:t>
            </a:r>
            <a:r>
              <a:rPr b="0" lang="en-US" sz="2800" spc="-1" strike="noStrike">
                <a:solidFill>
                  <a:srgbClr val="000000"/>
                </a:solidFill>
                <a:latin typeface="Calibri"/>
                <a:ea typeface="Times New Roman"/>
              </a:rPr>
              <a:t> (retenção, ocultação de dados)</a:t>
            </a:r>
            <a:endParaRPr b="0" lang="en-US" sz="2800" spc="-1" strike="noStrike">
              <a:solidFill>
                <a:srgbClr val="000000"/>
              </a:solidFill>
              <a:latin typeface="Calibri"/>
            </a:endParaRPr>
          </a:p>
        </p:txBody>
      </p:sp>
      <p:sp>
        <p:nvSpPr>
          <p:cNvPr id="2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46D7099-C9C4-4569-A00E-BB3415B47F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7 – Falsificação informática </a:t>
            </a:r>
            <a:endParaRPr b="0" lang="en-US" sz="4000" spc="-1" strike="noStrike">
              <a:solidFill>
                <a:srgbClr val="000000"/>
              </a:solidFill>
              <a:latin typeface="Calibri"/>
            </a:endParaRPr>
          </a:p>
        </p:txBody>
      </p:sp>
      <p:sp>
        <p:nvSpPr>
          <p:cNvPr id="292" name="PlaceHolder 2"/>
          <p:cNvSpPr>
            <a:spLocks noGrp="1"/>
          </p:cNvSpPr>
          <p:nvPr>
            <p:ph/>
          </p:nvPr>
        </p:nvSpPr>
        <p:spPr>
          <a:xfrm>
            <a:off x="457200" y="1727280"/>
            <a:ext cx="8229600" cy="4525920"/>
          </a:xfrm>
          <a:prstGeom prst="rect">
            <a:avLst/>
          </a:prstGeom>
          <a:noFill/>
          <a:ln w="0">
            <a:noFill/>
          </a:ln>
        </p:spPr>
        <p:txBody>
          <a:bodyPr anchor="t">
            <a:normAutofit fontScale="95000"/>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sem direito a inserção, alteração, eliminação ou supressão de dados informáticos, resultando em dados inautênticos com o </a:t>
            </a:r>
            <a:r>
              <a:rPr b="1" lang="en-US" sz="3200" spc="-1" strike="noStrike">
                <a:solidFill>
                  <a:srgbClr val="ff0000"/>
                </a:solidFill>
                <a:latin typeface="Calibri"/>
                <a:ea typeface="Times New Roman"/>
              </a:rPr>
              <a:t>objetivo de serem considerados ou atuados para questões legais como se fossem autênticos</a:t>
            </a:r>
            <a:r>
              <a:rPr b="0" lang="en-US" sz="2600" spc="-1" strike="noStrike">
                <a:solidFill>
                  <a:srgbClr val="000000"/>
                </a:solidFill>
                <a:latin typeface="Calibri"/>
                <a:ea typeface="Times New Roman"/>
              </a:rPr>
              <a:t>, independentemente ou não dos dados serem diretamente legíveis e inteligíveis. Uma Parte poderá exigir uma </a:t>
            </a:r>
            <a:r>
              <a:rPr b="1" lang="en-US" sz="3200" spc="-1" strike="noStrike">
                <a:solidFill>
                  <a:srgbClr val="ff0000"/>
                </a:solidFill>
                <a:latin typeface="Calibri"/>
                <a:ea typeface="Times New Roman"/>
              </a:rPr>
              <a:t>intenção de defraudar</a:t>
            </a:r>
            <a:r>
              <a:rPr b="0" lang="en-US" sz="2600" spc="-1" strike="noStrike">
                <a:solidFill>
                  <a:srgbClr val="000000"/>
                </a:solidFill>
                <a:latin typeface="Calibri"/>
                <a:ea typeface="Times New Roman"/>
              </a:rPr>
              <a:t> ou </a:t>
            </a:r>
            <a:r>
              <a:rPr b="1" lang="en-US" sz="3200" spc="-1" strike="noStrike">
                <a:solidFill>
                  <a:srgbClr val="ff0000"/>
                </a:solidFill>
                <a:latin typeface="Calibri"/>
                <a:ea typeface="Times New Roman"/>
              </a:rPr>
              <a:t>de forma desonesta</a:t>
            </a:r>
            <a:r>
              <a:rPr b="0" lang="en-US" sz="2600" spc="-1" strike="noStrike">
                <a:solidFill>
                  <a:srgbClr val="000000"/>
                </a:solidFill>
                <a:latin typeface="Calibri"/>
                <a:ea typeface="Times New Roman"/>
              </a:rPr>
              <a:t>, antes da responsabilidade criminal ser anexada.</a:t>
            </a:r>
            <a:endParaRPr b="0" lang="en-US" sz="2600" spc="-1" strike="noStrike">
              <a:solidFill>
                <a:srgbClr val="000000"/>
              </a:solidFill>
              <a:latin typeface="Calibri"/>
            </a:endParaRPr>
          </a:p>
        </p:txBody>
      </p:sp>
      <p:sp>
        <p:nvSpPr>
          <p:cNvPr id="2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D90BD57-17D1-4846-98C9-C27590C83F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74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ntenção de ser considerado ou posto em prática para fins legais</a:t>
            </a:r>
            <a:endParaRPr b="0" lang="en-US" sz="4400" spc="-1" strike="noStrike">
              <a:solidFill>
                <a:srgbClr val="000000"/>
              </a:solidFill>
              <a:latin typeface="Calibri"/>
            </a:endParaRPr>
          </a:p>
        </p:txBody>
      </p:sp>
      <p:sp>
        <p:nvSpPr>
          <p:cNvPr id="295" name="PlaceHolder 2"/>
          <p:cNvSpPr>
            <a:spLocks noGrp="1"/>
          </p:cNvSpPr>
          <p:nvPr>
            <p:ph/>
          </p:nvPr>
        </p:nvSpPr>
        <p:spPr>
          <a:xfrm>
            <a:off x="457200" y="2499840"/>
            <a:ext cx="8229600" cy="344340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Requisito de intenção adicional</a:t>
            </a:r>
            <a:endParaRPr b="0" lang="en-US" sz="2800" spc="-1" strike="noStrike">
              <a:solidFill>
                <a:srgbClr val="000000"/>
              </a:solidFill>
              <a:latin typeface="Calibri"/>
            </a:endParaRPr>
          </a:p>
          <a:p>
            <a:pPr marL="3290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fins legais" inclui transações legais e documentos que são legalmente relevantes</a:t>
            </a:r>
            <a:endParaRPr b="0" lang="en-US" sz="2800" spc="-1" strike="noStrike">
              <a:solidFill>
                <a:srgbClr val="000000"/>
              </a:solidFill>
              <a:latin typeface="Calibri"/>
            </a:endParaRPr>
          </a:p>
          <a:p>
            <a:pPr marL="3290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Parte pode restringir ainda mais esta ofensa, exigindo que a conduta seja feita com a intenção de defraudar </a:t>
            </a:r>
            <a:endParaRPr b="0" lang="en-US" sz="2800" spc="-1" strike="noStrike">
              <a:solidFill>
                <a:srgbClr val="000000"/>
              </a:solidFill>
              <a:latin typeface="Calibri"/>
            </a:endParaRPr>
          </a:p>
        </p:txBody>
      </p:sp>
      <p:sp>
        <p:nvSpPr>
          <p:cNvPr id="296"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93E1E8E-C342-4615-B3B1-0AE1B89308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1108080"/>
            <a:ext cx="8229600" cy="4525920"/>
          </a:xfrm>
          <a:prstGeom prst="rect">
            <a:avLst/>
          </a:prstGeom>
          <a:noFill/>
          <a:ln w="38160">
            <a:solidFill>
              <a:srgbClr val="ff0000"/>
            </a:solidFill>
            <a:miter/>
          </a:ln>
        </p:spPr>
        <p:txBody>
          <a:bodyPr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cesso ilegal</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2 – Convenção de Budapeste)</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Para aceder a todo ou qualquer parte de um sistema informático sem direito </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ncionalmente</a:t>
            </a:r>
            <a:endParaRPr b="0" lang="en-US" sz="3200" spc="-1" strike="noStrike">
              <a:solidFill>
                <a:srgbClr val="000000"/>
              </a:solidFill>
              <a:latin typeface="Calibri"/>
            </a:endParaRPr>
          </a:p>
        </p:txBody>
      </p:sp>
      <p:sp>
        <p:nvSpPr>
          <p:cNvPr id="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74A6AC-486D-45AD-AAB3-8DABEAA4A0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Fraude informática</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 8 - Convenção de Budapeste)</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Cria uma infração paralela à fraude relacionada com infrações tangíveis</a:t>
            </a:r>
            <a:endParaRPr b="0" lang="en-US" sz="2800" spc="-1" strike="noStrike">
              <a:solidFill>
                <a:srgbClr val="000000"/>
              </a:solidFill>
              <a:latin typeface="Calibri"/>
            </a:endParaRPr>
          </a:p>
        </p:txBody>
      </p:sp>
      <p:sp>
        <p:nvSpPr>
          <p:cNvPr id="2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8617CD-B45F-4F3D-9927-86F9D6CBE0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8 – Fraude informática</a:t>
            </a:r>
            <a:endParaRPr b="0" lang="en-US" sz="40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causa de uma perda de propriedade para outra por:</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qualquer inserção, alteração, eliminação ou supressão de dados informáticos,</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qualquer interferência com o funcionamento de um computador ou sistem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ção de obter, sem direito, um benefício económico para si ou para outro</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3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F26BAF-0EB7-4A4F-AA2D-1F2B116049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8 – Fraude informática</a:t>
            </a:r>
            <a:endParaRPr b="0" lang="en-US" sz="40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fontScale="95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causa de uma perda de propriedade para outra por:</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a:t>
            </a: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qualquer </a:t>
            </a:r>
            <a:r>
              <a:rPr b="1" lang="en-US" sz="3200" spc="-1" strike="noStrike">
                <a:solidFill>
                  <a:srgbClr val="ff0000"/>
                </a:solidFill>
                <a:latin typeface="Calibri"/>
                <a:ea typeface="Times New Roman"/>
              </a:rPr>
              <a:t>inserção</a:t>
            </a:r>
            <a:r>
              <a:rPr b="0" lang="en-US" sz="3200" spc="-1" strike="noStrike">
                <a:solidFill>
                  <a:srgbClr val="000000"/>
                </a:solidFill>
                <a:latin typeface="Calibri"/>
                <a:ea typeface="Times New Roman"/>
              </a:rPr>
              <a:t>, </a:t>
            </a:r>
            <a:r>
              <a:rPr b="1" lang="en-US" sz="3200" spc="-1" strike="noStrike">
                <a:solidFill>
                  <a:srgbClr val="ff0000"/>
                </a:solidFill>
                <a:latin typeface="Calibri"/>
                <a:ea typeface="Times New Roman"/>
              </a:rPr>
              <a:t>alteração</a:t>
            </a:r>
            <a:r>
              <a:rPr b="0" lang="en-US" sz="3200" spc="-1" strike="noStrike">
                <a:solidFill>
                  <a:srgbClr val="000000"/>
                </a:solidFill>
                <a:latin typeface="Calibri"/>
                <a:ea typeface="Times New Roman"/>
              </a:rPr>
              <a:t>, </a:t>
            </a:r>
            <a:r>
              <a:rPr b="1" lang="en-US" sz="3200" spc="-1" strike="noStrike">
                <a:solidFill>
                  <a:srgbClr val="ff0000"/>
                </a:solidFill>
                <a:latin typeface="Calibri"/>
                <a:ea typeface="Times New Roman"/>
              </a:rPr>
              <a:t>eliminação</a:t>
            </a:r>
            <a:r>
              <a:rPr b="0" lang="en-US" sz="3200" spc="-1" strike="noStrike">
                <a:solidFill>
                  <a:srgbClr val="ff0000"/>
                </a:solidFill>
                <a:latin typeface="Calibri"/>
                <a:ea typeface="Times New Roman"/>
              </a:rPr>
              <a:t> </a:t>
            </a:r>
            <a:r>
              <a:rPr b="0" lang="en-US" sz="2800" spc="-1" strike="noStrike">
                <a:solidFill>
                  <a:srgbClr val="000000"/>
                </a:solidFill>
                <a:latin typeface="Calibri"/>
                <a:ea typeface="Times New Roman"/>
              </a:rPr>
              <a:t>ou </a:t>
            </a:r>
            <a:r>
              <a:rPr b="1" lang="en-US" sz="3200" spc="-1" strike="noStrike">
                <a:solidFill>
                  <a:srgbClr val="ff0000"/>
                </a:solidFill>
                <a:latin typeface="Calibri"/>
                <a:ea typeface="Times New Roman"/>
              </a:rPr>
              <a:t>supressão</a:t>
            </a:r>
            <a:r>
              <a:rPr b="0" lang="en-US" sz="3200" spc="-1" strike="noStrike">
                <a:solidFill>
                  <a:srgbClr val="ff0000"/>
                </a:solidFill>
                <a:latin typeface="Calibri"/>
                <a:ea typeface="Times New Roman"/>
              </a:rPr>
              <a:t> </a:t>
            </a:r>
            <a:r>
              <a:rPr b="0" lang="en-US" sz="3200" spc="-1" strike="noStrike">
                <a:solidFill>
                  <a:srgbClr val="ff0000"/>
                </a:solidFill>
                <a:latin typeface="Calibri"/>
                <a:ea typeface="Times New Roman"/>
              </a:rPr>
              <a:t>	</a:t>
            </a:r>
            <a:r>
              <a:rPr b="0" lang="en-US" sz="2800" spc="-1" strike="noStrike">
                <a:solidFill>
                  <a:srgbClr val="000000"/>
                </a:solidFill>
                <a:latin typeface="Calibri"/>
                <a:ea typeface="Times New Roman"/>
              </a:rPr>
              <a:t>de dados informáticos,</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b)</a:t>
            </a: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qualquer </a:t>
            </a:r>
            <a:r>
              <a:rPr b="1" lang="en-US" sz="3200" spc="-1" strike="noStrike">
                <a:solidFill>
                  <a:srgbClr val="ff0000"/>
                </a:solidFill>
                <a:latin typeface="Calibri"/>
                <a:ea typeface="Times New Roman"/>
              </a:rPr>
              <a:t>interferência com o funcionamento</a:t>
            </a:r>
            <a:r>
              <a:rPr b="0" lang="en-US" sz="3200" spc="-1" strike="noStrike">
                <a:solidFill>
                  <a:srgbClr val="000000"/>
                </a:solidFill>
                <a:latin typeface="Calibri"/>
                <a:ea typeface="Times New Roman"/>
              </a:rPr>
              <a:t> </a:t>
            </a:r>
            <a:r>
              <a:rPr b="0" lang="en-US" sz="2800" spc="-1" strike="noStrike">
                <a:solidFill>
                  <a:srgbClr val="000000"/>
                </a:solidFill>
                <a:latin typeface="Calibri"/>
                <a:ea typeface="Times New Roman"/>
              </a:rPr>
              <a:t>de um computador ou sistem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ção de obter, sem direito, um benefício económico para si ou para outro</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3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32D950-3BB4-421C-8818-2CED47A7BB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serção, alteração, eliminação, supressão e interferência</a:t>
            </a:r>
            <a:endParaRPr b="0" lang="en-US" sz="4400" spc="-1" strike="noStrike">
              <a:solidFill>
                <a:srgbClr val="000000"/>
              </a:solidFill>
              <a:latin typeface="Calibri"/>
            </a:endParaRPr>
          </a:p>
        </p:txBody>
      </p:sp>
      <p:sp>
        <p:nvSpPr>
          <p:cNvPr id="306" name=""/>
          <p:cNvSpPr txBox="1"/>
          <p:nvPr/>
        </p:nvSpPr>
        <p:spPr>
          <a:xfrm>
            <a:off x="457200" y="2120400"/>
            <a:ext cx="8229600" cy="45262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rovocando a perda de propriedade de outra pessoa por:</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Inserção</a:t>
            </a:r>
            <a:r>
              <a:rPr b="0" lang="en-US" sz="2400" spc="-1" strike="noStrike">
                <a:solidFill>
                  <a:srgbClr val="000000"/>
                </a:solidFill>
                <a:latin typeface="Calibri"/>
                <a:ea typeface="Times New Roman"/>
              </a:rPr>
              <a:t> de dados corretos ou incorret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Alteração</a:t>
            </a:r>
            <a:r>
              <a:rPr b="0" lang="en-US" sz="2400" spc="-1" strike="noStrike">
                <a:solidFill>
                  <a:srgbClr val="000000"/>
                </a:solidFill>
                <a:latin typeface="Calibri"/>
                <a:ea typeface="Times New Roman"/>
              </a:rPr>
              <a:t> subsequente (modificações, variações, alterações parciai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Eliminação</a:t>
            </a:r>
            <a:r>
              <a:rPr b="0" lang="en-US" sz="2400" spc="-1" strike="noStrike">
                <a:solidFill>
                  <a:srgbClr val="000000"/>
                </a:solidFill>
                <a:latin typeface="Calibri"/>
                <a:ea typeface="Times New Roman"/>
              </a:rPr>
              <a:t> (remoção de dados de um meio de dad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Supressão</a:t>
            </a:r>
            <a:r>
              <a:rPr b="0" lang="en-US" sz="2400" spc="-1" strike="noStrike">
                <a:solidFill>
                  <a:srgbClr val="000000"/>
                </a:solidFill>
                <a:latin typeface="Calibri"/>
                <a:ea typeface="Times New Roman"/>
              </a:rPr>
              <a:t> (retenção, ocultação de dad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Interferência </a:t>
            </a:r>
            <a:r>
              <a:rPr b="0" lang="en-US" sz="2400" spc="-1" strike="noStrike">
                <a:solidFill>
                  <a:srgbClr val="000000"/>
                </a:solidFill>
                <a:latin typeface="Calibri"/>
                <a:ea typeface="Times New Roman"/>
              </a:rPr>
              <a:t>(com funcionamento de um computador)</a:t>
            </a:r>
            <a:endParaRPr b="0" lang="en-US" sz="2400" spc="-1" strike="noStrike">
              <a:solidFill>
                <a:srgbClr val="000000"/>
              </a:solidFill>
              <a:latin typeface="Calibri"/>
            </a:endParaRPr>
          </a:p>
        </p:txBody>
      </p:sp>
      <p:sp>
        <p:nvSpPr>
          <p:cNvPr id="3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9B3D9C4-E5B9-42DF-A2AB-D21910FF61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8 – Fraude informática</a:t>
            </a:r>
            <a:endParaRPr b="0" lang="en-US" sz="40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causa de uma</a:t>
            </a:r>
            <a:r>
              <a:rPr b="0" lang="en-US" sz="2800" spc="-1" strike="noStrike">
                <a:solidFill>
                  <a:srgbClr val="ff0000"/>
                </a:solidFill>
                <a:latin typeface="Calibri"/>
                <a:ea typeface="Times New Roman"/>
              </a:rPr>
              <a:t> </a:t>
            </a:r>
            <a:r>
              <a:rPr b="1" lang="en-US" sz="2800" spc="-1" strike="noStrike">
                <a:solidFill>
                  <a:srgbClr val="ff0000"/>
                </a:solidFill>
                <a:latin typeface="Calibri"/>
                <a:ea typeface="Times New Roman"/>
              </a:rPr>
              <a:t>perda de propriedade </a:t>
            </a:r>
            <a:r>
              <a:rPr b="0" lang="en-US" sz="2800" spc="-1" strike="noStrike">
                <a:solidFill>
                  <a:srgbClr val="000000"/>
                </a:solidFill>
                <a:latin typeface="Calibri"/>
                <a:ea typeface="Times New Roman"/>
              </a:rPr>
              <a:t>para</a:t>
            </a:r>
            <a:r>
              <a:rPr b="1"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outra por:</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qualquer inserção, alteração, eliminação ou supressão de dados informáticos,</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b) qualquer interferência com o funcionamento de um computador ou sistem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Times New Roman"/>
              </a:rPr>
              <a:t>intenção de obter, sem direito, um benefício económico para si ou para outro</a:t>
            </a:r>
            <a:r>
              <a:rPr b="1" lang="en-US" sz="2800" spc="-1" strike="noStrike">
                <a:solidFill>
                  <a:srgbClr val="ff0000"/>
                </a:solidFill>
                <a:latin typeface="Calibri"/>
              </a:rPr>
              <a:t> </a:t>
            </a:r>
            <a:endParaRPr b="0" lang="en-US" sz="2800" spc="-1" strike="noStrike">
              <a:solidFill>
                <a:srgbClr val="000000"/>
              </a:solidFill>
              <a:latin typeface="Calibri"/>
            </a:endParaRPr>
          </a:p>
        </p:txBody>
      </p:sp>
      <p:sp>
        <p:nvSpPr>
          <p:cNvPr id="3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DD365DB-9EF3-4B16-85B4-9BE43212C0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da de propriedade</a:t>
            </a:r>
            <a:endParaRPr b="0" lang="en-US" sz="4400" spc="-1" strike="noStrike">
              <a:solidFill>
                <a:srgbClr val="000000"/>
              </a:solidFill>
              <a:latin typeface="Calibri"/>
            </a:endParaRPr>
          </a:p>
        </p:txBody>
      </p:sp>
      <p:sp>
        <p:nvSpPr>
          <p:cNvPr id="312" name=""/>
          <p:cNvSpPr txBox="1"/>
          <p:nvPr/>
        </p:nvSpPr>
        <p:spPr>
          <a:xfrm>
            <a:off x="457200" y="1671120"/>
            <a:ext cx="8229600" cy="4526280"/>
          </a:xfrm>
          <a:prstGeom prst="rect">
            <a:avLst/>
          </a:prstGeom>
          <a:noFill/>
          <a:ln w="0">
            <a:noFill/>
          </a:ln>
        </p:spPr>
        <p:txBody>
          <a:bodyPr anchor="t">
            <a:normAutofit fontScale="98000"/>
          </a:bodyPr>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ação deve produzir perda económica ou possessória direta da propriedade de outra pessoa</a:t>
            </a:r>
            <a:endParaRPr b="0" lang="en-US" sz="3000" spc="-1" strike="noStrike">
              <a:solidFill>
                <a:srgbClr val="000000"/>
              </a:solidFill>
              <a:latin typeface="Calibri"/>
            </a:endParaRPr>
          </a:p>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lui a perda de:</a:t>
            </a:r>
            <a:endParaRPr b="0" lang="en-US" sz="30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nheir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ngívei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angíveis com valor económico</a:t>
            </a:r>
            <a:endParaRPr b="0" lang="en-US" sz="2800" spc="-1" strike="noStrike">
              <a:solidFill>
                <a:srgbClr val="000000"/>
              </a:solidFill>
              <a:latin typeface="Calibri"/>
            </a:endParaRPr>
          </a:p>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 ato também deve ser cometido pelo autor do crime com a intenção de obter ganhos ilegais para si ou para outra pessoa.</a:t>
            </a:r>
            <a:endParaRPr b="0" lang="en-US" sz="3000" spc="-1" strike="noStrike">
              <a:solidFill>
                <a:srgbClr val="000000"/>
              </a:solidFill>
              <a:latin typeface="Calibri"/>
            </a:endParaRPr>
          </a:p>
        </p:txBody>
      </p:sp>
      <p:sp>
        <p:nvSpPr>
          <p:cNvPr id="3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F8AA4B4-E09A-4BE3-A3DE-7BFD8648CC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frações relacionadas com conteúdo</a:t>
            </a: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3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5C5013-1DBA-4FFC-B28F-44F97EDDB3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42800" y="463320"/>
            <a:ext cx="8367840" cy="3066840"/>
          </a:xfrm>
          <a:prstGeom prst="rect">
            <a:avLst/>
          </a:prstGeom>
          <a:noFill/>
          <a:ln w="38160">
            <a:solidFill>
              <a:srgbClr val="ff0000"/>
            </a:solidFill>
            <a:miter/>
          </a:ln>
        </p:spPr>
        <p:txBody>
          <a:bodyPr anchor="t">
            <a:normAutofit fontScale="50000"/>
          </a:bodyPr>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Pornografia Infantil</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Artigo 9 – Convenção de Budapeste)</a:t>
            </a:r>
            <a:endParaRPr b="0" lang="en-US" sz="3200" spc="-1" strike="noStrike">
              <a:solidFill>
                <a:srgbClr val="000000"/>
              </a:solidFill>
              <a:latin typeface="Calibri"/>
            </a:endParaRPr>
          </a:p>
          <a:p>
            <a:pPr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Grande inovação </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Criminalização de atos de pornografia infantil, cometidos por meio de um sistema informático</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Aspetos importantes: </a:t>
            </a:r>
            <a:endParaRPr b="0" lang="en-US" sz="2800" spc="-1" strike="noStrike">
              <a:solidFill>
                <a:srgbClr val="000000"/>
              </a:solidFill>
              <a:latin typeface="Calibri"/>
            </a:endParaRPr>
          </a:p>
          <a:p>
            <a:pPr lvl="1" marL="371520" indent="-14292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Criminalização de "pseudo imagens";</a:t>
            </a:r>
            <a:endParaRPr b="0" lang="en-US" sz="2400" spc="-1" strike="noStrike">
              <a:solidFill>
                <a:srgbClr val="000000"/>
              </a:solidFill>
              <a:latin typeface="Calibri"/>
            </a:endParaRPr>
          </a:p>
          <a:p>
            <a:pPr lvl="1" marL="371520" indent="-14292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Punição da mera posse de material de pornografia infantil </a:t>
            </a:r>
            <a:endParaRPr b="0" lang="en-US" sz="24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Não abrangido por muitas das legislações</a:t>
            </a:r>
            <a:endParaRPr b="0" lang="en-US" sz="20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Abordagem muito comum de todos os fóruns internacionais (por exemplo, ONU)</a:t>
            </a:r>
            <a:endParaRPr b="0" lang="en-US" sz="20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União Europeia </a:t>
            </a:r>
            <a:endParaRPr b="0" lang="en-US" sz="2000" spc="-1" strike="noStrike">
              <a:solidFill>
                <a:srgbClr val="000000"/>
              </a:solidFill>
              <a:latin typeface="Calibri"/>
            </a:endParaRPr>
          </a:p>
          <a:p>
            <a:pPr lvl="3" marL="799920" indent="-11412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Calibri"/>
              </a:rPr>
              <a:t>Dá conta da mera posse de materiais de pornografia infantil</a:t>
            </a:r>
            <a:endParaRPr b="0" lang="en-US" sz="1600" spc="-1" strike="noStrike">
              <a:solidFill>
                <a:srgbClr val="000000"/>
              </a:solidFill>
              <a:latin typeface="Calibri"/>
            </a:endParaRPr>
          </a:p>
          <a:p>
            <a:pPr lvl="3" marL="799920" indent="-11412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Calibri"/>
              </a:rPr>
              <a:t>Diretiva 2011/92/UE do Parlamento Europeu e do Conselho</a:t>
            </a:r>
            <a:endParaRPr b="0" lang="en-US" sz="1600" spc="-1" strike="noStrike">
              <a:solidFill>
                <a:srgbClr val="000000"/>
              </a:solidFill>
              <a:latin typeface="Calibri"/>
            </a:endParaRPr>
          </a:p>
        </p:txBody>
      </p:sp>
      <p:sp>
        <p:nvSpPr>
          <p:cNvPr id="3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77625-6397-45F6-9167-96E52CB72B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19" name="PlaceHolder 2"/>
          <p:cNvSpPr>
            <a:spLocks noGrp="1"/>
          </p:cNvSpPr>
          <p:nvPr>
            <p:ph/>
          </p:nvPr>
        </p:nvSpPr>
        <p:spPr>
          <a:xfrm>
            <a:off x="457200" y="1643040"/>
            <a:ext cx="8229600" cy="43783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seguinte conduta:</a:t>
            </a:r>
            <a:endParaRPr b="0" lang="en-US" sz="24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duzir pornografia infantil para fins de distribuição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oferecer ou disponibiliza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distribuir ou transmiti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dquirir pornografia infantil através de um sistema informático para si ou para outro;</a:t>
            </a:r>
            <a:endParaRPr b="0" lang="en-US" sz="2000" spc="-1" strike="noStrike">
              <a:solidFill>
                <a:srgbClr val="000000"/>
              </a:solidFill>
              <a:latin typeface="Calibri"/>
            </a:endParaRPr>
          </a:p>
          <a:p>
            <a:pPr lvl="1" marL="762840" indent="-406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ossuir um pornografia infantil num sistema informático ou num meio de armazenamento de dad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F23DFD-0C9C-40FF-8413-B56822E122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22" name="PlaceHolder 2"/>
          <p:cNvSpPr>
            <a:spLocks noGrp="1"/>
          </p:cNvSpPr>
          <p:nvPr>
            <p:ph/>
          </p:nvPr>
        </p:nvSpPr>
        <p:spPr>
          <a:xfrm>
            <a:off x="457200" y="1670040"/>
            <a:ext cx="8229600" cy="4525920"/>
          </a:xfrm>
          <a:prstGeom prst="rect">
            <a:avLst/>
          </a:prstGeom>
          <a:noFill/>
          <a:ln w="0">
            <a:noFill/>
          </a:ln>
        </p:spPr>
        <p:txBody>
          <a:bodyPr anchor="t">
            <a:normAutofit fontScale="92000"/>
          </a:bodyPr>
          <a:p>
            <a:pPr marL="420480" indent="-420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1 acima, "pornografia infantil" incluirá material pornográfico que represente visualmente:</a:t>
            </a:r>
            <a:endParaRPr b="0" lang="en-US" sz="24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 menor envolvido em conduta sexualmente explícita;</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a pessoa que parece ser menor envolvida em conduta sexualmente explícita;</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magens realistas a representar um menor envolvido em conduta sexualmente explícita.</a:t>
            </a:r>
            <a:endParaRPr b="0" lang="en-US" sz="2000" spc="-1" strike="noStrike">
              <a:solidFill>
                <a:srgbClr val="000000"/>
              </a:solidFill>
              <a:latin typeface="Calibri"/>
            </a:endParaRPr>
          </a:p>
          <a:p>
            <a:pPr marL="420480" indent="-420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2 acima, o termo "menor" deverá incluir todas as pessoas menores de 18 anos de idade. Uma Parte pode, no entanto, exigir um limite de idade inferior, que não deve ser inferior a 16 anos.</a:t>
            </a:r>
            <a:endParaRPr b="0" lang="en-US" sz="2400" spc="-1" strike="noStrike">
              <a:solidFill>
                <a:srgbClr val="000000"/>
              </a:solidFill>
              <a:latin typeface="Calibri"/>
            </a:endParaRPr>
          </a:p>
          <a:p>
            <a:pPr marL="420480" indent="-420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pode reservar-se o direito de não aplicar, no todo ou em parte, o parágrafo 1 (d) e 1 (e), e 2 (b) e 2 (c).</a:t>
            </a:r>
            <a:endParaRPr b="0" lang="en-US" sz="2400" spc="-1" strike="noStrike">
              <a:solidFill>
                <a:srgbClr val="000000"/>
              </a:solidFill>
              <a:latin typeface="Calibri"/>
            </a:endParaRPr>
          </a:p>
        </p:txBody>
      </p:sp>
      <p:sp>
        <p:nvSpPr>
          <p:cNvPr id="3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7878B-B443-41B1-9238-8769B876C0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79" name="PlaceHolder 2"/>
          <p:cNvSpPr>
            <a:spLocks noGrp="1"/>
          </p:cNvSpPr>
          <p:nvPr>
            <p:ph/>
          </p:nvPr>
        </p:nvSpPr>
        <p:spPr>
          <a:xfrm>
            <a:off x="457200" y="1810800"/>
            <a:ext cx="8229600" cy="391500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cesso ao todo ou a qualquer parte de um sistema informático sem direito.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2800" spc="-1" strike="noStrike">
              <a:solidFill>
                <a:srgbClr val="000000"/>
              </a:solidFill>
              <a:latin typeface="Calibri"/>
            </a:endParaRPr>
          </a:p>
        </p:txBody>
      </p:sp>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D99771-DA26-46BE-8D87-FDD16F9623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CF7B54A-D9FE-47AA-892A-09B398023A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a:t>
            </a:r>
            <a:r>
              <a:rPr b="1" lang="en-US" sz="2800" spc="-1" strike="noStrike">
                <a:solidFill>
                  <a:srgbClr val="ff0000"/>
                </a:solidFill>
                <a:latin typeface="Calibri"/>
                <a:ea typeface="Times New Roman"/>
              </a:rPr>
              <a:t>sem direito</a:t>
            </a:r>
            <a:r>
              <a:rPr b="0" lang="en-US" sz="2400" spc="-1" strike="noStrike">
                <a:solidFill>
                  <a:srgbClr val="000000"/>
                </a:solidFill>
                <a:latin typeface="Calibri"/>
                <a:ea typeface="Times New Roman"/>
              </a:rPr>
              <a:t> a seguinte conduta:</a:t>
            </a:r>
            <a:endParaRPr b="0" lang="en-US" sz="24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duzir pornografia infantil para fins de distribuição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oferecer ou disponibiliza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distribuir ou transmiti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dquirir pornografia infantil através de um sistema informático para si ou para outro;</a:t>
            </a:r>
            <a:endParaRPr b="0" lang="en-US" sz="2000" spc="-1" strike="noStrike">
              <a:solidFill>
                <a:srgbClr val="000000"/>
              </a:solidFill>
              <a:latin typeface="Calibri"/>
            </a:endParaRPr>
          </a:p>
          <a:p>
            <a:pPr lvl="1" marL="762840" indent="-406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ossuir um pornografia infantil num sistema informático ou num meio de armazenamento de dad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m direito</a:t>
            </a:r>
            <a:endParaRPr b="0" lang="en-US" sz="4400" spc="-1" strike="noStrike">
              <a:solidFill>
                <a:srgbClr val="000000"/>
              </a:solidFill>
              <a:latin typeface="Calibri"/>
            </a:endParaRPr>
          </a:p>
        </p:txBody>
      </p:sp>
      <p:sp>
        <p:nvSpPr>
          <p:cNvPr id="328" name=""/>
          <p:cNvSpPr txBox="1"/>
          <p:nvPr/>
        </p:nvSpPr>
        <p:spPr>
          <a:xfrm>
            <a:off x="457200" y="1657440"/>
            <a:ext cx="8229600" cy="4525920"/>
          </a:xfrm>
          <a:prstGeom prst="rect">
            <a:avLst/>
          </a:prstGeom>
          <a:noFill/>
          <a:ln w="0">
            <a:noFill/>
          </a:ln>
        </p:spPr>
        <p:txBody>
          <a:bodyPr anchor="t">
            <a:normAutofit fontScale="94000"/>
          </a:bodyPr>
          <a:p>
            <a:pPr marL="322200" indent="-3222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ermite que a parte tenha em conta os direitos fundamentais, incluindo:</a:t>
            </a:r>
            <a:endParaRPr b="0" lang="en-US" sz="30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berdade de expressão</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berdade de pensamento</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ireito à privacidade</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22200" indent="-3222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Parte pode permitir a defesa em relação a conduta relacionada com "material pornográfico" com mérito artístico, médico, científico ou semelhante</a:t>
            </a:r>
            <a:endParaRPr b="0" lang="en-US" sz="3000" spc="-1" strike="noStrike">
              <a:solidFill>
                <a:srgbClr val="000000"/>
              </a:solidFill>
              <a:latin typeface="Calibri"/>
            </a:endParaRPr>
          </a:p>
        </p:txBody>
      </p:sp>
      <p:sp>
        <p:nvSpPr>
          <p:cNvPr id="3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C65DF02-95FF-45D3-A75B-17EDAB3B2E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C2895E0-BE74-4DEC-BC05-955E71B98C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2" name=""/>
          <p:cNvSpPr txBox="1"/>
          <p:nvPr/>
        </p:nvSpPr>
        <p:spPr>
          <a:xfrm>
            <a:off x="457200" y="1600200"/>
            <a:ext cx="8229600" cy="45259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seguinte conduta:</a:t>
            </a:r>
            <a:endParaRPr b="0" lang="en-US" sz="2400" spc="-1" strike="noStrike">
              <a:solidFill>
                <a:srgbClr val="000000"/>
              </a:solidFill>
              <a:latin typeface="Calibri"/>
            </a:endParaRPr>
          </a:p>
          <a:p>
            <a:pPr lvl="1" marL="762840" indent="-4068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produzir</a:t>
            </a:r>
            <a:r>
              <a:rPr b="0" lang="en-US" sz="2400" spc="-1" strike="noStrike">
                <a:solidFill>
                  <a:srgbClr val="000000"/>
                </a:solidFill>
                <a:latin typeface="Calibri"/>
                <a:ea typeface="Times New Roman"/>
              </a:rPr>
              <a:t> </a:t>
            </a:r>
            <a:r>
              <a:rPr b="0" lang="en-US" sz="2000" spc="-1" strike="noStrike">
                <a:solidFill>
                  <a:srgbClr val="000000"/>
                </a:solidFill>
                <a:latin typeface="Calibri"/>
                <a:ea typeface="Times New Roman"/>
              </a:rPr>
              <a:t> pornografia infantil para fins de distribuição através de um sistema informático;</a:t>
            </a:r>
            <a:endParaRPr b="0" lang="en-US" sz="2000" spc="-1" strike="noStrike">
              <a:solidFill>
                <a:srgbClr val="000000"/>
              </a:solidFill>
              <a:latin typeface="Calibri"/>
            </a:endParaRPr>
          </a:p>
          <a:p>
            <a:pPr lvl="1" marL="762840" indent="-4068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oferecer</a:t>
            </a:r>
            <a:r>
              <a:rPr b="0" lang="en-US" sz="2400" spc="-1" strike="noStrike">
                <a:solidFill>
                  <a:srgbClr val="000000"/>
                </a:solidFill>
                <a:latin typeface="Calibri"/>
                <a:ea typeface="Times New Roman"/>
              </a:rPr>
              <a:t> </a:t>
            </a:r>
            <a:r>
              <a:rPr b="0" lang="en-US" sz="2000" spc="-1" strike="noStrike">
                <a:solidFill>
                  <a:srgbClr val="000000"/>
                </a:solidFill>
                <a:latin typeface="Calibri"/>
                <a:ea typeface="Times New Roman"/>
              </a:rPr>
              <a:t> ou </a:t>
            </a:r>
            <a:r>
              <a:rPr b="1" lang="en-US" sz="2400" spc="-1" strike="noStrike">
                <a:solidFill>
                  <a:srgbClr val="ff0000"/>
                </a:solidFill>
                <a:latin typeface="Calibri"/>
                <a:ea typeface="Times New Roman"/>
              </a:rPr>
              <a:t>disponibilizar</a:t>
            </a:r>
            <a:r>
              <a:rPr b="0" lang="en-US" sz="2000" spc="-1" strike="noStrike">
                <a:solidFill>
                  <a:srgbClr val="000000"/>
                </a:solidFill>
                <a:latin typeface="Calibri"/>
                <a:ea typeface="Times New Roman"/>
              </a:rPr>
              <a:t>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distribuir ou transmiti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dquirir pornografia infantil através de um sistema informático para si ou para outro;</a:t>
            </a:r>
            <a:endParaRPr b="0" lang="en-US" sz="2000" spc="-1" strike="noStrike">
              <a:solidFill>
                <a:srgbClr val="000000"/>
              </a:solidFill>
              <a:latin typeface="Calibri"/>
            </a:endParaRPr>
          </a:p>
          <a:p>
            <a:pPr lvl="1" marL="762840" indent="-406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ossuir um pornografia infantil num sistema informático ou num meio de armazenamento de dad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duzir, oferecer e disponibilizar</a:t>
            </a:r>
            <a:endParaRPr b="0" lang="en-US" sz="4400" spc="-1" strike="noStrike">
              <a:solidFill>
                <a:srgbClr val="000000"/>
              </a:solidFill>
              <a:latin typeface="Calibri"/>
            </a:endParaRPr>
          </a:p>
        </p:txBody>
      </p:sp>
      <p:sp>
        <p:nvSpPr>
          <p:cNvPr id="334" name=""/>
          <p:cNvSpPr txBox="1"/>
          <p:nvPr/>
        </p:nvSpPr>
        <p:spPr>
          <a:xfrm>
            <a:off x="457200" y="186840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sequências criminais associadas a cada participante na cadeia desde a produção até à posse de pornografia infantil</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a:</a:t>
            </a:r>
            <a:endParaRPr b="0" lang="en-US" sz="28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produção de pornografia infantil (com a finalidade de distribuição por meio de sistema informático)</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erecer pornografia infantil (solicitando a terceiros para obter pornografia infantil)</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ponibilizar pornografia infantil (colocação de pornografia infantil online para uso de terceiros, incluindo sites de pornografia infantil)</a:t>
            </a:r>
            <a:endParaRPr b="0" lang="en-US" sz="2400" spc="-1" strike="noStrike">
              <a:solidFill>
                <a:srgbClr val="000000"/>
              </a:solidFill>
              <a:latin typeface="Calibri"/>
            </a:endParaRPr>
          </a:p>
        </p:txBody>
      </p:sp>
      <p:sp>
        <p:nvSpPr>
          <p:cNvPr id="3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9B25866-A546-4EC5-A083-313E6625E0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A6C0162-35C2-4508-8F02-3FAA7CCAAF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8" name=""/>
          <p:cNvSpPr txBox="1"/>
          <p:nvPr/>
        </p:nvSpPr>
        <p:spPr>
          <a:xfrm>
            <a:off x="457200" y="1515960"/>
            <a:ext cx="8229600" cy="4525920"/>
          </a:xfrm>
          <a:prstGeom prst="rect">
            <a:avLst/>
          </a:prstGeom>
          <a:noFill/>
          <a:ln w="0">
            <a:noFill/>
          </a:ln>
        </p:spPr>
        <p:txBody>
          <a:bodyPr anchor="t">
            <a:normAutofit fontScale="87000"/>
          </a:bodyPr>
          <a:p>
            <a:pPr marL="397440" indent="-39744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a:t>
            </a:r>
            <a:r>
              <a:rPr b="1" lang="en-US" sz="2800" spc="-1" strike="noStrike">
                <a:solidFill>
                  <a:srgbClr val="ff0000"/>
                </a:solidFill>
                <a:latin typeface="Calibri"/>
                <a:ea typeface="Times New Roman"/>
              </a:rPr>
              <a:t> </a:t>
            </a:r>
            <a:r>
              <a:rPr b="0" lang="en-US" sz="2400" spc="-1" strike="noStrike">
                <a:solidFill>
                  <a:srgbClr val="000000"/>
                </a:solidFill>
                <a:latin typeface="Calibri"/>
                <a:ea typeface="Times New Roman"/>
              </a:rPr>
              <a:t>a seguinte conduta:</a:t>
            </a:r>
            <a:endParaRPr b="0" lang="en-US" sz="24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duzir pornografia infantil para fins de distribuição através de um sistema informático;</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oferecer ou disponibilizar pornografia infantil através de um sistema informático;</a:t>
            </a:r>
            <a:endParaRPr b="0" lang="en-US" sz="2000" spc="-1" strike="noStrike">
              <a:solidFill>
                <a:srgbClr val="000000"/>
              </a:solidFill>
              <a:latin typeface="Calibri"/>
            </a:endParaRPr>
          </a:p>
          <a:p>
            <a:pPr lvl="1" marL="745560" indent="-39744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distribuir</a:t>
            </a:r>
            <a:r>
              <a:rPr b="0" lang="en-US" sz="2400" spc="-1" strike="noStrike">
                <a:solidFill>
                  <a:srgbClr val="000000"/>
                </a:solidFill>
                <a:latin typeface="Calibri"/>
                <a:ea typeface="Times New Roman"/>
              </a:rPr>
              <a:t> </a:t>
            </a:r>
            <a:r>
              <a:rPr b="0" lang="en-US" sz="2000" spc="-1" strike="noStrike">
                <a:solidFill>
                  <a:srgbClr val="000000"/>
                </a:solidFill>
                <a:latin typeface="Calibri"/>
                <a:ea typeface="Times New Roman"/>
              </a:rPr>
              <a:t>ou</a:t>
            </a:r>
            <a:r>
              <a:rPr b="0" lang="en-US" sz="2400" spc="-1" strike="noStrike">
                <a:solidFill>
                  <a:srgbClr val="000000"/>
                </a:solidFill>
                <a:latin typeface="Calibri"/>
                <a:ea typeface="Times New Roman"/>
              </a:rPr>
              <a:t> </a:t>
            </a:r>
            <a:r>
              <a:rPr b="1" lang="en-US" sz="2400" spc="-1" strike="noStrike">
                <a:solidFill>
                  <a:srgbClr val="ff0000"/>
                </a:solidFill>
                <a:latin typeface="Calibri"/>
                <a:ea typeface="Times New Roman"/>
              </a:rPr>
              <a:t>transmitir</a:t>
            </a:r>
            <a:r>
              <a:rPr b="0" lang="en-US" sz="2400" spc="-1" strike="noStrike">
                <a:solidFill>
                  <a:srgbClr val="000000"/>
                </a:solidFill>
                <a:latin typeface="Calibri"/>
                <a:ea typeface="Times New Roman"/>
              </a:rPr>
              <a:t> </a:t>
            </a:r>
            <a:r>
              <a:rPr b="0" lang="en-US" sz="2000" spc="-1" strike="noStrike">
                <a:solidFill>
                  <a:srgbClr val="000000"/>
                </a:solidFill>
                <a:latin typeface="Calibri"/>
                <a:ea typeface="Times New Roman"/>
              </a:rPr>
              <a:t>pornografia infantil através de um sistema informático;</a:t>
            </a:r>
            <a:endParaRPr b="0" lang="en-US" sz="2000" spc="-1" strike="noStrike">
              <a:solidFill>
                <a:srgbClr val="000000"/>
              </a:solidFill>
              <a:latin typeface="Calibri"/>
            </a:endParaRPr>
          </a:p>
          <a:p>
            <a:pPr lvl="1" marL="745560" indent="-39744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adquirir</a:t>
            </a:r>
            <a:r>
              <a:rPr b="0" lang="en-US" sz="2400" spc="-1" strike="noStrike">
                <a:solidFill>
                  <a:srgbClr val="ff0000"/>
                </a:solidFill>
                <a:latin typeface="Calibri"/>
                <a:ea typeface="Times New Roman"/>
              </a:rPr>
              <a:t> </a:t>
            </a:r>
            <a:r>
              <a:rPr b="0" lang="en-US" sz="2000" spc="-1" strike="noStrike">
                <a:solidFill>
                  <a:srgbClr val="000000"/>
                </a:solidFill>
                <a:latin typeface="Calibri"/>
                <a:ea typeface="Times New Roman"/>
              </a:rPr>
              <a:t>pornografia infantil através de um sistema informático para si ou para outro;</a:t>
            </a:r>
            <a:endParaRPr b="0" lang="en-US" sz="2000" spc="-1" strike="noStrike">
              <a:solidFill>
                <a:srgbClr val="000000"/>
              </a:solidFill>
              <a:latin typeface="Calibri"/>
            </a:endParaRPr>
          </a:p>
          <a:p>
            <a:pPr lvl="1" marL="745560" indent="-39744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possuir</a:t>
            </a:r>
            <a:r>
              <a:rPr b="0" lang="en-US" sz="2400" spc="-1" strike="noStrike">
                <a:solidFill>
                  <a:srgbClr val="ff0000"/>
                </a:solidFill>
                <a:latin typeface="Calibri"/>
                <a:ea typeface="Times New Roman"/>
              </a:rPr>
              <a:t> </a:t>
            </a:r>
            <a:r>
              <a:rPr b="0" lang="en-US" sz="2000" spc="-1" strike="noStrike">
                <a:solidFill>
                  <a:srgbClr val="000000"/>
                </a:solidFill>
                <a:latin typeface="Calibri"/>
                <a:ea typeface="Times New Roman"/>
              </a:rPr>
              <a:t>pornografia infantil num sistema informático ou num meio de armazenamento de dad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stribuir, transmitir, adquirir e possuir</a:t>
            </a:r>
            <a:endParaRPr b="0" lang="en-US" sz="4400" spc="-1" strike="noStrike">
              <a:solidFill>
                <a:srgbClr val="000000"/>
              </a:solidFill>
              <a:latin typeface="Calibri"/>
            </a:endParaRPr>
          </a:p>
        </p:txBody>
      </p:sp>
      <p:sp>
        <p:nvSpPr>
          <p:cNvPr id="340"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a:</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ição de pornografia infantil (divulgação ativa de pornografia infantil)</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missão de pornografia infantil (envio de pornografia infantil através do sistema informático)</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quisição de pornografia infantil para si ou para outra pessoa (obter pornografia infantil ativamente, inclusive fazendo o downloa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se de pornografia infantil (posse em sistema informático ou portador de dados)</a:t>
            </a:r>
            <a:endParaRPr b="0" lang="en-US" sz="2400" spc="-1" strike="noStrike">
              <a:solidFill>
                <a:srgbClr val="000000"/>
              </a:solidFill>
              <a:latin typeface="Calibri"/>
            </a:endParaRPr>
          </a:p>
        </p:txBody>
      </p:sp>
      <p:sp>
        <p:nvSpPr>
          <p:cNvPr id="3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B28323E-F8D3-4EB9-9DD0-BD3528204D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8A51B68-56C3-4CC5-8DDC-349C1D663E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4" name=""/>
          <p:cNvSpPr txBox="1"/>
          <p:nvPr/>
        </p:nvSpPr>
        <p:spPr>
          <a:xfrm>
            <a:off x="288720" y="1754280"/>
            <a:ext cx="860076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 os fins do parágrafo 1 acima, "pornografia infantil" incluirá </a:t>
            </a:r>
            <a:r>
              <a:rPr b="1" lang="en-US" sz="2800" spc="-1" strike="noStrike">
                <a:solidFill>
                  <a:srgbClr val="ff0000"/>
                </a:solidFill>
                <a:latin typeface="Calibri"/>
              </a:rPr>
              <a:t>material pornográfico que represente visualmente</a:t>
            </a:r>
            <a:r>
              <a:rPr b="0" lang="en-US" sz="2000" spc="-1" strike="noStrike">
                <a:solidFill>
                  <a:srgbClr val="000000"/>
                </a:solidFill>
                <a:latin typeface="Calibri"/>
              </a:rPr>
              <a:t>:</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m menor envolvido em conduta sexualmente explícita;</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ma pessoa que parece ser menor envolvida em conduta sexualmente explícita;</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agens realistas a representar um menor envolvido em conduta sexualmente explícita.</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 os fins do parágrafo 2 acima, o termo "menor" deverá incluir todas as pessoas menores de 18 anos de idade. Uma Parte pode, no entanto, exigir um limite de idade inferior, que não deve ser inferior a 16 an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ada Parte pode reservar-se o direito de não aplicar, no todo ou em parte, o parágrafo 1 (d) e 1 (e), e 2 (b) e 2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aterial pornográfico </a:t>
            </a:r>
            <a:endParaRPr b="0" lang="en-US" sz="4400" spc="-1" strike="noStrike">
              <a:solidFill>
                <a:srgbClr val="000000"/>
              </a:solidFill>
              <a:latin typeface="Calibri"/>
            </a:endParaRPr>
          </a:p>
        </p:txBody>
      </p:sp>
      <p:sp>
        <p:nvSpPr>
          <p:cNvPr id="346" name=""/>
          <p:cNvSpPr txBox="1"/>
          <p:nvPr/>
        </p:nvSpPr>
        <p:spPr>
          <a:xfrm>
            <a:off x="279360" y="1739880"/>
            <a:ext cx="854712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gido pelas normas nacionais relativas à classificação de materiais como:</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scen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consistente com a moral pública; ou</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rrupto do mesmo modo</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teriais com mérito artístico, médico, científico ou semelhante não podem ser classificados como pornográficos</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representação visual inclui dados armazenados no sistema informático ou no meio de armazenamento que é capaz de converter em imagem visual</a:t>
            </a:r>
            <a:endParaRPr b="0" lang="en-US" sz="2800" spc="-1" strike="noStrike">
              <a:solidFill>
                <a:srgbClr val="000000"/>
              </a:solidFill>
              <a:latin typeface="Calibri"/>
            </a:endParaRPr>
          </a:p>
        </p:txBody>
      </p:sp>
      <p:sp>
        <p:nvSpPr>
          <p:cNvPr id="3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97A388E-8CEA-4807-8F85-369EA944F6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7F78570-BFDB-4A21-88BF-1022567E36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0" name=""/>
          <p:cNvSpPr txBox="1"/>
          <p:nvPr/>
        </p:nvSpPr>
        <p:spPr>
          <a:xfrm>
            <a:off x="457200" y="1614600"/>
            <a:ext cx="8229600" cy="4525920"/>
          </a:xfrm>
          <a:prstGeom prst="rect">
            <a:avLst/>
          </a:prstGeom>
          <a:noFill/>
          <a:ln w="0">
            <a:noFill/>
          </a:ln>
        </p:spPr>
        <p:txBody>
          <a:bodyPr anchor="t">
            <a:normAutofit fontScale="90000"/>
          </a:bodyPr>
          <a:p>
            <a:pPr marL="411480" indent="-411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1 acima, "pornografia infantil" incluirá material pornográfico que represente visualmente:</a:t>
            </a:r>
            <a:endParaRPr b="0" lang="en-US" sz="24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 menor envolvido em </a:t>
            </a:r>
            <a:r>
              <a:rPr b="1" lang="en-US" sz="2800" spc="-1" strike="noStrike">
                <a:solidFill>
                  <a:srgbClr val="ff0000"/>
                </a:solidFill>
                <a:latin typeface="Calibri"/>
              </a:rPr>
              <a:t>conduta sexualmente explícita</a:t>
            </a:r>
            <a:r>
              <a:rPr b="0" lang="en-US" sz="2000" spc="-1" strike="noStrike">
                <a:solidFill>
                  <a:srgbClr val="000000"/>
                </a:solidFill>
                <a:latin typeface="Calibri"/>
              </a:rPr>
              <a:t>;</a:t>
            </a:r>
            <a:endParaRPr b="0" lang="en-US" sz="20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a pessoa que parece ser menor envolvida em conduta sexualmente explícita;</a:t>
            </a:r>
            <a:endParaRPr b="0" lang="en-US" sz="20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magens realistas a representar um menor envolvido em conduta sexualmente explícita.</a:t>
            </a:r>
            <a:endParaRPr b="0" lang="en-US" sz="20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2 acima, o termo "menor" deverá incluir todas as pessoas menores de 18 anos de idade. Uma Parte pode, no entanto, exigir um limite de idade inferior, que não deve ser inferior a 16 anos.</a:t>
            </a:r>
            <a:endParaRPr b="0" lang="en-US" sz="24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pode reservar-se o direito de não aplicar, no todo ou em parte, o parágrafo 1 (d) e 1 (e), e 2 (b) e 2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uta sexualmente explícita</a:t>
            </a:r>
            <a:endParaRPr b="0" lang="en-US" sz="4400" spc="-1" strike="noStrike">
              <a:solidFill>
                <a:srgbClr val="000000"/>
              </a:solidFill>
              <a:latin typeface="Calibri"/>
            </a:endParaRPr>
          </a:p>
        </p:txBody>
      </p:sp>
      <p:sp>
        <p:nvSpPr>
          <p:cNvPr id="352" name=""/>
          <p:cNvSpPr txBox="1"/>
          <p:nvPr/>
        </p:nvSpPr>
        <p:spPr>
          <a:xfrm>
            <a:off x="279360" y="1558800"/>
            <a:ext cx="854712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bre pelo menos:</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lações sexuais, incluindo genitais-genitais, orais-genitais, anais-genitais ou orais-anal entre menores ou entre um adulto e um menor, do mesmo sexo ou do sexo opost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stialidade; </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sturbaçã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buso sádico ou masoquista na conduta sexual; ou</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xposição lasciva de genitais ou área púbica do menor.</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Parte pode utilizar uma definição mais ampla de conduta sexualmente explícita</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ão é relevante se a conduta é real ou simulada</a:t>
            </a:r>
            <a:endParaRPr b="0" lang="en-US" sz="2800" spc="-1" strike="noStrike">
              <a:solidFill>
                <a:srgbClr val="000000"/>
              </a:solidFill>
              <a:latin typeface="Calibri"/>
            </a:endParaRPr>
          </a:p>
        </p:txBody>
      </p:sp>
      <p:sp>
        <p:nvSpPr>
          <p:cNvPr id="3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F19DBC6-0308-45D8-BF13-2FB02A8FDA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w701</cp:lastModifiedBy>
  <dcterms:modified xsi:type="dcterms:W3CDTF">2018-09-06T17:27:30Z</dcterms:modified>
  <cp:revision>249</cp:revision>
  <dc:subject/>
  <dc:title>Introductory Cybercrime Training for Judges and Prosecutors</dc:title>
</cp:coreProperties>
</file>